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25D0-86BB-4D11-A270-3072C8293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9CF6-46D1-4464-98A0-E874532B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C498-41BB-466F-9383-66122A564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1964-D611-4F55-939D-828362817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E496-9D17-468B-934A-94428859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1A30-CAE1-4A32-BB75-13023B58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DAF8-0107-4995-BA63-1B12333E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859A-CC15-42AB-92A4-0A1E557B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FFAF-EC2B-47DB-B416-0A7138E2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1D01-100B-4287-983F-AFB22378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497F-038A-47C7-B578-B7529387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BFA2-2E23-4EE2-81B2-BF1BF951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AB2D-E6E0-40E3-9EB8-4E2EF29CE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82880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&lt;Tytuł prezentacji&gt;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3581280"/>
            <a:ext cx="8534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rowadząc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zięku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my okazj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asted-image.png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4190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5410080"/>
            <a:ext cx="8458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kreśl swoje roszczenie, na przykła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zeznaczenie 20 000 zł na projekt mający na celu udoskonalenie treści w zakresie obsługi klienta pozwoli na oszczędności i podwyższenie poziomu satysfakcji klient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lacz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981080"/>
            <a:ext cx="8229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uzasadnienie swojego roszczenia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% rozmów z konsultantami ds. wsparcia klienta dotyczy problemów, które klienci powinni rozwiązać za pomocą treści z pomocy dostępnej na stron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na 10 badanych klientów zgłosiło, iż nie byli w stanie znaleźć potrzebnej odpowiedzi w Internecie i zadzwonili na infolinię wsparcia klienta po pom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co z te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76520"/>
            <a:ext cx="822960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aj powody, dlaczego liderom powinno zależe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ź tokiem myślenia biznesmena: jak ucierpi na tym bilans, marka itd.? Przykł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Średnio płacimy 3 zł za rozmowę dotyczącą obsługi klienta, co daje 3 mln zł rocznie, przy czym minimum 50% rozmów to rozmowy z klientami, którzy mogliby rozwiązać problem korzystając z treści dostępnych w Internec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ostatnim kwartale 10 000 tweetów, w których pojawiła się nazwa naszej firmy, pochodziło od klientów narzekających na treści publikowane w materiałach wspar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 to nie wszystk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066680"/>
            <a:ext cx="822960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upełnij stwierdzenia „i co z tego?” o dodatkowe informacje, na przykł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nieje dwa razy większe prawdopodobieństwo stwierdzenia przez klientów dzwoniących na infolinię obsługi klienta po poszukiwaniu informacji w Internecie, iż są niezadowoleni z naszego poziomu obsługi kli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zmowy telefoniczne z konsultantami call center prowadzone przez osoby, które najpierw szukały rozwiązania problemu w Internecie, trwają o 30% dłużej niż rozmowy telefoniczne z innymi użytkownikam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% respondentów twierdzi, że wyrażało niezadowolenie w związku z materiałami na temat obsługi klienta w Internecie w rozmowie ze znajomymi, współpracownikami lub członkami rodziny w kontakcie bezpośrednim lub na portalach społecznościow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daj dodatkowe slajdy w razie konieczności. Zwizualizuj dane, jeśli jest to możliwe (użyj innego szablonu slajdó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914400"/>
            <a:ext cx="82296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aj przykład ze studium przypadku lub cytat z opinii eksperta jako uzasadnienie. (W razie konieczności dodaj slajdy.) Przykła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naszego badania przeprowadzonego w roku 2014 wynika, że nasza firma odróżniała się od konkurencji [na rynku firm z sektora technologicznego] głównie dzięki sekcj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wis i Wsparc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ego rodzaju treści są najważniejsze, jeśli chodzi o zapewnienie świetnej obsługi klienta, choć często bywają traktowane po macoszemu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k Barnes, dyrektor ds. badań, Gart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jest ryzyk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95280"/>
            <a:ext cx="449568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zedstaw najlepszy i najgorszy scenariusz na jednym lub więcej slajdów. Zwizualizuj i przedstaw konkretne dane liczbowe, na przykła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25% szans na to, że ulepszenie treści nie zaowocuje redukcją kosztów ani poprawą poziomu satysfakcji klienta, stracimy około 5000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ładając, iż istnieje 75% szans na to, że ulepszenie treści pozwoli zmniejszyć liczbę telefonów do call center o połowę, zaoszczędzimy 1 mln z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asted-image.png" descr=""/>
          <p:cNvPicPr/>
          <p:nvPr/>
        </p:nvPicPr>
        <p:blipFill>
          <a:blip r:embed="rId1"/>
          <a:stretch/>
        </p:blipFill>
        <p:spPr>
          <a:xfrm>
            <a:off x="4724280" y="1066680"/>
            <a:ext cx="41338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ie są wymagan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działań i kosztów. Przykład: tabela 2.1 na str. 17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aj przeglądu kamieni milowych i harmonogramu. Patrz str. 55 książk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arządzanie treścią. Strategie i narzędz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 dalej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2057400"/>
            <a:ext cx="73152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edstaw kolejne kroki w projekcie, w tym uzyskanie akceptacji na kontynuację pra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atkowe kolejne kroki mogą obejmować: przydzielenie zasobów, zatrudnienie wykonawcy lub konsultanta, przeprowadzenie rozmów z interesariuszami i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2T14:41:08Z</dcterms:created>
  <dc:creator>bszmatiuk</dc:creator>
  <dc:description/>
  <dc:language>en-US</dc:language>
  <cp:lastModifiedBy>bszmatiuk</cp:lastModifiedBy>
  <dcterms:modified xsi:type="dcterms:W3CDTF">2017-01-13T11:28:22Z</dcterms:modified>
  <cp:revision>8</cp:revision>
  <dc:subject/>
  <dc:title>Bez tytułu slajdu</dc:title>
</cp:coreProperties>
</file>