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B6977-87AE-4DBF-ADC1-C813AAFBD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A3CF3-46E8-4B13-856C-D8062E78D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78714-4CA9-4DBC-AE78-C57F46DD8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DC376-54D2-4B42-8EB7-B0B25323E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3E42B-D7B2-4E70-94E3-2BB21F1C4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0776D-9890-45F5-A4BD-C1609EEF0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55E16-E317-436D-919C-8EE820842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710B6-A78C-4663-8824-C56070996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43BAD-527B-4EDA-AD8C-9B7AEFD55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1A076-CB04-48A8-98E4-43DA38503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FF164-D973-43EB-B24E-E3780DCB4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5020E-323E-4C9D-9C59-2693D6205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62B29-3364-45FE-9AE9-1584641570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1828800"/>
            <a:ext cx="7391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&lt;Tytuł prezentacji&gt;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04920" y="3581280"/>
            <a:ext cx="85341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Dat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Prowadzący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371600" y="2209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ziękuję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419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my okazję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pasted-image.png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8382240" cy="41907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80880" y="5410080"/>
            <a:ext cx="84582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Określ swoje roszczenie, na przykła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Przeznaczenie 20 000 zł na projekt mający na celu udoskonalenie treści w zakresie obsługi klienta pozwoli na oszczędności i podwyższenie poziomu satysfakcji klienta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laczego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981080"/>
            <a:ext cx="82296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daj uzasadnienie swojego roszczenia, na przykład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4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0% rozmów z konsultantami ds. wsparcia klienta dotyczy problemów, które klienci powinni rozwiązać za pomocą treści z pomocy dostępnej na stroni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4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 na 10 badanych klientów zgłosiło, iż nie byli w stanie znaleźć potrzebnej odpowiedzi w Internecie i zadzwonili na infolinię wsparcia klienta po pomo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daj dodatkowe slajdy w razie konieczności. Zwizualizuj dane, jeśli jest to możliwe (użyj innego szablonu slajdów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 co z tego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1676520"/>
            <a:ext cx="8229600" cy="43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daj powody, dlaczego liderom powinno zależeć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ź tokiem myślenia biznesmena: jak ucierpi na tym bilans, marka itd.? Przykład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Średnio płacimy 3 zł za rozmowę dotyczącą obsługi klienta, co daje 3 mln zł rocznie, przy czym minimum 50% rozmów to rozmowy z klientami, którzy mogliby rozwiązać problem korzystając z treści dostępnych w Interneci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 ostatnim kwartale 10 000 tweetów, w których pojawiła się nazwa naszej firmy, pochodziło od klientów narzekających na treści publikowane w materiałach wsparci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daj dodatkowe slajdy w razie konieczności. Zwizualizuj dane, jeśli jest to możliwe (użyj innego szablonu slajdów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e to nie wszystk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1066680"/>
            <a:ext cx="8229600" cy="55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zupełnij stwierdzenia „i co z tego?” o dodatkowe informacje, na przykład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tnieje dwa razy większe prawdopodobieństwo stwierdzenia przez klientów dzwoniących na infolinię obsługi klienta po poszukiwaniu informacji w Internecie, iż są niezadowoleni z naszego poziomu obsługi klient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zmowy telefoniczne z konsultantami call center prowadzone przez osoby, które najpierw szukały rozwiązania problemu w Internecie, trwają o 30% dłużej niż rozmowy telefoniczne z innymi użytkownikami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0% respondentów twierdzi, że wyrażało niezadowolenie w związku z materiałami na temat obsługi klienta w Internecie w rozmowie ze znajomymi, współpracownikami lub członkami rodziny w kontakcie bezpośrednim lub na portalach społecznościowych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daj dodatkowe slajdy w razie konieczności. Zwizualizuj dane, jeśli jest to możliwe (użyj innego szablonu slajdów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8229600" cy="43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daj przykład ze studium przypadku lub cytat z opinii eksperta jako uzasadnienie. (W razie konieczności dodaj slajdy.) Przykła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 naszego badania przeprowadzonego w roku 2014 wynika, że nasza firma odróżniała się od konkurencji [na rynku firm z sektora technologicznego] głównie dzięki sekcji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erwis i Wsparci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Tego rodzaju treści są najważniejsze, jeśli chodzi o zapewnienie świetnej obsługi klienta, choć często bywają traktowane po macoszemu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nk Barnes, dyrektor ds. badań, Gart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kie jest ryzyko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4920" y="1295280"/>
            <a:ext cx="4495680" cy="42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zedstaw najlepszy i najgorszy scenariusz na jednym lub więcej slajdów. Zwizualizuj i przedstaw konkretne dane liczbowe, na przykład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akładając, iż istnieje 25% szans na to, że ulepszenie treści nie zaowocuje redukcją kosztów ani poprawą poziomu satysfakcji klienta, stracimy około 5000 zł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akładając, iż istnieje 75% szans na to, że ulepszenie treści pozwoli zmniejszyć liczbę telefonów do call center o połowę, zaoszczędzimy 1 mln zł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asted-image.png" descr=""/>
          <p:cNvPicPr/>
          <p:nvPr/>
        </p:nvPicPr>
        <p:blipFill>
          <a:blip r:embed="rId1"/>
          <a:stretch/>
        </p:blipFill>
        <p:spPr>
          <a:xfrm>
            <a:off x="4724280" y="1066680"/>
            <a:ext cx="413388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685800" y="5335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kie są wymagani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219320" y="2057400"/>
            <a:ext cx="7315200" cy="33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konaj przeglądu działań i kosztów. Przykład: tabela 2.1 na str. 17 książki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Zarządzanie treścią. Strategie i narzędzi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konaj przeglądu kamieni milowych i harmonogramu. Patrz str. 55 książki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Zarządzanie treścią. Strategie i narzędzi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5335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 dalej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219320" y="2057400"/>
            <a:ext cx="7315200" cy="33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zedstaw kolejne kroki w projekcie, w tym uzyskanie akceptacji na kontynuację pra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datkowe kolejne kroki mogą obejmować: przydzielenie zasobów, zatrudnienie wykonawcy lub konsultanta, przeprowadzenie rozmów z interesariuszami it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12T14:41:08Z</dcterms:created>
  <dc:creator>bszmatiuk</dc:creator>
  <dc:description/>
  <dc:language>en-US</dc:language>
  <cp:lastModifiedBy>bszmatiuk</cp:lastModifiedBy>
  <dcterms:modified xsi:type="dcterms:W3CDTF">2017-01-13T11:28:22Z</dcterms:modified>
  <cp:revision>8</cp:revision>
  <dc:subject/>
  <dc:title>Bez tytułu slajdu</dc:title>
</cp:coreProperties>
</file>