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2FBA-2CA2-4725-A209-5EADD0B8D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1697-1231-486B-B77E-29603A18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B91A-0DB3-431A-AEF1-D38C212C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52C7-347E-4F04-B008-A383E251F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CDBD-5279-4508-84E0-61DB28B5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2ACD-C922-4DF2-B41C-62165892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8B3D-9EC5-49D6-A7D8-9EF59841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B417-3DF7-486F-88C0-E7C1CAAA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43CE-C257-45B7-BFD4-8FF3CB07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BC06-EC49-46B2-BDD0-4F49201F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352D-3562-40B9-90A9-A12A5EBF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F5ED-83F7-4B56-B632-5A1F931F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D97A-FF71-4DDA-954B-0A6550D60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82880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&lt;Tytuł prezentacji&gt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581280"/>
            <a:ext cx="8534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rowadząc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zięku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my okaz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asted-image.png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4190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5410080"/>
            <a:ext cx="8458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kreśl swoje roszczenie, na przykła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zeznaczenie 20 000 zł na projekt mający na celu udoskonalenie treści w zakresie obsługi klienta pozwoli na oszczędności i podwyższenie poziomu satysfakcji klient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lacz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981080"/>
            <a:ext cx="8229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uzasadnienie swojego roszczenia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% rozmów z konsultantami ds. wsparcia klienta dotyczy problemów, które klienci powinni rozwiązać za pomocą treści z pomocy dostępnej na stron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na 10 badanych klientów zgłosiło, iż nie byli w stanie znaleźć potrzebnej odpowiedzi w Internecie i zadzwonili na infolinię wsparcia klienta po pom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co z t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76520"/>
            <a:ext cx="822960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powody, dlaczego liderom powinno zależe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ź tokiem myślenia biznesmena: jak ucierpi na tym bilans, marka itd.? Przykł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Średnio płacimy 3 zł za rozmowę dotyczącą obsługi klienta, co daje 3 mln zł rocznie, przy czym minimum 50% rozmów to rozmowy z klientami, którzy mogliby rozwiązać problem korzystając z treści dostępnych w Internec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ostatnim kwartale 10 000 tweetów, w których pojawiła się nazwa naszej firmy, pochodziło od klientów narzekających na treści publikowane w materiałach wspar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 to nie wszystk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066680"/>
            <a:ext cx="822960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upełnij stwierdzenia „i co z tego?” o dodatkowe informacje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nieje dwa razy większe prawdopodobieństwo stwierdzenia przez klientów dzwoniących na infolinię obsługi klienta po poszukiwaniu informacji w Internecie, iż są niezadowoleni z naszego poziomu obsługi kli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zmowy telefoniczne z konsultantami call center prowadzone przez osoby, które najpierw szukały rozwiązania problemu w Internecie, trwają o 30% dłużej niż rozmowy telefoniczne z innymi użytkownikam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 respondentów twierdzi, że wyrażało niezadowolenie w związku z materiałami na temat obsługi klienta w Internecie w rozmowie ze znajomymi, współpracownikami lub członkami rodziny w kontakcie bezpośrednim lub na portalach społecznościow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82296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aj przykład ze studium przypadku lub cytat z opinii eksperta jako uzasadnienie. (W razie konieczności dodaj slajdy.) Przykł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naszego badania przeprowadzonego w roku 2014 wynika, że nasza firma odróżniała się od konkurencji [na rynku firm z sektora technologicznego] głównie dzięki sekcj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wis i Wsparc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ego rodzaju treści są najważniejsze, jeśli chodzi o zapewnienie świetnej obsługi klienta, choć często bywają traktowane po macoszemu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k Barnes, dyrektor ds. badań, Gart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jest ryzyk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95280"/>
            <a:ext cx="449568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zedstaw najlepszy i najgorszy scenariusz na jednym lub więcej slajdów. Zwizualizuj i przedstaw konkretne dane liczbowe, na przykła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25% szans na to, że ulepszenie treści nie zaowocuje redukcją kosztów ani poprawą poziomu satysfakcji klienta, stracimy około 5000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75% szans na to, że ulepszenie treści pozwoli zmniejszyć liczbę telefonów do call center o połowę, zaoszczędzimy 1 mln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asted-image.png" descr=""/>
          <p:cNvPicPr/>
          <p:nvPr/>
        </p:nvPicPr>
        <p:blipFill>
          <a:blip r:embed="rId1"/>
          <a:stretch/>
        </p:blipFill>
        <p:spPr>
          <a:xfrm>
            <a:off x="4724280" y="1066680"/>
            <a:ext cx="41338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są wymagan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działań i kosztów. Przykład: tabela 2.1 na str. 17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kamieni milowych i harmonogramu. Patrz str. 55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dalej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edstaw kolejne kroki w projekcie, w tym uzyskanie akceptacji na kontynuację pra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atkowe kolejne kroki mogą obejmować: przydzielenie zasobów, zatrudnienie wykonawcy lub konsultanta, przeprowadzenie rozmów z interesariuszami i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2T14:41:08Z</dcterms:created>
  <dc:creator>bszmatiuk</dc:creator>
  <dc:description/>
  <dc:language>en-US</dc:language>
  <cp:lastModifiedBy>bszmatiuk</cp:lastModifiedBy>
  <dcterms:modified xsi:type="dcterms:W3CDTF">2017-01-13T11:28:22Z</dcterms:modified>
  <cp:revision>8</cp:revision>
  <dc:subject/>
  <dc:title>Bez tytułu slajdu</dc:title>
</cp:coreProperties>
</file>