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53DCAF-6EC1-4683-A346-A442591B5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6F6C8-BCA5-431D-9BDC-68691F939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062B7-39A2-4596-B16C-BBF1C4DD3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ED20F-2D89-4A8C-AB6E-E97751E8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523-032C-4E05-98A7-1C52A926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CE5-9BA0-464C-B25C-ABBB0769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482-0C57-4AF0-873C-E9C98139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A90-B519-4840-BDCC-9CC90BA4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484-B9CC-422E-914F-3B41608B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AC5-F986-4CC9-A886-9F94EE19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2E3-CC09-4DED-A33F-464D049E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127-4DA7-436F-9B0E-A445C2A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B02-D500-483E-A1CE-028DDF6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EA7-B268-4606-94C5-8C12917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B7E-53C2-48DE-892C-126FA30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46A-86A6-44F2-AAAA-D35A244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0A2749B-59F8-4E31-AFE4-E83C2A7A7B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ahoma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D27386E6-B30C-4907-8AF9-519B73A7A4D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22D999B-8D6E-4D62-B2C1-8B2C3B09A6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645000"/>
            <a:ext cx="58453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B72D770-2873-46C0-8FC8-06889AC220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62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2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5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256B8C5-8494-40CF-8B88-1381CFD3F4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629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630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631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2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3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34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5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636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7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8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9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640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1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42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643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644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5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46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647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8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9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0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1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52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653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4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5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6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7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658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659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0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1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2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/>
              <a:ahLst/>
              <a:rect l="l" t="t" r="r" b="b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63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664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5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6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67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668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669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0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1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72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673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4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5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6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7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8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679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680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1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84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685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6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687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88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689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0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91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692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693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4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5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696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7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8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9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00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1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2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3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4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05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06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7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8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9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0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11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712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3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4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15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716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9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720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721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722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3" name="Rectangle 285"/>
                <p:cNvSpPr/>
                <p:nvPr/>
              </p:nvSpPr>
              <p:spPr>
                <a:xfrm>
                  <a:off x="5576400" y="404964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4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25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726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727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8" name="Rectangle 290"/>
                <p:cNvSpPr/>
                <p:nvPr/>
              </p:nvSpPr>
              <p:spPr>
                <a:xfrm>
                  <a:off x="3709800" y="13809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9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0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731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732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3" name="Rectangle 295"/>
                <p:cNvSpPr/>
                <p:nvPr/>
              </p:nvSpPr>
              <p:spPr>
                <a:xfrm>
                  <a:off x="7117920" y="12873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34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735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40A4E89-EB03-472F-90AA-02C80C594F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8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40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41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742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/>
              <a:ahLst/>
              <a:rect l="l" t="t" r="r" b="b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3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4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5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6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7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8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9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750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1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752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3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6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7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8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BA76894-82F6-4091-8693-432DAD158D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1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4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765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7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768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9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2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/>
                <a:ahLst/>
                <a:rect l="l" t="t" r="r" b="b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3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5C51AA9-8D3B-45B4-8793-DC4463BD6D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6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7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778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9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0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81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782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84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5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6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787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8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9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0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791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2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3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4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5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6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7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8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9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0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1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2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3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5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06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7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08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9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0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811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2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0952704-DFBA-4A2B-95C9-2A06BA0167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5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4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0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2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4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4AB70F9-6B9D-4E07-8F20-189E2241AB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0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587840" y="12240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5E7D935-2CA9-4930-BBCD-700ABF569E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6" name="PlaceHolder 1"/>
          <p:cNvSpPr>
            <a:spLocks noGrp="1"/>
          </p:cNvSpPr>
          <p:nvPr>
            <p:ph/>
          </p:nvPr>
        </p:nvSpPr>
        <p:spPr>
          <a:xfrm>
            <a:off x="544680" y="130932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its in IP header (ToS field) marked </a:t>
            </a: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by network rou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indicate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dication carried to receiving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(seeing congestion indication in IP datagram) ) sets ECE bit on receiver-to-sender ACK segment to notify sender of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xplicit Congestion Notification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ECN)</a:t>
            </a:r>
            <a:endParaRPr b="0" lang="en-US" sz="28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48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6730920" cy="182520"/>
          </a:xfrm>
          <a:prstGeom prst="rect">
            <a:avLst/>
          </a:prstGeom>
          <a:ln w="0">
            <a:noFill/>
          </a:ln>
        </p:spPr>
      </p:pic>
      <p:sp>
        <p:nvSpPr>
          <p:cNvPr id="5849" name="Text Box 8"/>
          <p:cNvSpPr/>
          <p:nvPr/>
        </p:nvSpPr>
        <p:spPr>
          <a:xfrm>
            <a:off x="1354320" y="409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0" name="Freeform 10"/>
          <p:cNvSpPr/>
          <p:nvPr/>
        </p:nvSpPr>
        <p:spPr>
          <a:xfrm flipH="1">
            <a:off x="855000" y="4383000"/>
            <a:ext cx="369720" cy="1368360"/>
          </a:xfrm>
          <a:custGeom>
            <a:avLst/>
            <a:gdLst/>
            <a:ahLst/>
            <a:rect l="l" t="t" r="r" b="b"/>
            <a:pathLst>
              <a:path w="12213" h="10000">
                <a:moveTo>
                  <a:pt x="11726" y="4661"/>
                </a:moveTo>
                <a:lnTo>
                  <a:pt x="0" y="0"/>
                </a:lnTo>
                <a:lnTo>
                  <a:pt x="0" y="10000"/>
                </a:lnTo>
                <a:lnTo>
                  <a:pt x="12213" y="6473"/>
                </a:lnTo>
                <a:lnTo>
                  <a:pt x="11726" y="4661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1" name="Rectangle 23"/>
          <p:cNvSpPr/>
          <p:nvPr/>
        </p:nvSpPr>
        <p:spPr>
          <a:xfrm>
            <a:off x="1228680" y="4381560"/>
            <a:ext cx="1076400" cy="134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2" name="Rectangle 24"/>
          <p:cNvSpPr/>
          <p:nvPr/>
        </p:nvSpPr>
        <p:spPr>
          <a:xfrm>
            <a:off x="1189080" y="4446720"/>
            <a:ext cx="10666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3" name="Line 25"/>
          <p:cNvSpPr/>
          <p:nvPr/>
        </p:nvSpPr>
        <p:spPr>
          <a:xfrm>
            <a:off x="1189080" y="47242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4" name="Text Box 26"/>
          <p:cNvSpPr/>
          <p:nvPr/>
        </p:nvSpPr>
        <p:spPr>
          <a:xfrm>
            <a:off x="1152360" y="4414680"/>
            <a:ext cx="1105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5" name="Group 190"/>
          <p:cNvGrpSpPr/>
          <p:nvPr/>
        </p:nvGrpSpPr>
        <p:grpSpPr>
          <a:xfrm>
            <a:off x="525600" y="4921200"/>
            <a:ext cx="672840" cy="701640"/>
            <a:chOff x="525600" y="4921200"/>
            <a:chExt cx="672840" cy="701640"/>
          </a:xfrm>
        </p:grpSpPr>
        <p:pic>
          <p:nvPicPr>
            <p:cNvPr id="5856" name="Picture 19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525600" y="4921200"/>
              <a:ext cx="6728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7" name="Freeform 192"/>
            <p:cNvSpPr/>
            <p:nvPr/>
          </p:nvSpPr>
          <p:spPr>
            <a:xfrm>
              <a:off x="584640" y="4988160"/>
              <a:ext cx="327240" cy="321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8" name="Line 25"/>
          <p:cNvSpPr/>
          <p:nvPr/>
        </p:nvSpPr>
        <p:spPr>
          <a:xfrm>
            <a:off x="1193760" y="49528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9" name="Line 25"/>
          <p:cNvSpPr/>
          <p:nvPr/>
        </p:nvSpPr>
        <p:spPr>
          <a:xfrm>
            <a:off x="1198440" y="5181480"/>
            <a:ext cx="1059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0" name="Line 25"/>
          <p:cNvSpPr/>
          <p:nvPr/>
        </p:nvSpPr>
        <p:spPr>
          <a:xfrm>
            <a:off x="1201680" y="5421240"/>
            <a:ext cx="1060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1" name="Group 3"/>
          <p:cNvGrpSpPr/>
          <p:nvPr/>
        </p:nvGrpSpPr>
        <p:grpSpPr>
          <a:xfrm>
            <a:off x="6200280" y="4102200"/>
            <a:ext cx="2016720" cy="1657080"/>
            <a:chOff x="6200280" y="4102200"/>
            <a:chExt cx="2016720" cy="1657080"/>
          </a:xfrm>
        </p:grpSpPr>
        <p:sp>
          <p:nvSpPr>
            <p:cNvPr id="5862" name="Text Box 54"/>
            <p:cNvSpPr/>
            <p:nvPr/>
          </p:nvSpPr>
          <p:spPr>
            <a:xfrm>
              <a:off x="6200280" y="41022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3" name="Group 2"/>
            <p:cNvGrpSpPr/>
            <p:nvPr/>
          </p:nvGrpSpPr>
          <p:grpSpPr>
            <a:xfrm>
              <a:off x="6212880" y="4388040"/>
              <a:ext cx="2004120" cy="1371240"/>
              <a:chOff x="6212880" y="4388040"/>
              <a:chExt cx="2004120" cy="1371240"/>
            </a:xfrm>
          </p:grpSpPr>
          <p:sp>
            <p:nvSpPr>
              <p:cNvPr id="5864" name="Freeform 10"/>
              <p:cNvSpPr/>
              <p:nvPr/>
            </p:nvSpPr>
            <p:spPr>
              <a:xfrm>
                <a:off x="7340760" y="4389480"/>
                <a:ext cx="302040" cy="13698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67" h="1186">
                    <a:moveTo>
                      <a:pt x="254" y="466"/>
                    </a:moveTo>
                    <a:lnTo>
                      <a:pt x="0" y="0"/>
                    </a:lnTo>
                    <a:lnTo>
                      <a:pt x="0" y="1186"/>
                    </a:lnTo>
                    <a:lnTo>
                      <a:pt x="267" y="652"/>
                    </a:lnTo>
                    <a:lnTo>
                      <a:pt x="254" y="4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5" name="Rectangle 23"/>
              <p:cNvSpPr/>
              <p:nvPr/>
            </p:nvSpPr>
            <p:spPr>
              <a:xfrm>
                <a:off x="6288480" y="4388040"/>
                <a:ext cx="1077480" cy="13510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6" name="Rectangle 24"/>
              <p:cNvSpPr/>
              <p:nvPr/>
            </p:nvSpPr>
            <p:spPr>
              <a:xfrm>
                <a:off x="6248520" y="4452840"/>
                <a:ext cx="1068120" cy="123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7" name="Line 25"/>
              <p:cNvSpPr/>
              <p:nvPr/>
            </p:nvSpPr>
            <p:spPr>
              <a:xfrm>
                <a:off x="6248520" y="473148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8" name="Text Box 26"/>
              <p:cNvSpPr/>
              <p:nvPr/>
            </p:nvSpPr>
            <p:spPr>
              <a:xfrm>
                <a:off x="6212880" y="4422600"/>
                <a:ext cx="1105200" cy="12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69" name="Group 190"/>
              <p:cNvGrpSpPr/>
              <p:nvPr/>
            </p:nvGrpSpPr>
            <p:grpSpPr>
              <a:xfrm>
                <a:off x="7543080" y="4776480"/>
                <a:ext cx="673920" cy="702000"/>
                <a:chOff x="7543080" y="4776480"/>
                <a:chExt cx="673920" cy="702000"/>
              </a:xfrm>
            </p:grpSpPr>
            <p:pic>
              <p:nvPicPr>
                <p:cNvPr id="5870" name="Picture 191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43080" y="4776480"/>
                  <a:ext cx="67392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1" name="Freeform 192"/>
                <p:cNvSpPr/>
                <p:nvPr/>
              </p:nvSpPr>
              <p:spPr>
                <a:xfrm>
                  <a:off x="7602480" y="4843440"/>
                  <a:ext cx="327600" cy="3214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2" name="Line 25"/>
              <p:cNvSpPr/>
              <p:nvPr/>
            </p:nvSpPr>
            <p:spPr>
              <a:xfrm>
                <a:off x="6252840" y="4960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3" name="Line 25"/>
              <p:cNvSpPr/>
              <p:nvPr/>
            </p:nvSpPr>
            <p:spPr>
              <a:xfrm>
                <a:off x="6257160" y="518976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4" name="Line 25"/>
              <p:cNvSpPr/>
              <p:nvPr/>
            </p:nvSpPr>
            <p:spPr>
              <a:xfrm>
                <a:off x="6261840" y="5428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75" name="Freeform 2"/>
          <p:cNvSpPr/>
          <p:nvPr/>
        </p:nvSpPr>
        <p:spPr>
          <a:xfrm>
            <a:off x="2730600" y="5227560"/>
            <a:ext cx="2849400" cy="1481040"/>
          </a:xfrm>
          <a:custGeom>
            <a:avLst/>
            <a:gdLst>
              <a:gd name="textAreaLeft" fmla="*/ 0 w 2849400"/>
              <a:gd name="textAreaRight" fmla="*/ 2849400 w 284940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6" name="Freeform 6"/>
          <p:cNvSpPr/>
          <p:nvPr/>
        </p:nvSpPr>
        <p:spPr>
          <a:xfrm>
            <a:off x="3368520" y="5530680"/>
            <a:ext cx="543240" cy="295560"/>
          </a:xfrm>
          <a:custGeom>
            <a:avLst/>
            <a:gdLst>
              <a:gd name="textAreaLeft" fmla="*/ 0 w 543240"/>
              <a:gd name="textAreaRight" fmla="*/ 543600 w 54324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7" name="Group 7"/>
          <p:cNvGrpSpPr/>
          <p:nvPr/>
        </p:nvGrpSpPr>
        <p:grpSpPr>
          <a:xfrm>
            <a:off x="2874960" y="5705640"/>
            <a:ext cx="501480" cy="232920"/>
            <a:chOff x="2874960" y="5705640"/>
            <a:chExt cx="501480" cy="232920"/>
          </a:xfrm>
        </p:grpSpPr>
        <p:sp>
          <p:nvSpPr>
            <p:cNvPr id="5878" name="Oval 8"/>
            <p:cNvSpPr/>
            <p:nvPr/>
          </p:nvSpPr>
          <p:spPr>
            <a:xfrm>
              <a:off x="2877480" y="5810760"/>
              <a:ext cx="49860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9" name="Line 9"/>
            <p:cNvSpPr/>
            <p:nvPr/>
          </p:nvSpPr>
          <p:spPr>
            <a:xfrm>
              <a:off x="287748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0" name="Line 10"/>
            <p:cNvSpPr/>
            <p:nvPr/>
          </p:nvSpPr>
          <p:spPr>
            <a:xfrm>
              <a:off x="337644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1" name="Rectangle 11"/>
            <p:cNvSpPr/>
            <p:nvPr/>
          </p:nvSpPr>
          <p:spPr>
            <a:xfrm>
              <a:off x="2877480" y="5798520"/>
              <a:ext cx="4939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2" name="Oval 12"/>
            <p:cNvSpPr/>
            <p:nvPr/>
          </p:nvSpPr>
          <p:spPr>
            <a:xfrm>
              <a:off x="2874960" y="5705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83" name="Group 13"/>
            <p:cNvGrpSpPr/>
            <p:nvPr/>
          </p:nvGrpSpPr>
          <p:grpSpPr>
            <a:xfrm>
              <a:off x="2991240" y="5738400"/>
              <a:ext cx="247680" cy="88200"/>
              <a:chOff x="2991240" y="5738400"/>
              <a:chExt cx="247680" cy="88200"/>
            </a:xfrm>
          </p:grpSpPr>
          <p:sp>
            <p:nvSpPr>
              <p:cNvPr id="5884" name="Line 14"/>
              <p:cNvSpPr/>
              <p:nvPr/>
            </p:nvSpPr>
            <p:spPr>
              <a:xfrm flipV="1">
                <a:off x="2991240" y="5738400"/>
                <a:ext cx="88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5" name="Line 15"/>
              <p:cNvSpPr/>
              <p:nvPr/>
            </p:nvSpPr>
            <p:spPr>
              <a:xfrm>
                <a:off x="3161160" y="582480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6" name="Line 16"/>
              <p:cNvSpPr/>
              <p:nvPr/>
            </p:nvSpPr>
            <p:spPr>
              <a:xfrm>
                <a:off x="3072600" y="5740560"/>
                <a:ext cx="921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7" name="Group 17"/>
            <p:cNvGrpSpPr/>
            <p:nvPr/>
          </p:nvGrpSpPr>
          <p:grpSpPr>
            <a:xfrm>
              <a:off x="2991240" y="5737680"/>
              <a:ext cx="247680" cy="88200"/>
              <a:chOff x="2991240" y="5737680"/>
              <a:chExt cx="247680" cy="88200"/>
            </a:xfrm>
          </p:grpSpPr>
          <p:sp>
            <p:nvSpPr>
              <p:cNvPr id="5888" name="Line 18"/>
              <p:cNvSpPr/>
              <p:nvPr/>
            </p:nvSpPr>
            <p:spPr>
              <a:xfrm>
                <a:off x="2991240" y="5822640"/>
                <a:ext cx="88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9" name="Line 19"/>
              <p:cNvSpPr/>
              <p:nvPr/>
            </p:nvSpPr>
            <p:spPr>
              <a:xfrm>
                <a:off x="3161160" y="573768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0" name="Line 20"/>
              <p:cNvSpPr/>
              <p:nvPr/>
            </p:nvSpPr>
            <p:spPr>
              <a:xfrm flipV="1">
                <a:off x="3072600" y="5737680"/>
                <a:ext cx="9216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91" name="Group 21"/>
          <p:cNvGrpSpPr/>
          <p:nvPr/>
        </p:nvGrpSpPr>
        <p:grpSpPr>
          <a:xfrm>
            <a:off x="3227400" y="6343560"/>
            <a:ext cx="501480" cy="232920"/>
            <a:chOff x="3227400" y="6343560"/>
            <a:chExt cx="501480" cy="232920"/>
          </a:xfrm>
        </p:grpSpPr>
        <p:sp>
          <p:nvSpPr>
            <p:cNvPr id="5892" name="Oval 22"/>
            <p:cNvSpPr/>
            <p:nvPr/>
          </p:nvSpPr>
          <p:spPr>
            <a:xfrm>
              <a:off x="3234240" y="6448680"/>
              <a:ext cx="4942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3" name="Line 23"/>
            <p:cNvSpPr/>
            <p:nvPr/>
          </p:nvSpPr>
          <p:spPr>
            <a:xfrm>
              <a:off x="323424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4" name="Line 24"/>
            <p:cNvSpPr/>
            <p:nvPr/>
          </p:nvSpPr>
          <p:spPr>
            <a:xfrm>
              <a:off x="372888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5" name="Rectangle 25"/>
            <p:cNvSpPr/>
            <p:nvPr/>
          </p:nvSpPr>
          <p:spPr>
            <a:xfrm>
              <a:off x="3234240" y="643644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6" name="Oval 26"/>
            <p:cNvSpPr/>
            <p:nvPr/>
          </p:nvSpPr>
          <p:spPr>
            <a:xfrm>
              <a:off x="3227400" y="6343560"/>
              <a:ext cx="4939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97" name="Group 27"/>
            <p:cNvGrpSpPr/>
            <p:nvPr/>
          </p:nvGrpSpPr>
          <p:grpSpPr>
            <a:xfrm>
              <a:off x="3346920" y="6376320"/>
              <a:ext cx="246240" cy="88200"/>
              <a:chOff x="3346920" y="6376320"/>
              <a:chExt cx="246240" cy="88200"/>
            </a:xfrm>
          </p:grpSpPr>
          <p:sp>
            <p:nvSpPr>
              <p:cNvPr id="5898" name="Line 28"/>
              <p:cNvSpPr/>
              <p:nvPr/>
            </p:nvSpPr>
            <p:spPr>
              <a:xfrm flipV="1">
                <a:off x="3346920" y="637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9" name="Line 29"/>
              <p:cNvSpPr/>
              <p:nvPr/>
            </p:nvSpPr>
            <p:spPr>
              <a:xfrm>
                <a:off x="3515760" y="6462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0" name="Line 30"/>
              <p:cNvSpPr/>
              <p:nvPr/>
            </p:nvSpPr>
            <p:spPr>
              <a:xfrm>
                <a:off x="3427920" y="6378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01" name="Group 31"/>
            <p:cNvGrpSpPr/>
            <p:nvPr/>
          </p:nvGrpSpPr>
          <p:grpSpPr>
            <a:xfrm>
              <a:off x="3346920" y="6375600"/>
              <a:ext cx="246240" cy="88200"/>
              <a:chOff x="3346920" y="6375600"/>
              <a:chExt cx="246240" cy="88200"/>
            </a:xfrm>
          </p:grpSpPr>
          <p:sp>
            <p:nvSpPr>
              <p:cNvPr id="5902" name="Line 32"/>
              <p:cNvSpPr/>
              <p:nvPr/>
            </p:nvSpPr>
            <p:spPr>
              <a:xfrm>
                <a:off x="3346920" y="646056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3" name="Line 33"/>
              <p:cNvSpPr/>
              <p:nvPr/>
            </p:nvSpPr>
            <p:spPr>
              <a:xfrm>
                <a:off x="3515760" y="637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4" name="Line 34"/>
              <p:cNvSpPr/>
              <p:nvPr/>
            </p:nvSpPr>
            <p:spPr>
              <a:xfrm flipV="1">
                <a:off x="3427920" y="637560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05" name="Group 35"/>
          <p:cNvGrpSpPr/>
          <p:nvPr/>
        </p:nvGrpSpPr>
        <p:grpSpPr>
          <a:xfrm>
            <a:off x="3902040" y="5400720"/>
            <a:ext cx="501840" cy="232920"/>
            <a:chOff x="3902040" y="5400720"/>
            <a:chExt cx="501840" cy="232920"/>
          </a:xfrm>
        </p:grpSpPr>
        <p:sp>
          <p:nvSpPr>
            <p:cNvPr id="5906" name="Oval 36"/>
            <p:cNvSpPr/>
            <p:nvPr/>
          </p:nvSpPr>
          <p:spPr>
            <a:xfrm>
              <a:off x="3908880" y="550584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7" name="Line 37"/>
            <p:cNvSpPr/>
            <p:nvPr/>
          </p:nvSpPr>
          <p:spPr>
            <a:xfrm>
              <a:off x="3908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8" name="Line 38"/>
            <p:cNvSpPr/>
            <p:nvPr/>
          </p:nvSpPr>
          <p:spPr>
            <a:xfrm>
              <a:off x="4403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9" name="Rectangle 39"/>
            <p:cNvSpPr/>
            <p:nvPr/>
          </p:nvSpPr>
          <p:spPr>
            <a:xfrm>
              <a:off x="3908880" y="549360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0" name="Oval 40"/>
            <p:cNvSpPr/>
            <p:nvPr/>
          </p:nvSpPr>
          <p:spPr>
            <a:xfrm>
              <a:off x="3902040" y="540072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11" name="Group 41"/>
            <p:cNvGrpSpPr/>
            <p:nvPr/>
          </p:nvGrpSpPr>
          <p:grpSpPr>
            <a:xfrm>
              <a:off x="4021560" y="5433480"/>
              <a:ext cx="246240" cy="88200"/>
              <a:chOff x="4021560" y="5433480"/>
              <a:chExt cx="246240" cy="88200"/>
            </a:xfrm>
          </p:grpSpPr>
          <p:sp>
            <p:nvSpPr>
              <p:cNvPr id="5912" name="Line 42"/>
              <p:cNvSpPr/>
              <p:nvPr/>
            </p:nvSpPr>
            <p:spPr>
              <a:xfrm flipV="1">
                <a:off x="4021560" y="543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3" name="Line 43"/>
              <p:cNvSpPr/>
              <p:nvPr/>
            </p:nvSpPr>
            <p:spPr>
              <a:xfrm>
                <a:off x="4190400" y="5519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4" name="Line 44"/>
              <p:cNvSpPr/>
              <p:nvPr/>
            </p:nvSpPr>
            <p:spPr>
              <a:xfrm>
                <a:off x="4102560" y="54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5" name="Group 45"/>
            <p:cNvGrpSpPr/>
            <p:nvPr/>
          </p:nvGrpSpPr>
          <p:grpSpPr>
            <a:xfrm>
              <a:off x="4021560" y="5432760"/>
              <a:ext cx="246240" cy="88200"/>
              <a:chOff x="4021560" y="5432760"/>
              <a:chExt cx="246240" cy="88200"/>
            </a:xfrm>
          </p:grpSpPr>
          <p:sp>
            <p:nvSpPr>
              <p:cNvPr id="5916" name="Line 46"/>
              <p:cNvSpPr/>
              <p:nvPr/>
            </p:nvSpPr>
            <p:spPr>
              <a:xfrm>
                <a:off x="4021560" y="551772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7" name="Line 47"/>
              <p:cNvSpPr/>
              <p:nvPr/>
            </p:nvSpPr>
            <p:spPr>
              <a:xfrm>
                <a:off x="4190400" y="543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8" name="Line 48"/>
              <p:cNvSpPr/>
              <p:nvPr/>
            </p:nvSpPr>
            <p:spPr>
              <a:xfrm flipV="1">
                <a:off x="4102560" y="543276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19" name="Group 18"/>
          <p:cNvGrpSpPr/>
          <p:nvPr/>
        </p:nvGrpSpPr>
        <p:grpSpPr>
          <a:xfrm>
            <a:off x="3813120" y="6066000"/>
            <a:ext cx="500040" cy="233280"/>
            <a:chOff x="3813120" y="6066000"/>
            <a:chExt cx="500040" cy="233280"/>
          </a:xfrm>
        </p:grpSpPr>
        <p:sp>
          <p:nvSpPr>
            <p:cNvPr id="5920" name="Oval 50"/>
            <p:cNvSpPr/>
            <p:nvPr/>
          </p:nvSpPr>
          <p:spPr>
            <a:xfrm>
              <a:off x="3819960" y="6171120"/>
              <a:ext cx="493200" cy="1281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1" name="Line 51"/>
            <p:cNvSpPr/>
            <p:nvPr/>
          </p:nvSpPr>
          <p:spPr>
            <a:xfrm>
              <a:off x="38199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2" name="Line 52"/>
            <p:cNvSpPr/>
            <p:nvPr/>
          </p:nvSpPr>
          <p:spPr>
            <a:xfrm>
              <a:off x="43131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3" name="Rectangle 53"/>
            <p:cNvSpPr/>
            <p:nvPr/>
          </p:nvSpPr>
          <p:spPr>
            <a:xfrm>
              <a:off x="3819960" y="6159240"/>
              <a:ext cx="489240" cy="7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4" name="Oval 54"/>
            <p:cNvSpPr/>
            <p:nvPr/>
          </p:nvSpPr>
          <p:spPr>
            <a:xfrm>
              <a:off x="3813120" y="6066000"/>
              <a:ext cx="494640" cy="150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25" name="Group 55"/>
            <p:cNvGrpSpPr/>
            <p:nvPr/>
          </p:nvGrpSpPr>
          <p:grpSpPr>
            <a:xfrm>
              <a:off x="3932640" y="6098760"/>
              <a:ext cx="245520" cy="86400"/>
              <a:chOff x="3932640" y="6098760"/>
              <a:chExt cx="245520" cy="86400"/>
            </a:xfrm>
          </p:grpSpPr>
          <p:sp>
            <p:nvSpPr>
              <p:cNvPr id="5926" name="Line 56"/>
              <p:cNvSpPr/>
              <p:nvPr/>
            </p:nvSpPr>
            <p:spPr>
              <a:xfrm flipV="1">
                <a:off x="3932640" y="6098760"/>
                <a:ext cx="8748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7" name="Line 57"/>
              <p:cNvSpPr/>
              <p:nvPr/>
            </p:nvSpPr>
            <p:spPr>
              <a:xfrm>
                <a:off x="4101120" y="618336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8" name="Line 58"/>
              <p:cNvSpPr/>
              <p:nvPr/>
            </p:nvSpPr>
            <p:spPr>
              <a:xfrm>
                <a:off x="4013280" y="6100920"/>
                <a:ext cx="91080" cy="8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29" name="Group 59"/>
            <p:cNvGrpSpPr/>
            <p:nvPr/>
          </p:nvGrpSpPr>
          <p:grpSpPr>
            <a:xfrm>
              <a:off x="3932640" y="6098040"/>
              <a:ext cx="245520" cy="88200"/>
              <a:chOff x="3932640" y="6098040"/>
              <a:chExt cx="245520" cy="88200"/>
            </a:xfrm>
          </p:grpSpPr>
          <p:sp>
            <p:nvSpPr>
              <p:cNvPr id="5930" name="Line 60"/>
              <p:cNvSpPr/>
              <p:nvPr/>
            </p:nvSpPr>
            <p:spPr>
              <a:xfrm>
                <a:off x="3932640" y="6183000"/>
                <a:ext cx="874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1" name="Line 61"/>
              <p:cNvSpPr/>
              <p:nvPr/>
            </p:nvSpPr>
            <p:spPr>
              <a:xfrm>
                <a:off x="4101120" y="609804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2" name="Line 62"/>
              <p:cNvSpPr/>
              <p:nvPr/>
            </p:nvSpPr>
            <p:spPr>
              <a:xfrm flipV="1">
                <a:off x="4013280" y="6098040"/>
                <a:ext cx="91080" cy="8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33" name="Group 63"/>
          <p:cNvGrpSpPr/>
          <p:nvPr/>
        </p:nvGrpSpPr>
        <p:grpSpPr>
          <a:xfrm>
            <a:off x="4459320" y="6362640"/>
            <a:ext cx="503280" cy="232920"/>
            <a:chOff x="4459320" y="6362640"/>
            <a:chExt cx="503280" cy="232920"/>
          </a:xfrm>
        </p:grpSpPr>
        <p:sp>
          <p:nvSpPr>
            <p:cNvPr id="5934" name="Oval 64"/>
            <p:cNvSpPr/>
            <p:nvPr/>
          </p:nvSpPr>
          <p:spPr>
            <a:xfrm>
              <a:off x="4466160" y="6467760"/>
              <a:ext cx="4960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5" name="Line 65"/>
            <p:cNvSpPr/>
            <p:nvPr/>
          </p:nvSpPr>
          <p:spPr>
            <a:xfrm>
              <a:off x="446616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6" name="Line 66"/>
            <p:cNvSpPr/>
            <p:nvPr/>
          </p:nvSpPr>
          <p:spPr>
            <a:xfrm>
              <a:off x="496260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7" name="Rectangle 67"/>
            <p:cNvSpPr/>
            <p:nvPr/>
          </p:nvSpPr>
          <p:spPr>
            <a:xfrm>
              <a:off x="4466160" y="6455520"/>
              <a:ext cx="4917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8" name="Oval 68"/>
            <p:cNvSpPr/>
            <p:nvPr/>
          </p:nvSpPr>
          <p:spPr>
            <a:xfrm>
              <a:off x="4459320" y="6362640"/>
              <a:ext cx="4957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39" name="Group 69"/>
            <p:cNvGrpSpPr/>
            <p:nvPr/>
          </p:nvGrpSpPr>
          <p:grpSpPr>
            <a:xfrm>
              <a:off x="4579200" y="6395400"/>
              <a:ext cx="246600" cy="88200"/>
              <a:chOff x="4579200" y="6395400"/>
              <a:chExt cx="246600" cy="88200"/>
            </a:xfrm>
          </p:grpSpPr>
          <p:sp>
            <p:nvSpPr>
              <p:cNvPr id="5940" name="Line 70"/>
              <p:cNvSpPr/>
              <p:nvPr/>
            </p:nvSpPr>
            <p:spPr>
              <a:xfrm flipV="1">
                <a:off x="4579200" y="6395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1" name="Line 71"/>
              <p:cNvSpPr/>
              <p:nvPr/>
            </p:nvSpPr>
            <p:spPr>
              <a:xfrm>
                <a:off x="4748400" y="6481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2" name="Line 72"/>
              <p:cNvSpPr/>
              <p:nvPr/>
            </p:nvSpPr>
            <p:spPr>
              <a:xfrm>
                <a:off x="4660200" y="6397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43" name="Group 73"/>
            <p:cNvGrpSpPr/>
            <p:nvPr/>
          </p:nvGrpSpPr>
          <p:grpSpPr>
            <a:xfrm>
              <a:off x="4579200" y="6394680"/>
              <a:ext cx="246600" cy="88200"/>
              <a:chOff x="4579200" y="6394680"/>
              <a:chExt cx="246600" cy="88200"/>
            </a:xfrm>
          </p:grpSpPr>
          <p:sp>
            <p:nvSpPr>
              <p:cNvPr id="5944" name="Line 74"/>
              <p:cNvSpPr/>
              <p:nvPr/>
            </p:nvSpPr>
            <p:spPr>
              <a:xfrm>
                <a:off x="4579200" y="64796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5" name="Line 75"/>
              <p:cNvSpPr/>
              <p:nvPr/>
            </p:nvSpPr>
            <p:spPr>
              <a:xfrm>
                <a:off x="4748400" y="63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6" name="Line 76"/>
              <p:cNvSpPr/>
              <p:nvPr/>
            </p:nvSpPr>
            <p:spPr>
              <a:xfrm flipV="1">
                <a:off x="4660200" y="63946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47" name="Group 77"/>
          <p:cNvGrpSpPr/>
          <p:nvPr/>
        </p:nvGrpSpPr>
        <p:grpSpPr>
          <a:xfrm>
            <a:off x="4905360" y="5707080"/>
            <a:ext cx="501840" cy="232920"/>
            <a:chOff x="4905360" y="5707080"/>
            <a:chExt cx="501840" cy="232920"/>
          </a:xfrm>
        </p:grpSpPr>
        <p:sp>
          <p:nvSpPr>
            <p:cNvPr id="5948" name="Oval 78"/>
            <p:cNvSpPr/>
            <p:nvPr/>
          </p:nvSpPr>
          <p:spPr>
            <a:xfrm>
              <a:off x="4912200" y="581220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9" name="Line 79"/>
            <p:cNvSpPr/>
            <p:nvPr/>
          </p:nvSpPr>
          <p:spPr>
            <a:xfrm>
              <a:off x="4912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0" name="Line 80"/>
            <p:cNvSpPr/>
            <p:nvPr/>
          </p:nvSpPr>
          <p:spPr>
            <a:xfrm>
              <a:off x="5407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1" name="Rectangle 81"/>
            <p:cNvSpPr/>
            <p:nvPr/>
          </p:nvSpPr>
          <p:spPr>
            <a:xfrm>
              <a:off x="4912200" y="579996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2" name="Oval 82"/>
            <p:cNvSpPr/>
            <p:nvPr/>
          </p:nvSpPr>
          <p:spPr>
            <a:xfrm>
              <a:off x="4905360" y="570708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53" name="Group 83"/>
            <p:cNvGrpSpPr/>
            <p:nvPr/>
          </p:nvGrpSpPr>
          <p:grpSpPr>
            <a:xfrm>
              <a:off x="5024880" y="5739840"/>
              <a:ext cx="246240" cy="88200"/>
              <a:chOff x="5024880" y="5739840"/>
              <a:chExt cx="246240" cy="88200"/>
            </a:xfrm>
          </p:grpSpPr>
          <p:sp>
            <p:nvSpPr>
              <p:cNvPr id="5954" name="Line 84"/>
              <p:cNvSpPr/>
              <p:nvPr/>
            </p:nvSpPr>
            <p:spPr>
              <a:xfrm flipV="1">
                <a:off x="5024880" y="573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5" name="Line 85"/>
              <p:cNvSpPr/>
              <p:nvPr/>
            </p:nvSpPr>
            <p:spPr>
              <a:xfrm>
                <a:off x="5193720" y="582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6" name="Line 86"/>
              <p:cNvSpPr/>
              <p:nvPr/>
            </p:nvSpPr>
            <p:spPr>
              <a:xfrm>
                <a:off x="5105880" y="5742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7" name="Group 87"/>
            <p:cNvGrpSpPr/>
            <p:nvPr/>
          </p:nvGrpSpPr>
          <p:grpSpPr>
            <a:xfrm>
              <a:off x="5024880" y="5739120"/>
              <a:ext cx="246240" cy="88200"/>
              <a:chOff x="5024880" y="5739120"/>
              <a:chExt cx="246240" cy="88200"/>
            </a:xfrm>
          </p:grpSpPr>
          <p:sp>
            <p:nvSpPr>
              <p:cNvPr id="5958" name="Line 88"/>
              <p:cNvSpPr/>
              <p:nvPr/>
            </p:nvSpPr>
            <p:spPr>
              <a:xfrm>
                <a:off x="5024880" y="58240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9" name="Line 89"/>
              <p:cNvSpPr/>
              <p:nvPr/>
            </p:nvSpPr>
            <p:spPr>
              <a:xfrm>
                <a:off x="5193720" y="573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0" name="Line 90"/>
              <p:cNvSpPr/>
              <p:nvPr/>
            </p:nvSpPr>
            <p:spPr>
              <a:xfrm flipV="1">
                <a:off x="5105880" y="57391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61" name="Freeform 91"/>
          <p:cNvSpPr/>
          <p:nvPr/>
        </p:nvSpPr>
        <p:spPr>
          <a:xfrm>
            <a:off x="4410000" y="5524560"/>
            <a:ext cx="506520" cy="307800"/>
          </a:xfrm>
          <a:custGeom>
            <a:avLst/>
            <a:gdLst>
              <a:gd name="textAreaLeft" fmla="*/ 0 w 506520"/>
              <a:gd name="textAreaRight" fmla="*/ 506880 w 5065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2" name="Freeform 92"/>
          <p:cNvSpPr/>
          <p:nvPr/>
        </p:nvSpPr>
        <p:spPr>
          <a:xfrm>
            <a:off x="3344760" y="5916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3" name="Freeform 93"/>
          <p:cNvSpPr/>
          <p:nvPr/>
        </p:nvSpPr>
        <p:spPr>
          <a:xfrm>
            <a:off x="4292640" y="5892840"/>
            <a:ext cx="630360" cy="247680"/>
          </a:xfrm>
          <a:custGeom>
            <a:avLst/>
            <a:gdLst>
              <a:gd name="textAreaLeft" fmla="*/ 0 w 630360"/>
              <a:gd name="textAreaRight" fmla="*/ 630720 w 63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4" name="Freeform 94"/>
          <p:cNvSpPr/>
          <p:nvPr/>
        </p:nvSpPr>
        <p:spPr>
          <a:xfrm>
            <a:off x="4960800" y="5946840"/>
            <a:ext cx="206640" cy="507960"/>
          </a:xfrm>
          <a:custGeom>
            <a:avLst/>
            <a:gdLst>
              <a:gd name="textAreaLeft" fmla="*/ 0 w 206640"/>
              <a:gd name="textAreaRight" fmla="*/ 207000 w 206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5" name="Freeform 95"/>
          <p:cNvSpPr/>
          <p:nvPr/>
        </p:nvSpPr>
        <p:spPr>
          <a:xfrm>
            <a:off x="3724200" y="6480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6" name="Freeform 96"/>
          <p:cNvSpPr/>
          <p:nvPr/>
        </p:nvSpPr>
        <p:spPr>
          <a:xfrm>
            <a:off x="3187800" y="5940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7" name="Freeform 7"/>
          <p:cNvSpPr/>
          <p:nvPr/>
        </p:nvSpPr>
        <p:spPr>
          <a:xfrm>
            <a:off x="2076480" y="4599000"/>
            <a:ext cx="5156280" cy="1509840"/>
          </a:xfrm>
          <a:custGeom>
            <a:avLst/>
            <a:gdLst/>
            <a:ahLst/>
            <a:rect l="l" t="t" r="r" b="b"/>
            <a:pathLst>
              <a:path w="5156094" h="1509215">
                <a:moveTo>
                  <a:pt x="0" y="0"/>
                </a:moveTo>
                <a:cubicBezTo>
                  <a:pt x="2320" y="388965"/>
                  <a:pt x="4641" y="777929"/>
                  <a:pt x="6961" y="1166894"/>
                </a:cubicBezTo>
                <a:lnTo>
                  <a:pt x="1130946" y="1169234"/>
                </a:lnTo>
                <a:lnTo>
                  <a:pt x="1754913" y="1488814"/>
                </a:lnTo>
                <a:lnTo>
                  <a:pt x="2207163" y="1509215"/>
                </a:lnTo>
                <a:lnTo>
                  <a:pt x="2988762" y="1197554"/>
                </a:lnTo>
                <a:lnTo>
                  <a:pt x="3391464" y="1209136"/>
                </a:lnTo>
                <a:lnTo>
                  <a:pt x="5156094" y="1198456"/>
                </a:lnTo>
                <a:lnTo>
                  <a:pt x="5126381" y="64084"/>
                </a:lnTo>
              </a:path>
            </a:pathLst>
          </a:custGeom>
          <a:noFill/>
          <a:ln w="2232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8" name="TextBox 10"/>
          <p:cNvSpPr/>
          <p:nvPr/>
        </p:nvSpPr>
        <p:spPr>
          <a:xfrm>
            <a:off x="-1639800" y="4827600"/>
            <a:ext cx="4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N=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9" name="Group 21"/>
          <p:cNvGrpSpPr/>
          <p:nvPr/>
        </p:nvGrpSpPr>
        <p:grpSpPr>
          <a:xfrm>
            <a:off x="1501920" y="5843520"/>
            <a:ext cx="1493640" cy="307080"/>
            <a:chOff x="1501920" y="5843520"/>
            <a:chExt cx="1493640" cy="307080"/>
          </a:xfrm>
        </p:grpSpPr>
        <p:grpSp>
          <p:nvGrpSpPr>
            <p:cNvPr id="5970" name="Group 274"/>
            <p:cNvGrpSpPr/>
            <p:nvPr/>
          </p:nvGrpSpPr>
          <p:grpSpPr>
            <a:xfrm>
              <a:off x="1501920" y="5843520"/>
              <a:ext cx="1493640" cy="307080"/>
              <a:chOff x="1501920" y="5843520"/>
              <a:chExt cx="1493640" cy="307080"/>
            </a:xfrm>
          </p:grpSpPr>
          <p:grpSp>
            <p:nvGrpSpPr>
              <p:cNvPr id="5971" name="Group 275"/>
              <p:cNvGrpSpPr/>
              <p:nvPr/>
            </p:nvGrpSpPr>
            <p:grpSpPr>
              <a:xfrm>
                <a:off x="1879560" y="5850720"/>
                <a:ext cx="820440" cy="261720"/>
                <a:chOff x="1879560" y="5850720"/>
                <a:chExt cx="820440" cy="261720"/>
              </a:xfrm>
            </p:grpSpPr>
            <p:sp>
              <p:nvSpPr>
                <p:cNvPr id="5972" name="Rectangle 277"/>
                <p:cNvSpPr/>
                <p:nvPr/>
              </p:nvSpPr>
              <p:spPr>
                <a:xfrm>
                  <a:off x="1925280" y="5853600"/>
                  <a:ext cx="738720" cy="1958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3" name="Rectangle 278"/>
                <p:cNvSpPr/>
                <p:nvPr/>
              </p:nvSpPr>
              <p:spPr>
                <a:xfrm>
                  <a:off x="1884240" y="5903280"/>
                  <a:ext cx="736920" cy="1972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4" name="Freeform 279"/>
                <p:cNvSpPr/>
                <p:nvPr/>
              </p:nvSpPr>
              <p:spPr>
                <a:xfrm>
                  <a:off x="1879560" y="585072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5" name="Freeform 280"/>
                <p:cNvSpPr/>
                <p:nvPr/>
              </p:nvSpPr>
              <p:spPr>
                <a:xfrm flipV="1" rot="21211800">
                  <a:off x="2599200" y="585936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6" name="TextBox 276"/>
              <p:cNvSpPr/>
              <p:nvPr/>
            </p:nvSpPr>
            <p:spPr>
              <a:xfrm>
                <a:off x="1501920" y="584352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0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77" name="Straight Arrow Connector 15"/>
            <p:cNvCxnSpPr/>
            <p:nvPr/>
          </p:nvCxnSpPr>
          <p:spPr>
            <a:xfrm flipV="1">
              <a:off x="2149920" y="6132240"/>
              <a:ext cx="613080" cy="108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78" name="Group 22"/>
          <p:cNvGrpSpPr/>
          <p:nvPr/>
        </p:nvGrpSpPr>
        <p:grpSpPr>
          <a:xfrm>
            <a:off x="3621240" y="5775480"/>
            <a:ext cx="1493640" cy="358560"/>
            <a:chOff x="3621240" y="5775480"/>
            <a:chExt cx="1493640" cy="358560"/>
          </a:xfrm>
        </p:grpSpPr>
        <p:grpSp>
          <p:nvGrpSpPr>
            <p:cNvPr id="5979" name="Group 13"/>
            <p:cNvGrpSpPr/>
            <p:nvPr/>
          </p:nvGrpSpPr>
          <p:grpSpPr>
            <a:xfrm>
              <a:off x="3621240" y="5775480"/>
              <a:ext cx="1493640" cy="307080"/>
              <a:chOff x="3621240" y="5775480"/>
              <a:chExt cx="1493640" cy="307080"/>
            </a:xfrm>
          </p:grpSpPr>
          <p:grpSp>
            <p:nvGrpSpPr>
              <p:cNvPr id="5980" name="Group 11"/>
              <p:cNvGrpSpPr/>
              <p:nvPr/>
            </p:nvGrpSpPr>
            <p:grpSpPr>
              <a:xfrm>
                <a:off x="3998880" y="5782680"/>
                <a:ext cx="820440" cy="262440"/>
                <a:chOff x="3998880" y="5782680"/>
                <a:chExt cx="820440" cy="262440"/>
              </a:xfrm>
            </p:grpSpPr>
            <p:sp>
              <p:nvSpPr>
                <p:cNvPr id="5981" name="Rectangle 267"/>
                <p:cNvSpPr/>
                <p:nvPr/>
              </p:nvSpPr>
              <p:spPr>
                <a:xfrm>
                  <a:off x="4044600" y="5785560"/>
                  <a:ext cx="738720" cy="1962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2" name="Rectangle 8"/>
                <p:cNvSpPr/>
                <p:nvPr/>
              </p:nvSpPr>
              <p:spPr>
                <a:xfrm>
                  <a:off x="4003560" y="5835240"/>
                  <a:ext cx="736920" cy="1976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3" name="Freeform 9"/>
                <p:cNvSpPr/>
                <p:nvPr/>
              </p:nvSpPr>
              <p:spPr>
                <a:xfrm>
                  <a:off x="3998880" y="578268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4" name="Freeform 269"/>
                <p:cNvSpPr/>
                <p:nvPr/>
              </p:nvSpPr>
              <p:spPr>
                <a:xfrm flipV="1" rot="21211800">
                  <a:off x="4718520" y="5792040"/>
                  <a:ext cx="87120" cy="24876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85" name="TextBox 12"/>
              <p:cNvSpPr/>
              <p:nvPr/>
            </p:nvSpPr>
            <p:spPr>
              <a:xfrm>
                <a:off x="3621240" y="577548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86" name="Straight Arrow Connector 286"/>
            <p:cNvCxnSpPr/>
            <p:nvPr/>
          </p:nvCxnSpPr>
          <p:spPr>
            <a:xfrm flipV="1">
              <a:off x="4483080" y="5949360"/>
              <a:ext cx="458280" cy="18504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87" name="Group 28"/>
          <p:cNvGrpSpPr/>
          <p:nvPr/>
        </p:nvGrpSpPr>
        <p:grpSpPr>
          <a:xfrm>
            <a:off x="2333160" y="4533840"/>
            <a:ext cx="3983400" cy="379080"/>
            <a:chOff x="2333160" y="4533840"/>
            <a:chExt cx="3983400" cy="379080"/>
          </a:xfrm>
        </p:grpSpPr>
        <p:grpSp>
          <p:nvGrpSpPr>
            <p:cNvPr id="5988" name="Group 27"/>
            <p:cNvGrpSpPr/>
            <p:nvPr/>
          </p:nvGrpSpPr>
          <p:grpSpPr>
            <a:xfrm>
              <a:off x="3508200" y="4533840"/>
              <a:ext cx="1493640" cy="307080"/>
              <a:chOff x="3508200" y="4533840"/>
              <a:chExt cx="1493640" cy="307080"/>
            </a:xfrm>
          </p:grpSpPr>
          <p:sp>
            <p:nvSpPr>
              <p:cNvPr id="5989" name="Rectangle 297"/>
              <p:cNvSpPr/>
              <p:nvPr/>
            </p:nvSpPr>
            <p:spPr>
              <a:xfrm>
                <a:off x="3906360" y="4547880"/>
                <a:ext cx="736560" cy="1954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0" name="Rectangle 298"/>
              <p:cNvSpPr/>
              <p:nvPr/>
            </p:nvSpPr>
            <p:spPr>
              <a:xfrm>
                <a:off x="3863160" y="4597920"/>
                <a:ext cx="737280" cy="196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1" name="Freeform 299"/>
              <p:cNvSpPr/>
              <p:nvPr/>
            </p:nvSpPr>
            <p:spPr>
              <a:xfrm>
                <a:off x="3859200" y="4545000"/>
                <a:ext cx="784080" cy="53640"/>
              </a:xfrm>
              <a:custGeom>
                <a:avLst/>
                <a:gdLst/>
                <a:ahLst/>
                <a:rect l="l" t="t" r="r" b="b"/>
                <a:pathLst>
                  <a:path w="1223105" h="93730">
                    <a:moveTo>
                      <a:pt x="0" y="89042"/>
                    </a:moveTo>
                    <a:lnTo>
                      <a:pt x="70293" y="0"/>
                    </a:lnTo>
                    <a:lnTo>
                      <a:pt x="1223105" y="4687"/>
                    </a:lnTo>
                    <a:lnTo>
                      <a:pt x="1143439" y="93730"/>
                    </a:lnTo>
                    <a:lnTo>
                      <a:pt x="0" y="8904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2" name="Freeform 300"/>
              <p:cNvSpPr/>
              <p:nvPr/>
            </p:nvSpPr>
            <p:spPr>
              <a:xfrm flipV="1" rot="21211800">
                <a:off x="4578840" y="4553280"/>
                <a:ext cx="87120" cy="249120"/>
              </a:xfrm>
              <a:custGeom>
                <a:avLst/>
                <a:gdLst/>
                <a:ahLst/>
                <a:rect l="l" t="t" r="r" b="b"/>
                <a:pathLst>
                  <a:path w="136342" h="891908">
                    <a:moveTo>
                      <a:pt x="36019" y="731496"/>
                    </a:moveTo>
                    <a:lnTo>
                      <a:pt x="0" y="1"/>
                    </a:lnTo>
                    <a:lnTo>
                      <a:pt x="100909" y="172120"/>
                    </a:lnTo>
                    <a:lnTo>
                      <a:pt x="136342" y="891907"/>
                    </a:lnTo>
                    <a:lnTo>
                      <a:pt x="36019" y="731496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3" name="TextBox 296"/>
              <p:cNvSpPr/>
              <p:nvPr/>
            </p:nvSpPr>
            <p:spPr>
              <a:xfrm>
                <a:off x="3508200" y="453384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E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94" name="Straight Arrow Connector 294"/>
            <p:cNvCxnSpPr/>
            <p:nvPr/>
          </p:nvCxnSpPr>
          <p:spPr>
            <a:xfrm flipH="1" flipV="1">
              <a:off x="3800160" y="4905360"/>
              <a:ext cx="698400" cy="79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995" name="Straight Arrow Connector 25"/>
            <p:cNvCxnSpPr/>
            <p:nvPr/>
          </p:nvCxnSpPr>
          <p:spPr>
            <a:xfrm flipH="1">
              <a:off x="2333160" y="4839120"/>
              <a:ext cx="3983760" cy="10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5996" name="Group 32"/>
          <p:cNvGrpSpPr/>
          <p:nvPr/>
        </p:nvGrpSpPr>
        <p:grpSpPr>
          <a:xfrm>
            <a:off x="871920" y="6161040"/>
            <a:ext cx="1220040" cy="461520"/>
            <a:chOff x="871920" y="6161040"/>
            <a:chExt cx="1220040" cy="461520"/>
          </a:xfrm>
        </p:grpSpPr>
        <p:sp>
          <p:nvSpPr>
            <p:cNvPr id="5997" name="TextBox 29"/>
            <p:cNvSpPr/>
            <p:nvPr/>
          </p:nvSpPr>
          <p:spPr>
            <a:xfrm>
              <a:off x="871920" y="63154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P data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8" name="Straight Connector 31"/>
            <p:cNvSpPr/>
            <p:nvPr/>
          </p:nvSpPr>
          <p:spPr>
            <a:xfrm flipH="1">
              <a:off x="1784160" y="6161040"/>
              <a:ext cx="27468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9" name="Group 33"/>
          <p:cNvGrpSpPr/>
          <p:nvPr/>
        </p:nvGrpSpPr>
        <p:grpSpPr>
          <a:xfrm>
            <a:off x="4510440" y="3995640"/>
            <a:ext cx="1665000" cy="515880"/>
            <a:chOff x="4510440" y="3995640"/>
            <a:chExt cx="1665000" cy="515880"/>
          </a:xfrm>
        </p:grpSpPr>
        <p:sp>
          <p:nvSpPr>
            <p:cNvPr id="6000" name="TextBox 312"/>
            <p:cNvSpPr/>
            <p:nvPr/>
          </p:nvSpPr>
          <p:spPr>
            <a:xfrm>
              <a:off x="4510440" y="399564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CP ACK seg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1" name="Straight Connector 313"/>
            <p:cNvSpPr/>
            <p:nvPr/>
          </p:nvSpPr>
          <p:spPr>
            <a:xfrm flipH="1">
              <a:off x="4632480" y="4270680"/>
              <a:ext cx="274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FA73F43-579B-4F01-9AA4-7CE707B6C0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4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5478480" y="1839600"/>
            <a:ext cx="333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network layer chap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9F045D-3EB5-4525-B6F7-AF4C4A14F3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340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7324065-92DA-470D-B47A-A7308F72CF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305F495-4CB3-4A96-B19E-8A231E97E7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A9B1310-01CD-4C28-8564-9A28693D43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687153B-3089-44F4-907F-44E07EDF98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4917CFF-5CCB-4315-97EB-9CBB4D3719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680C2E7-4987-465E-9BF8-898658E524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8A77C72-251E-4F3E-8358-5C9320ED9B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D3CD8C5-A8E9-499B-A282-B8FB8F67B6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3D6FF9-A3FA-4601-989F-02AE556464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1E41A91-A587-40B6-8679-55286FC80C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5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37EBF2C-62C8-428F-B616-1DD8FBF54B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8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2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3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FB31B58-D425-41C3-9489-E758F20F74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7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B366766-C6A0-4F22-9BA1-04E8EE00C0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5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7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8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BB36FD0-3C11-42A1-9AC4-CFCDC7D2EE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1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3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6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7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8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9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1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2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3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6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7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8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9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0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1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2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3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4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76BDFF2-38FF-434F-A19E-9A579570D0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9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6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2511DAA-6DD5-49F5-9275-6D95E5CD74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9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9BDD7B2-F98C-4F8D-B632-3DE21A8588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4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B66BDDD-5661-48DF-B87E-4FE4C3658D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1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2EC4DFA-EC8D-4994-82E2-ED86F317E1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4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6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2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5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6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8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0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1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3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E635C3F-45FD-4553-86E3-E9EBB4BD8B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C166E66-D7AC-4EA4-A372-EBC18A3ADB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2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C3B8C0F-F47C-4800-ABB9-F3910BADAE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2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F34E442-B9C7-445C-9828-C58084B48C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8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9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900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9673EF4-529D-458D-B5E2-8281A99CD1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8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6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8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6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7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40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2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6BAE687-6DB0-44CC-9D63-2BD5E59E0D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7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9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8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9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1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7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78392AE-540C-41A5-8120-A0CF3DBF54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4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61B746A-FA67-45D9-8997-E78C666F65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0040" indent="-227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FF3503D-8BD5-465F-9B56-DD23E9A188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2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4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5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6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8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/>
              <a:ahLst/>
              <a:rect l="l" t="t" r="r" b="b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/>
              <a:ahLst/>
              <a:rect l="l" t="t" r="r" b="b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/>
              <a:ahLst/>
              <a:rect l="l" t="t" r="r" b="b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9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0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1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3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4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5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6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7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8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9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20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1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2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/>
                <a:ahLst/>
                <a:rect l="l" t="t" r="r" b="b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/>
                <a:ahLst/>
                <a:rect l="l" t="t" r="r" b="b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/>
                <a:ahLst/>
                <a:rect l="l" t="t" r="r" b="b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0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87BA493-EB26-4C54-9744-E35711E10C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6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29E47F2-98FA-4698-B3F3-E89ABDBE85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0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4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5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6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7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1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2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80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2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3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4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5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6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3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8A28D40-9089-44BE-8244-B233B53268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81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59980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1000" y="310032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925A466-38D2-4E50-B3C6-AD3CEF0C0D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9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10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1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2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3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4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5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6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7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8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9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0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1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2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3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4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5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6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7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2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3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4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5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6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7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8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9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0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1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3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4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5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6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7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8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1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2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3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6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7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8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9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70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3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BBA2A30-9774-4E94-888A-057AD76CC9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7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1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2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4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7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8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0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1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2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3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4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5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6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7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8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9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10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1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2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3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4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8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9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1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2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3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5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6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8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1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2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4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2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3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4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5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6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7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8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9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50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2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3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4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5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6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7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8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9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60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2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3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4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5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7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8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9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1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2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3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4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5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6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7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8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9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0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1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2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3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4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5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7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8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9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90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2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F899092-CBC5-4A49-A1C4-D826886A0C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8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1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2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3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4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5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8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9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2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3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5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35C0C27-D207-4C1A-A2C2-ABE6B7D40F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0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3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4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5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6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8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4308B73-4A48-4DF1-A864-ED89ADC6B2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2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6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7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8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9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60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1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2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/>
            <a:ahLst/>
            <a:rect l="l" t="t" r="r" b="b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3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4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5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6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7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8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9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4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5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6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7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8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9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1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2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3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4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6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7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8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9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0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0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1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2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7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8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9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0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1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2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3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4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6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7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8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9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0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1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3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3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F60BFF3-6DBF-4066-A26C-887E679355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6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8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8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9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1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2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3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4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6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0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1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3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4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5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6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8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9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0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1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2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3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4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5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6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3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4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86B670A-7E36-4EDC-ACFE-C8C2B4E31D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7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D699992-F952-4653-8318-0430BB6923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5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6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408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8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FB82F7-3231-47D5-AF35-525D13E043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2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3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4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5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4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B05A879-8905-45B5-9651-C14ABAF4E1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8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0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3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CFBFEEC-FACB-4A1D-9B0B-3F240CC0FE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89DA530-6B05-4F95-B774-8F6AC98666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3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4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7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8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0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1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9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90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2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3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4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6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7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9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600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2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4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5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7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8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1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2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3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4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6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7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9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20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D0B642A-B11F-460F-900C-F89DEF1707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8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951C16E-70CE-44F0-926E-6F2D51AB95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4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7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BDB4D68-78CC-45FF-923A-7C9238BA7B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0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4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5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6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7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9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50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1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C0F57A4-632D-4572-BBA8-3450F98C82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4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2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6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7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9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0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5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6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7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8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0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1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2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3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4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5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6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7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9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1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2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4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5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6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7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8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9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0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1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2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3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4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5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6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5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BFC0D82-41CF-4CCD-9BCA-D8FD1FB14C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0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1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2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3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4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5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6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7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8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9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0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5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6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7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8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9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6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8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9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0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1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2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3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4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5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6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7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8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9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800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2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3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4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5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7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9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E9559C2-ABED-49D3-890E-96835F3B66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5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A04FF77-8168-4973-9A58-D1A8BEA980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r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1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0602491-84AB-4835-8D0C-6DDD2A99C3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4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AE7568C-474D-4C84-8F9B-E359829305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0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3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4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5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6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1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2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3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4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5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6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7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7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8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9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0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1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2" name="Line 102"/>
            <p:cNvSpPr/>
            <p:nvPr/>
          </p:nvSpPr>
          <p:spPr>
            <a:xfrm flipV="1">
              <a:off x="566892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3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4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5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6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7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2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3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4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636C5A2-C0D6-4A57-84BC-89C4621620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03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20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1000" y="298944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A63E809-D317-4580-8535-DEF5B9638A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7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8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1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5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6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7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9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10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1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19EEFE5-219B-4E74-8C7D-0DC135AED1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4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3E0D9A6-B06D-4278-916A-CF524D5665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0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1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2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3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4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5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7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3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4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5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6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164BAEA-AA2C-4E5D-9D1D-5DE6C647DE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9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0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1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8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9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  <p:sp>
        <p:nvSpPr>
          <p:cNvPr id="3050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6A0BB4C-2A10-4B2E-B44A-073EE4B0A9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E8716A2-640B-4AC5-BE9E-0B0D7306F1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2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4103178-A231-4C52-B392-F4FDB17DAC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8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6ED6110-0AC3-4D3E-A5B1-2C7A6C7234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1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2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0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81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2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3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4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5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6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7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8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9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0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1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2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3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BE19D0-EAF4-4666-BB07-C65BFA1A1C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8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7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8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9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0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21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2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3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9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1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2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3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4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0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1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2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3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4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5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6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7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8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9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0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1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2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3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4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5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6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0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61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2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3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4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5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7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8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0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71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2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DAEABBC-213C-4AC9-9BA6-BA7BBCA5DC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6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3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5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6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7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8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2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3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4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5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6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7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8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9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0" name="Line 62"/>
              <p:cNvSpPr/>
              <p:nvPr/>
            </p:nvSpPr>
            <p:spPr>
              <a:xfrm flipH="1">
                <a:off x="1086840" y="4838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01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2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3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4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5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6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7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8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9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10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11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2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3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4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5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CC9CAB4-C013-4C11-95B1-10625A72C7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7A241A1-3BF3-422E-9958-1FA4B91E8B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9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0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1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2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3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5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8100D52-3DF2-4DF9-8908-6DAFDB33B5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5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884FE1D-845B-4454-9FEF-F2F03890C9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4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5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6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7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8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9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0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61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2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3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4" name="Line 55"/>
              <p:cNvSpPr/>
              <p:nvPr/>
            </p:nvSpPr>
            <p:spPr>
              <a:xfrm>
                <a:off x="288756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5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6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7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8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9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70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1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2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3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4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6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7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9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1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2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3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4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5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068EF55-6AE8-48F4-9B00-5F72EFADBD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929963A-961F-46F9-AEC1-C5F83F25FF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6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8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9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0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301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2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3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8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9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0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11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3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4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5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6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7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8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9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0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2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4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5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6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7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8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3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4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5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6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7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8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9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40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1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2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3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4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5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6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7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D329266-6614-4D25-9BE4-3650BE8361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51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2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3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4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6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7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8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4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5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6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6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CE82C84-E822-4838-B771-C479098138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45F349A-0E7F-4C0E-ACC8-D68E9FFD71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7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8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9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2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3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4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5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7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8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9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8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0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11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3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4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5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4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5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6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7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8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1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2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3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4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5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6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7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8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9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0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1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2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3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4" name="AutoShape 109"/>
              <p:cNvSpPr/>
              <p:nvPr/>
            </p:nvSpPr>
            <p:spPr>
              <a:xfrm>
                <a:off x="8252640" y="5241600"/>
                <a:ext cx="16200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5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6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7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8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9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8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9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0B6EF45-C6C4-4837-AAE4-D591A5AB38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5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3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4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5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0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2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3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4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5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6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7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8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1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2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3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4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5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6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7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8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9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0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1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2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3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4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5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6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7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8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9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8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9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76C8B0C-CCCF-4A40-A807-414650E3C5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2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4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6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7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8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0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1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2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3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4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5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6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7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9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0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1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2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/>
              <a:ahLst/>
              <a:rect l="l" t="t" r="r" b="b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1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2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3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4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2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3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4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5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6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7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8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9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80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81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4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5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6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7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8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9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0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91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2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3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4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5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6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7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8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9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600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1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2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1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2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3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4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5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6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7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8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9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0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3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4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5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6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7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8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9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40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1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2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3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6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7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8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9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0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1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2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3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4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5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6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7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8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9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0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1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2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3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4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3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4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B1E16C5-F081-4D6F-AB81-9009C367A1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624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/>
              <a:ahLst/>
              <a:rect l="l" t="t" r="r" b="b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556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3C080B-E784-4E69-88FE-3A56558CDE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7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9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0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81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3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4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5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6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7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8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0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1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2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3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6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7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8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9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0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1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2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3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4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5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6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7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8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9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1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2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3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4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5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6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7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0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1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2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3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4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5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6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7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8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9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0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1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2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3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4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5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6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7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8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7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8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C6CCC2E-E394-4CB0-AF95-D7D9C65039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2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3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4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5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6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7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8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9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0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1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2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3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4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5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6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7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8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9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0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71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2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3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/>
            <a:ahLst/>
            <a:rect l="l" t="t" r="r" b="b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1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B4A5FDE-7FE0-43A5-8130-7BDC848B53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5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06B5188-1E08-465E-BA33-DFB1FAD6FD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0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801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2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3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4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5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6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7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8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9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10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1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2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3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4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5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6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7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8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1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2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3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4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5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6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7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8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9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0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1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2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3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5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9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0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2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3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4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5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6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9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0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1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5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6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8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9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2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3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4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5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6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7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8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9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0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1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2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3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4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5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6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7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8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9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0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9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0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4130A7F-B15E-4F1D-B67A-AD93197611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CF001C0-F0C8-42BD-A473-1506FE9214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0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608728D-185E-4819-A357-A72DD66F4C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4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5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6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7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8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9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1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5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0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1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2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3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4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5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6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7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8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9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1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2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3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7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8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9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2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3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7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8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9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2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3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4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5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9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0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1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2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6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7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8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2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4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5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4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5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6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7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/>
            <a:ahLst/>
            <a:rect l="l" t="t" r="r" b="b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8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9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/>
              <a:ahLst/>
              <a:rect l="l" t="t" r="r" b="b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Text Box 102"/>
            <p:cNvSpPr/>
            <p:nvPr/>
          </p:nvSpPr>
          <p:spPr>
            <a:xfrm rot="16200000">
              <a:off x="165996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8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9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0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4001" name="Line 109"/>
            <p:cNvSpPr/>
            <p:nvPr/>
          </p:nvSpPr>
          <p:spPr>
            <a:xfrm>
              <a:off x="578592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Line 110"/>
            <p:cNvSpPr/>
            <p:nvPr/>
          </p:nvSpPr>
          <p:spPr>
            <a:xfrm flipV="1">
              <a:off x="5776200" y="5439960"/>
              <a:ext cx="14688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1"/>
            <p:cNvSpPr/>
            <p:nvPr/>
          </p:nvSpPr>
          <p:spPr>
            <a:xfrm>
              <a:off x="692316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Freeform 112"/>
            <p:cNvSpPr/>
            <p:nvPr/>
          </p:nvSpPr>
          <p:spPr>
            <a:xfrm>
              <a:off x="5779440" y="4000680"/>
              <a:ext cx="1151640" cy="1436400"/>
            </a:xfrm>
            <a:custGeom>
              <a:avLst/>
              <a:gdLst/>
              <a:ahLst/>
              <a:rect l="l" t="t" r="r" b="b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Line 114"/>
            <p:cNvSpPr/>
            <p:nvPr/>
          </p:nvSpPr>
          <p:spPr>
            <a:xfrm>
              <a:off x="691992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6"/>
            <p:cNvSpPr/>
            <p:nvPr/>
          </p:nvSpPr>
          <p:spPr>
            <a:xfrm>
              <a:off x="671004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7" name="Text Box 117"/>
            <p:cNvSpPr/>
            <p:nvPr/>
          </p:nvSpPr>
          <p:spPr>
            <a:xfrm rot="16200000">
              <a:off x="5177880" y="4683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8" name="Text Box 118"/>
            <p:cNvSpPr/>
            <p:nvPr/>
          </p:nvSpPr>
          <p:spPr>
            <a:xfrm>
              <a:off x="619416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9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0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11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4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5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6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7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8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9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0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21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2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3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4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5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6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7" name="AutoShape 144"/>
              <p:cNvSpPr/>
              <p:nvPr/>
            </p:nvSpPr>
            <p:spPr>
              <a:xfrm>
                <a:off x="8791200" y="265320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8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9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30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1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2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1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2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3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4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6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7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0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1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2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3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4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5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6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7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8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9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0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1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2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3" name="AutoShape 180"/>
              <p:cNvSpPr/>
              <p:nvPr/>
            </p:nvSpPr>
            <p:spPr>
              <a:xfrm>
                <a:off x="8474040" y="361836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4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5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6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7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8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7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8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0DF66DB-FCDA-48DA-8BB8-5E8F6CFDE9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1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2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3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5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8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3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4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5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6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7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8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2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4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5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1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4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5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9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0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1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5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6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7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8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2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3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4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5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9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0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1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5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6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1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2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3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0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1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2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3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4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5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6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7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8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9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2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3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4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5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6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7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8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9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0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1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2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3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4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5" name="AutoShape 273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6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7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8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9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0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9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0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1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2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5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6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7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8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9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0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1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2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3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4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5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6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7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8" name="AutoShape 306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9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20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21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2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3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2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3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4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5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6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81C7497-BD57-425F-B584-0B81894810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9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0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41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2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3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5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7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1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2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3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4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5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6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7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1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2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3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4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8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9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0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2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3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7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8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9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2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4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5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9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0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1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2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6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7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8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0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2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3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8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9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10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0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2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3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/>
              <a:ahLst/>
              <a:rect l="l" t="t" r="r" b="b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Text Box 286"/>
            <p:cNvSpPr/>
            <p:nvPr/>
          </p:nvSpPr>
          <p:spPr>
            <a:xfrm rot="16200000">
              <a:off x="4988880" y="176112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2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3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4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6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7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8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9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2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3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4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5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6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7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8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9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0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1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2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3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4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5" name="AutoShape 327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6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7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8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9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60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9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0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1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2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5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6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7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8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9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0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1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2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3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4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5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6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7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8" name="AutoShape 360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9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90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91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2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3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2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3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4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5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6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4567ED8-011F-4D2D-8038-04DE8E1284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0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11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2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3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4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8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9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0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21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4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7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8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9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30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4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5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5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8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0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5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6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9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0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1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2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3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4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5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6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7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8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9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0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11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2" name="AutoShape 276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3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4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5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6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7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6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7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8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9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2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3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4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5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6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7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8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9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0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1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2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3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4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5" name="AutoShape 309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6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7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8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9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0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9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0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1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2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5C4CD26-E1FA-4E52-A8C6-5F4E14BFEB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1738AC5-7C09-4157-BBD7-E2BC5E68A3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6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7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8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9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70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71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5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7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8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9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0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1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6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7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1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2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3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4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5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6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0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1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2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6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7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8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2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3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4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5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9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0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1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2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3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4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5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0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1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2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1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2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3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6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7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2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3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/>
              <a:ahLst/>
              <a:rect l="l" t="t" r="r" b="b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4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5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6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7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1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2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3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8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9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2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3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4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5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6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7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8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9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0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1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2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3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4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5" name="AutoShape 298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6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7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8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9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90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9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0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1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2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5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6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7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8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9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0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1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2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3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4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5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6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7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8" name="AutoShape 331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9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0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21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2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3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2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3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4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5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6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9A22214-10A0-4FEA-93B3-CA18EA0F5B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9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0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41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2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3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7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8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9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50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1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2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3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6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7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8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9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3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4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5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8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6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8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9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0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1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2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3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6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7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8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9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0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1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2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3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4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6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7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8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3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4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6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7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0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1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2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3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4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5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6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7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8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9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0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1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2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3" name="AutoShape 305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4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5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6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7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8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7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8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9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80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3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4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5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6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7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8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9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90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1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2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3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4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5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6" name="AutoShape 338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7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8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9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0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01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0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1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2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3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4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65916F3-9909-4293-ABB1-7A5BD7F3CA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0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1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2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3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5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6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7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04280" indent="-134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9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0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1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2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3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4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6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49736D9-3FEC-4E52-B70A-ECF5EBACD8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2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4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6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7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8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9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3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4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5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6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7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8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2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3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4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/>
            <a:ahLst/>
            <a:rect l="l" t="t" r="r" b="b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/>
            <a:ahLst/>
            <a:rect l="l" t="t" r="r" b="b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/>
            <a:ahLst/>
            <a:rect l="l" t="t" r="r" b="b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/>
            <a:ahLst/>
            <a:rect l="l" t="t" r="r" b="b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/>
            <a:ahLst/>
            <a:rect l="l" t="t" r="r" b="b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/>
            <a:ahLst/>
            <a:rect l="l" t="t" r="r" b="b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/>
            <a:ahLst/>
            <a:rect l="l" t="t" r="r" b="b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/>
            <a:ahLst/>
            <a:rect l="l" t="t" r="r" b="b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/>
            <a:ahLst/>
            <a:rect l="l" t="t" r="r" b="b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/>
            <a:ahLst/>
            <a:rect l="l" t="t" r="r" b="b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/>
            <a:ahLst/>
            <a:rect l="l" t="t" r="r" b="b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/>
            <a:ahLst/>
            <a:rect l="l" t="t" r="r" b="b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/>
            <a:ahLst/>
            <a:rect l="l" t="t" r="r" b="b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/>
            <a:ahLst/>
            <a:rect l="l" t="t" r="r" b="b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/>
            <a:ahLst/>
            <a:rect l="l" t="t" r="r" b="b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/>
            <a:ahLst/>
            <a:rect l="l" t="t" r="r" b="b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/>
            <a:ahLst/>
            <a:rect l="l" t="t" r="r" b="b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/>
            <a:ahLst/>
            <a:rect l="l" t="t" r="r" b="b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/>
            <a:ahLst/>
            <a:rect l="l" t="t" r="r" b="b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/>
            <a:ahLst/>
            <a:rect l="l" t="t" r="r" b="b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/>
            <a:ahLst/>
            <a:rect l="l" t="t" r="r" b="b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/>
            <a:ahLst/>
            <a:rect l="l" t="t" r="r" b="b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/>
            <a:ahLst/>
            <a:rect l="l" t="t" r="r" b="b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/>
            <a:ahLst/>
            <a:rect l="l" t="t" r="r" b="b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/>
            <a:ahLst/>
            <a:rect l="l" t="t" r="r" b="b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/>
            <a:ahLst/>
            <a:rect l="l" t="t" r="r" b="b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/>
            <a:ahLst/>
            <a:rect l="l" t="t" r="r" b="b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4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/>
            <a:ahLst/>
            <a:rect l="l" t="t" r="r" b="b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/>
            <a:ahLst/>
            <a:rect l="l" t="t" r="r" b="b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6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7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1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2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3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4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8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9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0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2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3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4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5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9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0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31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2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3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4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5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6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7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8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9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40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5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6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7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8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9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0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1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6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7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8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9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0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1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2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3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4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5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6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7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2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3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4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1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2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3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4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5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6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7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8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9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0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1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2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7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8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9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3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4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5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6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7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8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9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10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1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2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3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4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5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0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1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2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3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4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5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6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7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8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9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0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1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2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3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4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6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1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2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3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4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7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8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9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50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1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2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3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4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5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6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7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8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9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0" name="AutoShape 375"/>
              <p:cNvSpPr/>
              <p:nvPr/>
            </p:nvSpPr>
            <p:spPr>
              <a:xfrm>
                <a:off x="7527600" y="436932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1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2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3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4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5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4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5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6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7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0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1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2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3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4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5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6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7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8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9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0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1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2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3" name="AutoShape 408"/>
              <p:cNvSpPr/>
              <p:nvPr/>
            </p:nvSpPr>
            <p:spPr>
              <a:xfrm>
                <a:off x="7048440" y="622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4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5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6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7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8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7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8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9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10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3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4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5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6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7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8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9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20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1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2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3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4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5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6" name="AutoShape 441"/>
              <p:cNvSpPr/>
              <p:nvPr/>
            </p:nvSpPr>
            <p:spPr>
              <a:xfrm>
                <a:off x="495000" y="6063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7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8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9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0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31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0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1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2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3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6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7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8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9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0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1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2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3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4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5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6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7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8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9" name="AutoShape 474"/>
              <p:cNvSpPr/>
              <p:nvPr/>
            </p:nvSpPr>
            <p:spPr>
              <a:xfrm>
                <a:off x="2509560" y="405828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0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61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2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3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4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3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4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87B47D0-289D-40FB-AF34-D5A17DAA61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9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0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1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2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6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7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9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90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4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5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6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8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9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0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301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5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6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7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8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2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3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4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5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9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0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1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2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3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4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5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6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7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8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9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30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5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6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7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8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9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0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1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5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6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7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8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9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0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1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2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3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4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5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6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1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2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3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0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1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2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3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4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5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6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7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8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9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0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81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6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7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8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2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3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4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5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6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7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8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9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0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1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2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3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4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9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0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11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2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3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4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5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6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7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8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9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0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21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2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3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5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/>
            <a:ahLst/>
            <a:rect l="l" t="t" r="r" b="b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2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6F8E967-3114-4BFC-90E7-E4E27EF96C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D12FF3B-54DF-4520-A480-95CC3A9529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45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45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46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/>
            <a:ahLst/>
            <a:rect l="l" t="t" r="r" b="b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/>
            <a:ahLst/>
            <a:rect l="l" t="t" r="r" b="b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/>
            <a:ahLst/>
            <a:rect l="l" t="t" r="r" b="b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/>
            <a:ahLst/>
            <a:rect l="l" t="t" r="r" b="b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3A00468-37D7-46C0-A8B0-1AD49BBB4B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52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523" name="Line 66"/>
            <p:cNvSpPr/>
            <p:nvPr/>
          </p:nvSpPr>
          <p:spPr>
            <a:xfrm flipH="1">
              <a:off x="1736280" y="178344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4" name="Line 67"/>
            <p:cNvSpPr/>
            <p:nvPr/>
          </p:nvSpPr>
          <p:spPr>
            <a:xfrm flipV="1">
              <a:off x="173880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2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52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3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53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3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53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2CDA617-2FD9-43BC-9F07-32964AB283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55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6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56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57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7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7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57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8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58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8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58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8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59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59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0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0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0186C05-C976-4A5A-9437-56466190B4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Jacoby, Meghan M</cp:lastModifiedBy>
  <cp:lastPrinted>2000-04-27T09:23:27Z</cp:lastPrinted>
  <dcterms:modified xsi:type="dcterms:W3CDTF">2017-10-30T19:56:46Z</dcterms:modified>
  <cp:revision>286</cp:revision>
  <dc:subject/>
  <dc:title>3rd Edition: Chapter 3</dc:title>
</cp:coreProperties>
</file>