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3FE4BE-BA1F-47C9-9AF5-8DB6B73F1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93E24-AD9D-4CDE-B9DC-36EAA0767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97A61D-24D1-4916-AE3B-16EC4555D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BBDC7D-3973-4C91-B778-5D7946D68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07A20-4A29-482A-AC9C-BB17FBB1D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E6E8D-6154-415D-A432-BC30BA4FB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28CE2-587D-4367-B948-70AEEC1B9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D7911-EBB7-469A-9591-127759A4A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95268-B87D-4DB1-A953-9E03CFE1E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346BD-C6C8-416A-BC7D-A06D00E25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E9537-3BBE-4A3F-B361-6694C8400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A9B455-BA5C-41C1-B1DC-341035144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44FC1-D686-47EF-9BC1-58EA2F8DB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25547-D082-46B4-BBB0-6E3AE3A2B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1725E-A59A-4532-84E1-DC3D1984E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A65C1-34C1-4E09-BB52-E349A49E4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92FC5-3C01-4BC4-BDC2-B9BDC6C9C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BCAD6F-DF78-4F83-ACE9-3DCF2215F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277195-9280-4530-A8DA-280334F0F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FAE999-B971-4994-B7FA-F8CADAED3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719BED-D84A-479C-B222-ADD38BC39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C4C2EF-A7D3-42AC-998F-8D9EE6CB3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2C4253-3AF8-4606-AD91-5AF7CD6C3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5C2C1C-54AE-4DF5-87A4-7530E875A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2852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5 Role-Playing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E0D4A-4E45-4DFB-A855-21D4A7783037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66DE7-BD23-4178-B479-15DDEE775B00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8DABC-B9DE-4175-880A-8E64C417F2E2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5: Role-Playing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play mod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xploration and combat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a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tions include setting a destination, designating an NPC to attack, and using special skil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versatio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u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s dialog tre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ad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uy and sell ite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ventory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m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nage carried obj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4B015A-93D6-45D5-A82A-69BC9EE5A42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7DA2172-7442-4350-9170-863F261DFC0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olling dice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  <a:ea typeface="Arial"/>
              </a:rPr>
              <a:t>—k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ow the probabilities to get the result you wa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 attribut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racterization attribute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d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termine general abilities and qualities; change infrequently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a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ex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haracter clas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hysical, mental, moral, and social attribut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23B6A0-BAD5-46A1-903A-EF5D1954BED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C1E2019-8E08-4F0C-8B7E-D31E83C9492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 attribut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atus attributes, experience, and character lev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ttributes that change frequent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xperience points and character level  measure the character’s growt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smetic attributes add richness to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625324-25F7-41A5-8C1C-8836EBBF0A2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5F175A2-B462-40BC-9423-9E645778DDC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gic and its equival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cept that allows characters to influence the world by means not available to us in real lif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cience fiction implements magic as “advanced technology”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of magic restricted by character cla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e magic, how it’s invoked, how it’s limit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can often spend magic points, called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man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mana system is more convenient and flexible than the D&amp;D “memorization” syste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822748-A2A2-49EC-B619-35EF1763BF1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2554837-D83A-46CE-9692-5EED080DD05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kills and special capabiliti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btaining new skills for a character is similar to upgrading a unit in a strategy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kill trees provide a growth path similar to a tech tree in war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CRPGs allow the player to create the charact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oll dice to generate points to distribute among character attribu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5088AF-0DFE-491C-ADB3-AA55A0D21A3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DD89949-2243-4F9E-AEE5-E4DADB7471F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 and Sto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ttin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nd to be fantasy and science fiction setting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st be appealing to explo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me CRPGs provide an editor to enable players to create scripted adventures in the game wor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7C4CF1-D7F0-4BBA-A8EF-F83BA990388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CE8A548-1099-49AA-A015-357EDC98A84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 and Story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rst, determine the game’s overall quest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end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n, design the episodes that the player experiences from the beginning to the e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dd side ques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rite an enticing open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252D16-4A0D-488D-A30B-D31BC1B25827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299D5F9-9E06-44A4-AEA4-46AB251AA1E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on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rty-based in single-player CRP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01880" indent="-3438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vatar-based is becoming more common, howev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-based in multiplayer onlin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rst person or third person for avatar-based mod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erial perspective allows player to see all members of the party at once as well as surrounding terrai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67F590-7323-4BF4-BABA-2B1A6963006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6FFC1B1-A7A3-4470-A7EE-D485C9C7E3D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ide range of action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i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terface can be complex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ide the mechanics to aid the player’s immer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petitive task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instead of making the player try repeatedly, automate the repetition and show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a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progress b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f the character has low skill at the task, it will take a long ti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llow the player to interrupt and abandon the attemp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73FA36-A1D3-47E7-948B-647101F380E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D6D1CD7-6AA4-435F-8EAD-8221A90D8F0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 role-playing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the development of the role-playing game from tabletop to comput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character attribu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fine a world and s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experience points and character lev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fine gameplay modes for RPG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835AD7-A6AE-4DD7-AFCE-A85742D9C48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EC3E4DA-7387-40F5-AF72-4861597BE58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efinition of role-playing games and the game mechanics common to them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history and evolution of role-playing games from tabletop to compute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 character attributes for a role-playing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65B7AE-C446-41D8-955E-B0C20F52129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D0FCB72-8B65-47F1-AD92-1643B47D118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a world and setting suitable for a role-playing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use of experience points and character level for this genr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ifferent gameplay modes within this genr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C2D9FA-33E0-4201-9956-E3CF9C23717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819A0B9-E0C7-4207-A837-644E941FAA8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Role-Playing Games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verview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bjective is to experience a series of adventures in an imaginary world, through an avatar or a small group of characters whose skills and powers grow over ti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ssential parts are the quest or story and character growth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ictory consists of completing the ques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ny players just enjoy exploring and interacting, even without trying to wi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54CB61-4B03-439A-90E5-C6797BEB6DB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A8BA0E7-0D50-44CC-9496-1381A168828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Role-Playing Games?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ny types of challenge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actical comba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gistics (managing supplies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conomic growt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xplor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zzle solv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35D880-6396-42FE-BC45-D25FAFEF11B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FA7A290-315E-4BAE-B566-4670278B755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parisons to Other Gen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PGs and war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oth include combat governed by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PG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ll group of characters who exhibit growth; no factories to produce more un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ar game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l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ge group of identical units; factories produce more un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6B5816-02A4-4ADC-86DA-2FFF0003D44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2429F19-A648-4B90-B2DD-7B44973B2BC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parisons to Other Gen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PGs and action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PG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hysical challenges becoming more common in hybrid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on–action-related activities such as buying and selling as well as conversations with other charact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uzzles more sophisticated than in action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on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hysical challeng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on–action-related activities are rare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74CC8F-798F-4DD5-B38A-893B0A90182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4BBD225-1F44-49D1-88D7-7991957FC37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parisons to Other Genres</a:t>
            </a:r>
            <a:br>
              <a:rPr sz="4200"/>
            </a:b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PGs and adventur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oth have rich storylines, highly detailed characters, and exploration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PG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p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ayer-defined character; characters defined by numeric attributes that improve over time; complex internal econom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dventure game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a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tar provided by the game; concentrate on a single character; puzzle challenges; no numeric attributes; personal growth; simple internal economy (or none at all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1D00DE-1418-4483-8A86-38E4925BA83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7587D14-5DCD-4C55-93A9-2393BE04249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oration and combat make up a big part of most CRP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aving the world is an overused the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y to find an alternative approa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gres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ng quest broken into episod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jor challenge at the end of each epis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ptional side ques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2EE65F-DE00-4D71-AD47-E2CD085AEB6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B0273C3-9F86-4E02-95CB-B4AF917F8B5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7T19:38:35Z</dcterms:modified>
  <cp:revision>280</cp:revision>
  <dc:subject/>
  <dc:title>Fundamentals of Game Design, 2nd Edition - Ch 15</dc:title>
</cp:coreProperties>
</file>