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0C9CC-89CC-4C55-8E82-4E9B8F04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D3506-D9CB-49BC-8E21-0C108B06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819F6-9000-420F-ACA5-21FAECFB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871ED-C8CF-4BB8-941A-60FD07F69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C134-664B-4252-98CA-982DA368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EEFB-EC6A-473B-AFC8-C41953A3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1E1D-2025-4255-B0CA-3DFDB80C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2F90-5D42-4311-BAF8-E62C85D0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0E74-0702-4D89-9467-D7611FAA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F576-2999-49E3-94F2-DAB8B442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C979-99C0-468F-BA4E-284527DF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0C9B8-D48C-46C5-81F6-F7C7588D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A7A6-2CE0-4741-82C1-5DA87865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62D2-1897-4519-82FB-2C1940D2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D619-1EB3-460A-9E96-83244359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C4A8-C687-4D5D-AC6D-3BF33A781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EB5B-B8F3-4A60-9616-427159F8E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0EF2F-B98A-43D5-9379-B49C3A14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7ECAC-32F5-4DA7-A802-6A9F45B1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332D7-65A0-4560-9B61-41595639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FF171-94A5-4CC5-B3E9-8C85B385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DAC75-8DA0-495C-825F-5A474F41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59528-128F-4D27-A109-E37C3D25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9F9A0-6D6E-4D58-9507-94344932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4 Strategy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FBC6-C2F8-4066-9E87-659BF0A0CB55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A893-E1B4-4734-8F30-8306B5671B5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8A38-1F66-473B-8F5C-18E95ADA963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4: Strategy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usually fall into types so that all units of a type share a set of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units will also have special unique capabi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ck-paper-scissors (RPS) model is suited only to simp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not be balanced for complex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take into account battlefield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09A4F-64F4-47D5-8CA7-C75CF49608A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424AB5-84C4-4F77-83E9-56D6EC041D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t mass and velocity (or power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ra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ive dod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rn r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ss and acceler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 of v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rn war games use numeric attributes to describe unit’s abiliti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umeric attributes used more often are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47AA8-CB02-4118-A480-A150E04CC85A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15D49B-D906-48CE-A32B-E5D1BB6C70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capabilities includ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ying or sai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ai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structing buildings and production of mobil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adershi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very special capability you create for one side, you must also create a capability of similar military value for the other side OR a way to defeat the special capabilit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7376B-7276-4D67-B94E-2FB3159D990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68D813-1E65-44B6-934F-643F249D62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96160" indent="-289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ing the relative value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lue based on time and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attack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ack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ng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aximum 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defensive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e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(range</a:t>
            </a:r>
            <a:r>
              <a:rPr b="0" lang="en-US" sz="22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÷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15D37-865D-45C5-AE77-3813E02AD33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F61994-3DAB-4D9E-8FE9-EF95E4CB42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tion rates, unit numbers, and Lanchester’s la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Linear Law: In hand-to-hand combat, the relative strengths of two armies are simply proportional to their numbers of troop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Square Law: For units that can aim and shoot at one another from a distance and can concentrate their fire, the strength differential is proportional to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squar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of their siz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FD618-9127-4682-BEE6-01CA3DB70DD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854053-D3E0-44F5-B408-B26728B2CE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ealth, morale, and fighting effici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normally fight at full efficiency until their health points are g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you allow efficiency to be harmed by poor health, the feedback loop will cause injured units to die very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ale is represented by a number that increases or decreases an army’s fighting effectivenes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rale also usually produces too much feedba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adership bonus works better, because leadership is unaffected by health or moral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EAAA2-9E09-4931-8A47-496141C98D0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60E0C9-212E-4369-B1EC-21A67478DC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pgrades and technology tre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earching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initiate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rganize upgrades into a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 to choose which upgrade to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applied to single units, unit types, or glob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temporary or perman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technology tree to organize large numbers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4BCE8-2A98-4F3E-A89B-D0C1C940293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1FFEBF-8A6D-4F88-8A28-66127CC164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ement of supply: the production, distribution, maintenance, and replacement of personnel and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s usually have simplified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ies and consumable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ack food and fu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mmo is cheap and quickly expended, provide unlimited supp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y destructive ammo should be rare and track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04F2A-EE0C-4591-A438-023D51A56AB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2F7F9D-CB38-4F6A-9163-7BDAA5FA57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y 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te over which fresh troops and war materiel must be transported from their source to where they are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the supply line is a classic 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computer war games model movement of troops accurately, but not materiel such as fuel and amm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don’t want to manage suppl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alistic supply lines mean creating transport units and modeling the supplies as individual objects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D9BA9-63E4-4B18-8D02-9259D7E54BC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5F084A-D720-4C23-A0AA-685502A232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ing the distributio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supply is “magically” available wherever it is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etely abstracting distribution can cause explo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ternative is verifying that supply routes are open, but don’t actually require 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ad-buil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roads to access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ads provide supply ro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wns with no road cannot receive suppl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2172F-F19C-49EB-8535-B88DEB8A2DD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991232-3068-4F14-8BBD-9BC8EDBEC2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strategy game and be familiar with the types of challenges that strategy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set of orders that a strategy player will be able to give in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balanced set of units for use in a war game, including defining the attributes that govern their behavio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4EF13-D77F-4152-90F1-0BC63F6BAC8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50077C-758C-4166-A006-A4B3D09703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 m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unit within a certain distance from a supply depot can receive suppli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obstructed route not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8E67D-256A-48A7-8239-45687C43A78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670153-7946-4779-8E4A-9198A6E9A8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storical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strategy games tend to be set in the pa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storical setting will be scrutinized for accuracy by players familiar with th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rld War II market oversatur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a less popular time period or uniqu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05984-D640-457B-8306-B94F99E0199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DF5AF3-B8BA-4724-8D2C-90585FB49C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dern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sks generating controversy and negative public opin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rigorously accurate and politically neutra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 use modern, but fictitious, settings to avoid thi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battlefield scaled for fighter planes would take weeks for infantry to walk acros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 solution is to exclude units that don’t fit the scale, i.e. leave infantry out of games about fighter pla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9090E-1304-4907-BBB6-54068335686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1304AD-B91E-4BE9-A060-EBC0FDCBBC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ture (science fiction)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and allow a lot of scope for inven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ot catch public’s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technology carefu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ermi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aga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3653D-798B-4C4B-9C4A-B74E697F881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99D29E-43A9-4BB7-BAB0-7B849D5E02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ntasy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agic rather than tech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mphasis on close-range and hand-to-hand comba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7ED4C-254B-4E0D-B64C-307282C95CF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9683A1-D205-49BC-8D2C-AC7CEE01A0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directly controls units and has godlike view of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quad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ller group of 20 individual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need to see the big pi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F0BAA-A849-4F0A-BA5E-E4F10C2FB7A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BF1A81-1280-4ED0-AF92-B01801A098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ust control action at different sca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present related data in separate windo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unavailable options gr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beginner and advanced modes for comma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commands by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E3564-D510-4BDB-AD0F-81104201BDB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6E22B3-A8A6-4ABC-8F5B-DDF56BDB67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tree 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tree is the set of all possible future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approach works for only the simplest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ural n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mics the brain’s ability to recognize and correctly identify patterns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currently used in consume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E38B1-2F40-43A5-B288-590D54BE72F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0F4D92-3534-4EC1-A40D-2F08F75E28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successful mechanism for creating AI opponents in war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a finite state machine?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ceptual machine,not real mechanical engineer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s rules establish a simple behavioral system for an individual automated charac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unit has a set of states that it can be 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each state it continously executes certain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has a list of events or conditions that cause it to switch to a new state, e.g. guarding to attack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CC986-199C-4CB4-B50A-9D88CEE5911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E4DC09-DED6-464D-B064-D6E1E4E926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erarchical finite state machines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s higher up in the hierarchy give orders to the ones lower down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er FSMs can order lower FSMs to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I alone usually can’t beat a human player except in simp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AI opponents get other advanta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 doesn’t know where his enemy 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 gives AI more resources to start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16943-8E02-4617-B37C-8BB1CFDBF56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09EC02-7E40-46C2-86DB-F1DA2910C8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 the relative values of offensive and defensive uni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Lanchester’s laws and how they affect the relative strengths of forces of different siz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technology tree of upgrades for the units that you have design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1E3AB-1881-4C2E-801C-0ADA0FC8BA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F2FC23-176F-4D60-A2B8-EAD994F58F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the orders a player can giv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balanced set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Lanchester’s laws in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technology tree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nact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tilize artificial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398C1-50AF-4D76-9071-7792A72E022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77B248-F170-40A9-A121-F008CBB77B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ystem of logistics for your game and design the mechanism by which it work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most common types of artificial opponents and their strengths and weakness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66C23-9585-4B11-8095-BF1E1AA9CC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F2A917-D610-4E80-962E-97D6AEB3F6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trategy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strategic conflict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hooses from a variety of potential actions or moves at most point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is attained by superior planning and taking the best actions; chance must not play a large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challenges may also be present;  physical challenges play little or no par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E6A1F-6E17-48B5-8E74-7CC9B9D59A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4CE3F7-B039-448B-9E2F-5C6E490617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main sub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assical turn-based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re strategy games tend to be turn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ultiplayer turn-based computer games, players often choose their next move simultaneous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strategy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eloped after turn-based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TSs add time pressure to strategy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832AA-DB80-4E5B-9CB8-EE752F5DD9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C5360D-ACD1-4BF8-95FC-DF26503620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flict is combat between groups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ctories generate mor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hoose from among a variety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plomacy and espionage offer alternatives to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25845-B0DF-4034-97F2-E35FAA7CA2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8B2994-5AC1-4CF3-84E1-D9496A1285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investigate unknown terri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g of war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unexplored areas shown in black, and explored but unpatrolled regions shown dim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ollect resources to buy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economy is complicated, the game is actually a hybrid of a strategy game and a construction and management game, e.g.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Civilization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C3339-1CEA-4486-9ED0-A03A7E97944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8D43AF-13DB-4138-BAAC-06D8EEF650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 involve giving orders to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 to a lo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t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p mo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ld a pos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e new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treat, dash, and patrol are variants of the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049F8-6E39-4AC7-9295-1372409074F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701C16-8CC7-4157-81E6-8001628548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7:23:32Z</dcterms:modified>
  <cp:revision>274</cp:revision>
  <dc:subject/>
  <dc:title>Fundamentals of Game Design, 2nd Edition - Ch 14</dc:title>
</cp:coreProperties>
</file>