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DC3C-415E-4C22-B163-0EF23B4C4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ccurs when the player’s abilities balance the challe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 from Chapter 9: Intrinsic skill needed to overcome challenge + stress = absolute difficul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graphs in Figure 11.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14B4E-E049-42CC-A411-48321C16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30AA5-D285-4506-A30C-13A2F983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9A538-2ADA-4AA2-A57E-764DCED95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C3C38-EA8D-4B15-A0D3-F48B617C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5926-F0AE-48EC-9AB8-5984D8982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9886-5AB7-41C7-AC29-58F825FA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7CFE-F276-4C32-B94B-63DEE5ED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34A6-8A42-4520-A0F6-769038FF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1E38-A8E3-4ACE-A435-0C71DE27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940D-1E9C-435D-AF43-E98E8B28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B1F7-279C-48C5-AE4D-489A2B7D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5AF69-BC4C-412C-9C52-938014C7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7A34-6AAB-4E5E-BDE1-25CB9E8A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D14A-7016-4890-845E-4DC08D28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227E-FEDC-41C9-8CAD-4C303148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54DA-A749-4C7A-9C12-3484724E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1E1A-EF2C-4B95-BCF9-511C1B2DC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493C0-88D4-4F45-8CD3-0955B29C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D0CC7-5D47-4A55-8FA4-713595E1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A41F8-99F2-4424-A1CD-F696C6BB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62520-2870-47F1-87E9-685DBFE7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54339-DCC8-47DB-A953-09225B3A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8F1C8-4FBF-40FB-94DE-2DBCD6EE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BEE31-7D28-4512-B217-07E9807E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1 Game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438B-43C0-4EA8-9082-0CBE7427025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D436-8950-45A4-9D11-730223B6AF0A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E835-89B2-4354-9B40-C4B47AA9551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1: Game Balancing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ansitive relationships (rock-paper-scissor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beats B and B beats C, you can’t assume A beats C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ther, A beats B, B beats C, and C beats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PS model is simple but can be adjusted by modifying cor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thogonal unit differenti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kind of unit should be unlike the others in some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simply more or less powerful, but uniquely diffe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uarantees each kind of unit has a unique fun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07DD0-018C-4925-AA65-59D72FAF320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B48BBA-D876-461C-A915-F8E76D68CA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PvE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ing fewer actions in a game risks creating exploi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that can beat any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oroughly to eliminate explo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BAAB7-581F-4BD7-84DA-67D0F3B1327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2D74DE-091D-4141-98E1-8C3D66E0F7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Role of Cha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chance plays a role, how to ensure the more skillful player wins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sparing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in frequent challenges with small risks and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how much to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85D2E-BE7F-4783-BD99-B745EFA0637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A123CF-88B6-4071-8EE1-C0465D427A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alance symmetric games, treat every player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me rules, resources,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ymmetric games are harder to bal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approach: give players identical quantities of materials or points when they sta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ints to build units as they wi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nts to adjust unit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udy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arcraft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great asymmetric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CC629-98B8-4C28-9005-D61231F742F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DDA523-6F87-41FF-A842-AC22319A4D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e issues for persistent worl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istent worlds are never symmetric and always intrinsically unbalanc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w players need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rebalanced on the fly by patc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3B23D-1A99-4688-A124-484227C0340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5362DF-95DD-41F2-B99D-542C43B2DE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E Games Fai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air PvE game shou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challenges at a consistent level of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learn-by-dying desig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talem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information for critical deci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equiring extrinsic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hallenges appropriate for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2A0D7-CE52-4576-8CAC-86072E51D8E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740058-7B07-49CC-B9A3-FDDB712665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ing a game includes managing the difficulty of its challenges to keep players within a flow stat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outside the designer’s contro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vious experience facing challenges similar to thos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ive talent such as hand-eye coordination and reasoning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requires cheats to be winnable is badly balanc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C5185-8679-4F66-9BE0-3C38A2D9EE8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F19E3B-3B76-4494-977F-70E366455C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es of difficul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re amounts of skill required and stress to that of a similar trivial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– difficulty relative to player’s power provided by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91440" indent="-3402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wer provided measures player’s strength by means appropriate to situation (e.g., weapon strength in shooters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= absolute difficulty </a:t>
            </a:r>
            <a:r>
              <a:rPr b="0" lang="en-US" sz="26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(power provided + in-game experience)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4F33A-F639-45CF-BD54-5C6D70334C6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753117-E9BC-4D97-8CFE-C85DD5634E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4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4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51160" y="1835280"/>
            <a:ext cx="4440240" cy="405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CD9E3-12F1-4899-B4B4-18F7649B495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C35BA3-51BE-4833-B055-24D2B81459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 difficulty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of challenges should stay the same or ri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games for casual players and young children, it should remain almost fl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must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rease over time to counteract the player’s growing in-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B4002-2AD3-45BB-BF8D-EF4240687AB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8C77D0-5C71-4203-9710-ACFD8697E3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qualities that characterize 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dominant strategy and discuss ways to avoid dominant strategies in player-versus-player and player-versus-environment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use the element of chance in a game so that player skill still ultimately determines the outcome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4FE26-5AD0-4151-9599-08212B1914A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910BE6-18A7-40E9-9535-15C4A77B01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stablishing difficulty mod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allow player to choose a difficult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difficulty mode is selected, challenges must stay within that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can’t adjust the difficulty of a challenge, provide a way around it for the easy mode and block the go-around route for the hard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32FAE-41FF-4AA9-B309-399E3F03DDF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6DD652-9A21-415A-846A-0DDB871CC3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sitive feedback occurs when a player’s achievement changes the game state, making future achievements eas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nefits of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s a stalem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wards suc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776760" cy="26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0FAC5-0AA5-4147-A740-0AA1FB72C9D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BC0617-7C32-4757-B1F5-4437068C7D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rolling positive feedback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give too much power as a rew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ga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ments have a cost as well as a benef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ise the absolute difficulty level of challenges as the player proc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collusion against the leader in PvP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victory as unrelated to the feedback cy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to reduce the size of the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1AAF2-2D26-490F-A174-36BC1006DD9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69C45F-667F-4D67-9C1B-88BDDC7581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Balance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stagn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gnation occurs when the player does not know what to do n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de clues in plain sight about how to proc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ave the game detect when the player is wandering aimlessly and provide nudges in the right dire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trivia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the computer handle uninteresting details of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A09E2-1BE4-4916-ADED-9B7466B1EB5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3D93F7-3DAA-4E42-86CB-E008CDF5F6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to Make Tuning Eas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ize mechanics when poss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avoid creating special ca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parate code and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uggestions for efficient fine-tun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only one parameter at a ti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modifying parameters, make big adjustm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onsequences are easier to s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co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pseudo-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67BF8-2CC4-49AD-8093-D505A154E9E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D624B6-94C4-484B-876B-0623E04B23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ai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dominant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trol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6DFD0-8800-454F-A497-62230342B5E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63C229-2E2D-45FF-B9C4-2427CC1A1D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symmetric and asymmetric player-versus-player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player-versus-environment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ypes of difficulty and explain ways to manage difficulty to maximize the player’s enjoyment of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F36C4-FE48-4BB3-8708-709EEBB1AC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1DD2D2-128A-466F-8AA3-8F9F45EF54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phenomenon of positive feedback and discuss ways to control positive feedback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qualities of unbalanced games such as stagnation and triviality and explain how they can be avoid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design methods that can make fine-tuning easi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E80B4-A446-49FD-B3CB-D9A632A192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B1D310-52F1-4EE3-AFD5-FA84BF1FDE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fair to the player(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neither too easy nor too h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s the skill of the player the most important factor in determining his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 of balance differs between PvP and Pv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89667-CE0E-4ADE-B3D8-01B91EAABB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A38FC3-30AD-4B1E-9E7F-FF973F6E78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well-balanced PvP or PvE game has the following characteristic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 provides meaningful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 avoids dominant strateg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They will be explained late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rategy must have a reasonable chance of producing vic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’s skill must affect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 of chance should not be so great that player skill become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C9016-8573-4E59-A26C-8F52FC9E67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4A698B-1668-4A66-9561-5871C3543E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perceive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player who falls behind should have opportunities to catch u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rarely ends in a stalem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perceives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tion of fairness is differen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ussed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of difficulty must be consistent, without spikes or sharp dro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86E4C-A1CD-470A-B9AE-1AD433D65B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BB4BA3-D161-4D96-860D-657E54DA61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y is a strategy that reliably produces the best outcome a player may achieve, no matter what his opponent do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are undesirable because a player has no reason to use any other strategy once she has discovered the dominant strateg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6693B-9F6A-48A9-9416-C211219E30E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3A0B6A-C93F-4205-BBC5-4B64F184FB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itive relationships among three or more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&gt; B and B &gt; C, then A &gt; C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ver any reason to choose B or C if A is bes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orrect the imbalance, assign costs to each choi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a more interesting choice, impose shadow costs for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hadow costs are costs that are not immediately appar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itive relationships often used to create upgrades for a player’s abiliti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rt with C, then earn B, then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73A71-BA53-4A96-A20E-FF6F53FF3D4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4E0C94-937F-41A9-ACC3-3D9A418C40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04Z</dcterms:modified>
  <cp:revision>222</cp:revision>
  <dc:subject/>
  <dc:title>Fundamentals of Game Design, 2nd Edition - Ch 11</dc:title>
</cp:coreProperties>
</file>