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D3F79-3458-45EC-8285-F2BD483F22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ideo game will not respond to player actions that it has not been programmed to recogn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players compete, there is often a winner and a los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ly, the behavior simulations are very simple. The goal of AI research is to create ever more realistic sim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i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imCit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players learn how to attract a larger population and meet their nee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multiplayer games have a communication method built into the software. However, players often use communication software such as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eamSpea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Ventril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ys and puzzles can be used to play ga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s that can be made while playing are limited by the ru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6316E-CA97-46F6-A509-F2E3F7322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B2B1B-A7A0-4A30-922E-C87A04807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77862-EE53-4B5D-AFAE-9AEE8A03E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AF10E-BDEB-46B9-A4F6-06E464A73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D52B5-3EA2-4B97-92B9-DF882BC59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FF19F-FD6A-4D04-83D7-3DB05F70C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EE9B1-063B-405D-ABC6-ECBF60464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DBB58-0305-40B3-98E7-56F29C967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F3974-CA09-4B78-81BA-B6623E72D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26B57-4621-4704-B0EA-905B7DABD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4F698-424F-4078-B5DE-B81E297F7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3205E-A7AD-4C47-A881-B93B0FBF0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DEAA1-30D4-43DC-A710-182E7580E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94487-11A6-4AD1-B368-70C41D92B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396FF-C04A-4D3B-936A-FD5C72140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168DB-C879-4FFD-BA22-C4219AA93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CA33A-C002-47BD-913D-5A0E57C74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F5372-8074-4FC2-84C1-067A92F95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0D2A0-4C41-42A2-9C92-BD5FEB449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C2EB7-B0CC-4DB9-96D7-420571145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75287-E534-42EB-8608-453569550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BBC87-2B24-4923-BB9E-3738F3C4F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371B7-0165-454A-8156-31BCC3AB9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5C692-38A2-4953-B208-FC20129C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888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  Games and Video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44080-7E57-4597-86B9-65CC070A0127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7200" y="6244920"/>
            <a:ext cx="26416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</a:t>
            </a:r>
            <a:r>
              <a:rPr b="0" lang="en-US" sz="1400" spc="-1" strike="noStrike">
                <a:solidFill>
                  <a:srgbClr val="6699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F750A-0E88-4023-A174-0345C0483000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B8B67-5000-49AA-BC5E-4BC60655D4DD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: Games and Video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168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 must overcome a nontrivial challen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require mental or physical effo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challenge can be composed of several smaller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can be required to reach the goal or optional to add game con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4633A-0924-48EC-9E99-A5096BF6420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C82C22A-B153-48E6-9CE5-4B8E929924F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pla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rules determine what actions are available to the player(s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fferent actions may b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mitted by the rules, or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d by the rules, 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hibited by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permit only actions that are programmed into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FF717-179B-4030-9FAA-55159E5F089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5C5D693-14C1-4F53-8870-8F2865BEFE3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pla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therefore consists of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challenges that a player must face to arrive at the object of the game, a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actions that the player is permitted to take to address those challenges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plus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ther possible actions that are enjoyab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CF899-238C-4965-AC2F-FF5D8EFC09C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52F42EA-DC2C-4778-9A7E-881604EA2F9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airnes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 expect that the rules will guarantee that the game is fai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irness is not an essential element of a game, but a quality of goo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often change rules of a game if they perceive it as unfai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airness is particularly important in video games because video games seldom allow rule cha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3AB18-49A6-405A-B843-16537A56A89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E9011D3-5507-4742-9FAF-201BC8713EA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ymmetry and Asymmet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a symmetric game, all players use the same rules to accomplish the same go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an asymmetric game, different players follow different rules to accomplish different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CCD6E-4E1A-41DB-A908-11779F8232F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0376ECD-16ED-4CAA-85B2-523CD1972F7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etition and Cooperat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en players compete, they try to accomplish mutually exclusive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en players cooperate, they work together to accomplish goals that are the same or simila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 are ways to build cooperation and competition into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990DE-99B7-4DE6-9E0A-40675AA1CEA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85D6AF4-3FBB-4886-8C1A-7AB403D63DA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Hiding the Ru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do not require written 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game enforces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can’t change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vide adequate clues for players to overcome a challen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ing trial and error to overcome a challenge frustrates many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9062B-B27D-43BE-8255-F6BD311B11A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96E001B-66BD-4A41-97AC-4D33C3674A5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etting the Pac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software determines the speed of the events in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 can’t affect the speed of the game unless the software has to wait for player inpu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computer allows for modulation of the pace, so players can rest between periods of intense activ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AB48A-A62B-4BC6-9E5E-B72FC1E438A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550EA49-D10E-4761-A543-64D6791E497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resenting a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present a game world, video games can us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ic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i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ic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alo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nd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xt and subtit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442C3-AEA2-4128-B1C3-01A007BE96A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A5CDD91-1D1D-42C7-8915-8BF6FEC66F2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Intelligenc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day, artificial intelligence is used fo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thfin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ing the behavior of people and cr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 artificial intelligence advances, games will add more uses for i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tural language pars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tural language gener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ttern recogn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49B35-5CE5-4D4E-8D6A-AC5CC08C547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E115D13-2FF9-4A20-84F4-77C9F4B6A19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essential elements of a game—rules, goals, play, and pretending—and what they do in the context of playing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formal definition of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nature of challenges and actions, as well as the formal definition of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F7A1F-5ECD-4AA8-B1F3-5A730EDA464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B7C66EC-7FBA-45DB-A99C-B60A531E730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esthet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 game elements should be high in quality and present a harmonious look and fe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look includes the quality and appearance of the graphics, movie clips, animation, buttons, and fo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feel includes the music, dialog, user interface, and objecti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armony is the feeling that all game elements are part of a coherent wh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F93B8-CD3E-47B5-894C-147D5D8460A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B349F44-9D15-4269-AD44-82D3DDC751C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torytell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st games incorporate some kind of sto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can mix storylike and gamelike entertainment almost seamlessl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can make player feel he is inside a story and affecting flow of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s is one reason why video games are considered a new mediu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492D6-4AA2-4456-A6CC-2AF501A61B0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ECC1638-0312-4856-A3FA-1FAC7779519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Risks and Reward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isk is created by uncertain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the player overcomes the risk, a reward should be give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size of the reward should match the size of the ri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F0BB2-F3F5-4831-8601-00377ACE14D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E61428E-F011-4958-B7B4-8C7FE08FC52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velty and Learn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can offer more variety and content than any traditional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velty alone is not enough to sustain player interest, howev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eople enjoy learning when it takes place in an enjoyable context or provides useful maste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s should supply both enjoyable context and useful maste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F6BE2-6E42-4560-B1FA-790867136F8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BB12D2D-6304-4693-A044-7C1AFD53147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reative and Express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eople love to select, design, and customiz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s activity can have a direct effect on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 video games reach a wider audience, creative and expressive play become increasingly importa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E0838-B514-4F43-8E0A-8DE61C9C507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16A1E78-DD12-41ED-87E2-14171D602C7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mmer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mmersed players lose track of the real world outside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mmersion can b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actical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he sense of being “in the groove”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i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observing, calculating, plann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rrativ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he feeling of being inside a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B71E6-93F0-40EB-8982-1AD1A5FD8DF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63362C7-B38B-4ABD-85B4-25DB688A9F1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ocializ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st traditional games are played with other people, making it a social activ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ral methods allow people to play video games togeth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ltiplayer loc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tworked play (multiplayer distributed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N par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oup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6648E-7CCF-45E1-B5A8-A121455C8F3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586380D-F92C-468A-8E25-42F5A65E9FA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elements of a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interaction of challenges and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role of the computer in video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various ways that games entert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571D9-5609-4CB7-8DD6-2DADB732B11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7261590-26E8-4926-806F-E612BC05255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come familiar with the concepts of symmetry and asymmetry, fairness, and competition and cooperatio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arn the various benefits that computers bring to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come familiar with the ways in which video games entertain peopl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E5FEE-0036-4650-87B8-8CC73133828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BD7A93F-F9C5-4ABE-9C86-3D493D36631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Game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ys do not have rules or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zzles have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s have rules and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F9D37-500B-4E83-8C23-FE467A878E7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69831EA-E636-4357-8DE7-7E17CBC02DB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Game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must inclu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 activ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tended re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nontrivial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ADB36-902D-4B5C-94C9-AA17A04DF7E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77631C7-3717-4792-B806-ED9E857C998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ssential Elements of a Gam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 requires particip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ing different choices while playing the game a second time affects the resul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etend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s an artificial reality known as 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magic cir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ificial importance is assigned to events within the magic cir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leave the magic circle, stop playing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3EA69-0485-4B61-A8AD-AFD0CEB7FD6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7F5B33E-04A0-4A2C-98DE-F13A50F94B6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ssential Elements of a Game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very game must have a nontrivial goal or obj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rules define the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game designer sets the rules, thus defining the object of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must overcome one or more challenges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achieve the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goal is often a </a:t>
            </a: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v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ctory condition, but victory or defeat is not required in all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6F0E1-2506-42C9-BD62-6E282E1D09F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97D3694-46BB-4ED5-8B13-0AB91F87652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ssential Elements of a Game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 are definitions and instructions that players accept for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 define the actions the players may select that will help them achieve the object of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 designers must make the rules understandable to the player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59E90-52F6-425C-A2EE-7256133958D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DADBBEF-7443-48DC-86E2-253D8563C9B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ings That a Game Is No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does not have to inclu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et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fli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tertain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se are qualities of some games, but not essential to the defini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rious games are not necessarily made for entertainment or fu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61C1C-9F50-4F25-A766-BF469E24771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C398484-058E-43B3-9CCA-98EADE98785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3:54Z</dcterms:modified>
  <cp:revision>96</cp:revision>
  <dc:subject/>
  <dc:title>Fundamentals of Game Design, 2nd Edition - Ch 1</dc:title>
</cp:coreProperties>
</file>