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B9F0-9947-4454-8E7F-14D33D448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6B32-6294-4E3B-964E-50B03A5898AB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8A2D-42AA-492D-A53E-2607BD966850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0A431-3E15-4261-BCB3-C85B68B5D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52AD9-9D48-48C2-A5A0-5008FCC1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4AED5-1FCD-4255-A017-E10AE358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9EB98-5A69-44B1-8915-CAA51F3C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3147-4F82-4822-8CBC-8456CE51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83FB-9BFB-4D1F-8B3F-17EDAED9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2CBC-4CE9-4A20-B2EE-44CDAE6E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8350-909E-4135-8704-094CE5AB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35EE-1ABC-4279-8B1A-2227A532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9AF3-612C-4C05-A02A-B7E62E4B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B6F7-9FF7-49B3-ABD4-490A4680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6B2A7-59D8-49F4-AE73-36F40557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5BCC-AF55-41D3-A8CB-92BCCEDE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4E50-6487-4022-9088-5B3901CE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BAC4-6D51-4D48-8280-937855AD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0415-9E26-4CD2-ACE4-6DC6E385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E39B-CA26-448D-BEA4-16747273C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9BF8A-CADC-458F-B206-125CAAF6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DEF0F-B96B-4F93-9E94-8AB70D8F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677DA-C7BE-4832-9869-773515C2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46A19-DB75-42B6-B054-3328A872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2F892-B397-4955-BCBE-C9FDD1F6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2671A-D1D9-479C-8AC1-330956AA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31A5B-4B43-4155-9892-965C541A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375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0  Artificial Life and Puzzl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355D-B6FA-4BD5-B501-76BEC4041F4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87A4-22F7-44C1-B124-ABCAE1D0A67F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1121-0DAD-4849-9B0D-6C3547F4821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0: Artificial Life and Puzzl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a god with limited powers who gets more power from simulated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mnipresent interaction model and an aerial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often share qualities with CMS (indirect control of population) and real-time strategy (compete directly against a rival god)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7C927-FC59-4363-A893-537B908C82F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FE37A7-2FC6-4C11-84FA-9166D1674A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conomy of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’s power (mana) grows with the number and prosperity of his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ze of the population influences the maximum amount of mana the player may have and the rate at which mana is restored when it is below maximu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sitive feedback can be limited in various way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eople do not reproduce instantaneous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king land suitable for population growth costs man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a cost of using higher-level powers rises exponential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6FB32-30FD-4803-9CCA-EBD7FFE3750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1B7EC1-12A1-4285-AACF-5B166A1067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n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mary challenge is to produce population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 must also damage the other god’s worshippers and repair the damage the rival god does to the player’s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design a god game, start with the question of what powers you would like the go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d game needs a lot of interesting animations for the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C1853-204B-4404-8B0C-FA591119E7F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23F1C7-44FE-41E1-BF13-0AE2A8E5C9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about managing a population over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tries to achieve goals for the whol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concentrate too much on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 geno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enome defines the creatures’ inheritable characteristics such as eye color, hair color, height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eles are traits inherited from each pa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f parents have different traits, usually one win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rown eye allele dominates blue eye alle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AA1AA-BED3-475E-9B71-B31FBAD2E9E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B0C9CB-AE1B-4850-9612-59527B47C2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nge to the gene caused by an environmental fact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tations may benefit the population by introducing random new values into the gene po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fe span, maturity, and natural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creature needs a natural life spa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evolve through natural selection, creatures must have a time of immaturity before they can reprodu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enetic mutations that cause death in children do not get passed on because children do not reprodu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86C3E-CBDF-48EF-9575-BEC0041502C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4E85F7-3AED-42DE-9CD6-F27E0E6330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does the player do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new individuals and add them to the population to see how their genes influence th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d and remove environmental hazards that would weed out certain ge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with the rate and nature of mutation by adding or modifying mutagenic objects or areas of the environm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te individuals to select for particular character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208CD-C162-4DBE-B471-534794792C5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D8E644-6035-4C8F-B354-0E4684214C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uzzle games, puzzle solving is the primar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s usually provide related challenges, variations on a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types of puzzles offered include pattern recognition, logic, or understanding a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zzles give the player clues that have to be solved to meet the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F5DE2-9813-4C9E-B85D-61C27DE08F5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4E35E4-755B-42FB-A5F4-00862D585B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inspi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construction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he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ise a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y attention to pres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59876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ott Kim’s eight steps in puzzle game design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49A7D-792D-4AD0-BAAA-22139BE8A31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11F1AD-4666-431F-8005-3142144969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at computers bring to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nonphysical or awkward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omputation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forc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player moves and undo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ucture the exper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bells and whis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onlin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56414-87A2-49D9-B6E4-57E760897C4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C65F9B-51B6-47A1-88FC-C1D53ED315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ecking the victory cond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 to the solution might be different than you plan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eck the solution, not the way it was reach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44564-2059-4826-A265-04E025F1CA4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A0C6F8-84D1-4ECE-8C5D-90D71E46C3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forms of artificial life games and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basic artificial life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steps to designing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player’s needs for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64FCE-D511-41CD-B723-87DFF45319E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82DE3D-EA13-4711-8460-1A8D9D4863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rtificial life game and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basic artificial life sys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steps to designing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player’s needs for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D653A-E267-43B9-B2ED-4F7B296A7A5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DEB4B0-5EB3-49CA-93F6-270CEAD0F0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life is a branch of computer science re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nvolves modeling biological proc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s the study of emergent properti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unanticipated qualities or behaviors that arise out of the interactions of complex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-life games typically focus on maintaining and growing a manageable population of organis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1E195-9959-48F3-B962-AB261616B21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CC6755-5012-41D2-8E7D-37E66323F0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simulations or fantasy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cute; seldom reproduce or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ncentrates on training, maintenance, and watching the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needs a lot of AI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ety of triggers and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w the pet's emotions through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BBDE2-FA91-4177-9D01-5C0B74157BC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C16A4E-C722-44F2-921C-A41D7023C3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fluences pet's emotions through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should interact meaningfully with other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must be able to lea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 AI distinguishes artificial pets from other A-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pet is a software to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898E8-1BD9-4520-9327-071D43E04FC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9C1772-7691-4F31-BEF6-21CC296699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sims physically and indirectly affects their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sim has a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ss between an artificial pet and a C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has an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3B320-253A-493C-B56F-36B3D634628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35B23C-901E-4F78-90A9-5523DE35B8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im has six needs that must be met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s drive the sims'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-based AI is the heart of most simple behavior simul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(in the first edition) have six skills they can impro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teach themselves skil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management is critic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64E22-8E53-4D43-9B7C-4875A75051D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EE0B90-80E1-459F-8046-189BCB5A89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 tries to simulate relationships among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ables define each sim's personality and how they react to each oth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ccess of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based on the unprecedented scope for creativity it offers and its emphasis on interpersonal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17000-AA93-4D78-BFC5-78A7D751987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F53AC0-48B7-440B-AD0D-23BAE372B2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ing affinity between two characte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I Can’t Stand” Rule – A character cannot stand another character who has an attribute above a certain thresho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rds of a Feather” Rule – Characters with high levels of one attribute are attracted to others with a high level of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posite Attract” Rule – Characters with high levels of one attribute are attracted to others with a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lue for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9723E-EB98-4F71-8D29-B935E11D0C8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94B53B-C156-4A61-BBDC-AA9041B9E3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3:24:51Z</dcterms:modified>
  <cp:revision>528</cp:revision>
  <dc:subject/>
  <dc:title>Fundamentals of Game Design, 2nd Edition - Ch 20</dc:title>
</cp:coreProperties>
</file>