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9235F-F19D-4EFE-9EBB-2A83A86AD0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occurs when the player’s abilities balance the challe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er from Chapter 9: Intrinsic skill needed to overcome challenge + stress = absolute difficul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the graphs in Figure 11.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3CAAB-9208-4A8A-83B0-C00EF92BD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450FD-E16F-48CA-8ADA-D2101EC86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90E6E-91F3-40BD-88EA-4895639C7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D27C9-CA3E-432F-B4BD-8D6CB9149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9E181-B581-4754-917C-238E31843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AF452-491E-4E58-8140-DACA5918B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03054-B78A-43A9-863B-D18D3FDC2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CBBF0-8516-434F-8ACD-84D4FEF74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20C35-B854-44A9-888F-5BF32AE7C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D595E-881D-4070-BCF1-7D4A982E8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332F6-A4F3-46AB-AA55-2D29157C0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300ED-70F9-46C1-96CA-3410D8D33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C7325-03D9-485D-BA0D-8F67C59D0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2AC89-F579-456D-BC84-F63CDB701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D13F6-FBF7-482A-B5A9-5FED7D16C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30D4B-5C6F-42DC-8B42-6D58219A4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5B9F2-DCB7-4B25-83DC-0EB7FEDEA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B57D5-8283-43B5-AAF6-6DF887519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95C2F-A61A-432E-9332-D1CC5DFB1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6F4BC-583C-47E9-BFA4-65C96417B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78EBD-B5D1-43EF-92BE-DDE9C3A42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E91E6-D708-4BA0-B182-C783F70A7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ABD01-F847-4E9E-8B02-42FFA84A0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7152A-D760-4FEE-BCC6-376BFD75E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2841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1 Game Balan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E2494-CF69-4336-B5BE-7F853AD0D253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DC87F-0FC0-4D25-810F-A9C09A5D4864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5DFCD-5EFA-436B-B13D-62B428BE6FAC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1: Game Balancing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in video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ransitive relationships (rock-paper-scissor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A beats B and B beats C, you can’t assume A beats C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ther, A beats B, B beats C, and C beats 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PS model is simple but can be adjusted by modifying core mechan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thogonal unit differenti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ch kind of unit should be unlike the others in some w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t simply more or less powerful, but uniquely differe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uarantees each kind of unit has a unique fun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CD0F9-AE5E-4EFF-B712-E481E96AF83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086B197-8ED3-422D-96FD-1FF72E052CD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in PvE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ing fewer actions in a game risks creating exploit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that can beat any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thoroughly to eliminate explo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AA5E0-A149-4DC4-A4ED-68CA7F65F91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393D62F-65FF-41B6-90ED-7B8D387AACB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Role of Chanc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chance plays a role, how to ensure the more skillful player wins?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hance sparing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hance in frequent challenges with small risks and rewar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choose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choose how much to ri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B8234-6E30-4EAC-8558-1339A5ECF00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4F5F22A-AD63-40FC-B3CF-3F6A0EF5987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PvP Games Fair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balance symmetric games, treat every player the s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me rules, resources,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ymmetric games are harder to bala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 approach: give players identical quantities of materials or points when they sta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spend points to build units as they wis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spend ponts to adjust unit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udy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tarcraft 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 a great asymmetric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C636C-2572-4400-8EFA-E100785297A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7618BA1-4221-449A-999D-A1427EB9408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PvP Games Fai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alance issues for persistent worl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sistent worlds are never symmetric and always intrinsically unbalanc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w players need prot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be rebalanced on the fly by patch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1DD31-7DF0-4520-A41A-DA0C8DD216C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DA8EF7C-97C9-493E-B7FC-CF5D28F7B29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PvE Games Fai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fair PvE game shou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fer challenges at a consistent level of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learn-by-dying desig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stalema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information for critical decis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requiring extrinsic in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challenges appropriate for the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843A1-695B-4572-9136-A2E5BF60315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541E6A7-0FF0-4A38-B366-1E21A86FC0C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alancing a game includes managing the difficulty of its challenges to keep players within a flow stat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ors outside the designer’s control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vious experience facing challenges similar to those in your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tive talent such as hand-eye coordination and reasoning 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that requires cheats to be winnable is badly balanc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C2170-7168-4F42-9967-194F0C2EB17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9146D5B-26EE-484F-ADE4-29418A591D0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ypes of difficul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49800" indent="-31536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olute difficult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are amounts of skill required and stress to that of a similar trivial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49800" indent="-31536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lative difficulty – difficulty relative to player’s power provided by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991440" indent="-3402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ower provided measures player’s strength by means appropriate to situation (e.g., weapon strength in shooters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49800" indent="-31536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ceived difficulty = absolute difficulty </a:t>
            </a:r>
            <a:r>
              <a:rPr b="0" lang="en-US" sz="2600" spc="-1" strike="noStrike">
                <a:solidFill>
                  <a:srgbClr val="003399"/>
                </a:solidFill>
                <a:latin typeface="Symbol"/>
                <a:ea typeface="Symbol"/>
              </a:rPr>
              <a:t>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(power provided + in-game experience)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360C5-C888-4AF8-9EBD-7FCE9ACFEBF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56D805C-686D-481F-B318-B4EE7CD0738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4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400" spc="-1" strike="noStrike">
              <a:solidFill>
                <a:srgbClr val="0b0506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351160" y="1835280"/>
            <a:ext cx="4440240" cy="405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53A69-8D29-43B5-9D34-EBA946FE4E9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A23BCA4-5827-499A-A51E-C543891DA81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ing a difficulty 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ceived difficulty of challenges should stay the same or ris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games for casual players and young children, it should remain almost fla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lative difficulty must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rease over time to counteract the player’s growing in-game experienc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6FC4F-63B8-4E9D-8A73-D7FB412477B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FEAD558-5AAD-4081-8FC9-D08915B8BD9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qualities that characterize a balanced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 dominant strategy and discuss ways to avoid dominant strategies in player-versus-player and player-versus-environment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to use the element of chance in a game so that player skill still ultimately determines the outcome of the game 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0B8B1-00F0-472A-B2FB-D6DDD49BF6D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D965410-3C7A-49D6-8711-9CFC657302B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stablishing difficulty mod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single-player games, allow player to choose a difficulty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a difficulty mode is selected, challenges must stay within that ra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you can’t adjust the difficulty of a challenge, provide a way around it for the easy mode and block the go-around route for the hard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C5775-9F98-41BE-9A55-91F31DF2871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0891CE5-48EA-4A12-AD9D-95CE1AABD63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Understanding Positive Feedback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sitive feedback occurs when a player’s achievement changes the game state, making future achievements easi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nefits of positive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courages a stalemat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wards succe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800600" y="1828800"/>
            <a:ext cx="3776760" cy="26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CBE88-580B-4D25-861A-6856F1FE548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A68DAAC-1B36-4ECB-94D4-C62BCAF4563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Understanding Positive Feedback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trolling positive feedback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give too much power as a rewar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roduce negative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hievements have a cost as well as a benef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ise the absolute difficulty level of challenges as the player procee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collusion against the leader in PvP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victory as unrelated to the feedback cy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hance to reduce the size of the rewar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4ED1B-1ADA-4994-A084-A92AB480E8C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94D977C-8807-4F48-ADF2-14755344397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Balance Consider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stagn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gnation occurs when the player does not know what to do nex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de clues in plain sight about how to proce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ave the game detect when the player is wandering aimlessly and provide nudges in the right dire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trivialit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t the computer handle uninteresting details of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78BD7-73AC-4FDC-B3A9-A3BD1BA5FCE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051C008-5681-4F4B-B61A-8F2F0D90AA4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to Make Tuning Easy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ralize mechanics when possib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y to avoid creating special cas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parate code and data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uggestions for efficient fine-tuning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ify only one parameter at a tim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modifying parameters, make big adjustment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consequences are easier to se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recor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pseudo-random numb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A772C-1CE1-47CA-8E76-115D3AC11F5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21C5C96-E807-44CC-AD58-FDDBF66E431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fair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void dominant strateg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cha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manag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ntrol positive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7A950-27E5-4223-8BD5-1B881CD7585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45599FF-3601-44BD-9FED-F4B37CBF3DF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strategies for making symmetric and asymmetric player-versus-player games fai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strategies for making player-versus-environment games fai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ypes of difficulty and explain ways to manage difficulty to maximize the player’s enjoyment of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3B07E-3A82-4B3E-B195-6D702C02FB8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213EEB0-E1B6-4A62-9960-F80569F65EA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the phenomenon of positive feedback and discuss ways to control positive feedback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qualities of unbalanced games such as stagnation and triviality and explain how they can be avoide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design methods that can make fine-tuning easi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84522-8E72-4D4E-924A-C700BC8B53F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68350CE-E618-4D29-A519-70B1D356473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Balanced Game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balanced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fair to the player(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neither too easy nor too har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s the skill of the player the most important factor in determining his suc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cept of balance differs between PvP and Pv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EA0D8-FEFF-4253-B674-13B14824575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2B6B7BA-D596-40F5-A632-E3B778B993D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Balanced Game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 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well-balanced PvP or PvE game has the following characteristic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 provides meaningful cho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 avoids dominant strateg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(They will be explained later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trategy must have a reasonable chance of producing vic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’s skill must affect suc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le of chance should not be so great that player skill becomes irreleva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C69D0-1512-46BC-983C-228311AB118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F210647-DE11-4B5F-837B-E41C49BA505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Balanced Game?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 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ditional balance requirements for PvP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perceive the game to be fai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player who falls behind should have opportunities to catch up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 rarely ends in a stalem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ditional balance requirements for P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perceives the game to be fai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inition of fairness is different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cussed la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vel of difficulty must be consistent, without spikes or sharp dro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62402-3EBD-49D0-BFEE-581C470CDC0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B68540A-8585-4A4B-841B-B38DA1523A9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y is a strategy that reliably produces the best outcome a player may achieve, no matter what his opponent do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are undesirable because a player has no reason to use any other strategy once she has discovered the dominant strateg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11C4A-89D4-462E-83AF-7577F627D83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6158064-37D5-40D7-A25D-16C1E482AC6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in video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nsitive relationships among three or more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A &gt; B and B &gt; C, then A &gt; C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Never any reason to choose B or C if A is bes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correct the imbalance, assign costs to each choi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create a more interesting choice, impose shadow costs for choi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hadow costs are costs that are not immediately apparen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nsitive relationships often used to create upgrades for a player’s abilitie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rt with C, then earn B, then 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18CDA-8233-409A-B6E5-D5E77E4CC47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B2413DC-372D-41BF-86B1-DAEEC99ED16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9:04Z</dcterms:modified>
  <cp:revision>222</cp:revision>
  <dc:subject/>
  <dc:title>Fundamentals of Game Design, 2nd Edition - Ch 11</dc:title>
</cp:coreProperties>
</file>