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462D-2CB2-414A-B6A2-6CEC96064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known as m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represents the player in the game world. Frequently, players make avatars that physically resemble them or how they wish they appea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hat play is always limited by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CB100-B89E-4FD1-AA2D-2F8E0656B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F65E1-DD60-4C55-BCBD-A668D092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8530D-24D6-4C6D-AC06-BA71F7526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395E8-D7CD-4263-9371-DAE65A04A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45CA-8972-4143-A90B-F12663BA2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007D-0439-4A24-A6B9-EEC4CA38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4B8B-6ED6-41F1-B71B-DFF400F6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487E-6278-47B4-A45D-9B60F1DA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593E-44A9-4137-8221-64583B22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BA38-B6E2-4B13-9833-DD6F9773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54BC-6852-4F45-B3D2-AC28FFD7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896EF-328C-49A3-B899-1050DB06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E737-C623-4757-B764-F903F61B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EF2B4-90BE-466B-9E83-99D154EF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134C-57D3-433E-94F0-B2FB681A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CAA9-3149-4968-BE65-61EB83FAA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A63A-C119-4D58-BD25-7283C9F46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19058-648B-45BA-A960-AE78768C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9C4FD-BB90-4551-A69D-BE0F1453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BE072-7721-44A6-A4A1-8C782B72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111BC-AB13-4B2B-8266-EC698578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26BB5-168B-41B0-9B36-B3D77D5B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8B9A7-E223-472F-BFB8-8CFAB5F4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0CD5C-5B2C-41D0-B9AF-A988BED1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5  Creative and Expressive 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01DD-B346-468C-B2A7-9825315EDF21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9394-9F8F-42B7-A873-8061F5C5554A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31C8-A00A-4D06-A144-DE9A3A21ED36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5: Creative and Expressive 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easuring Aesthetic Cre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like physics, computers have no innate way of measuring aesthe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must provide a system. Some possibilit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xed aesthetic rules (e.g. certain colors clash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ystem of trends the player can resear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ublic to vote onl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C0377-E118-4588-977C-E75000F8983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6EF46E-16A1-4FD3-BEC7-45F9DBF99B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reeform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s unlimited time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itionally known as sandbox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ually offers fewer rewards or no rewar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6B955-1413-45D5-AE03-AC6B0477F15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41F251-2C39-436E-BC0C-8798F07DD2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features that allow players to create and share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ums and captured images assist this abi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1F3E4-C812-4864-9808-347C2A2685C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37450D-6712-4F91-92FE-5751511E76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Modific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utmost creative freedom, allow players to modify the game itsel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core gam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tends the lifespan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have no control over the m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players to create mods can put the reputation of your game at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31F75-378D-4D96-917D-88941064F5C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937549-12F2-40D7-B4B5-65265A9E67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evel Editor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construct new levels for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y be able to construct a new landscape, place challenges in it, and write a script for the game engine to r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ols must be included with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6A4AE-760C-442B-8C9A-D17C3EDDFBD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4EADDAE-61DF-4B47-A00E-6879ACB0AE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Bo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ly intelligent opponent that the player can progra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create tougher opponents than the original game includ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4478B-2772-4988-A063-90E18B9EB34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FE924F-CAA8-4E61-8AAE-F4327C2A2D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players express themselves through their avata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storytelling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players create m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CBF25-CE23-4100-B39D-4B800B87202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1ABDCB-6347-475D-BAD2-EEF4F4D4DB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self-defining play as a way a player can project his personality into the game world by selecting an avatar and the avatar’s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creative play as a way to allow players to design or construct as part of th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2D0EB-753F-4B20-A05C-D2FCF88CD73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2A6A0A-CA6E-4329-A593-F15977D254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fference between constrained creative play and freeform creative 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games can provide storytelling play by allowing players to create sto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ways in which you can provide additional creative freedom by allowing the player to modify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BEF85-5AC2-4594-AFA9-706BD1FEF6B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E743B1-1E34-41B3-8CC3-9439E7EDEE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lf-Defining 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s the player project his personality into the game world by means other than gameplay choi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tho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ustom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6E668-0AAC-4FD2-8872-59396723C6E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0A0109-14F7-47DA-BE03-F913BDE61D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al attributes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e fundamental aspects and change slowly or not at 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ive the current status of the character and may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assign values to characterization attributes, they define themselves in a creative w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9A6AA-9FB8-4F62-A6D1-6EAAEFC0BAE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E30300-0E63-4C04-97D4-1FC372A16F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ing players to set all functional attribute values may introduce bugs; inste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players a fixed or random number of points to assign among all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 set of default or recommended settings for new players who want to get started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earn the right to set their character’s functional attributes any way they lik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0EED7-6CC4-4263-9F89-A67A8056BC1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29F3E4-E4FA-4088-8EDD-5CBB5F5C91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smetic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do not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make a game more fun at a low implementation co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ical cosmetic attribut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eadgear, clothing, shoes, and jewel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ir color, eye color, skin col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dy type or siz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 color, decals, insignia on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BD6C9-5EDC-42C1-9814-8695ACB78F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272B8C-7F78-4CED-A6AD-136992A026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save and reload cre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rized creative play can be categorized a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ained creative pl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reeform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2F786-64F3-4656-989D-1C1174B8460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B67A77-8712-452A-BEB3-4269767C94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nstrained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player can create only within artificial constraints imposed by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 can be limited by the econom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physical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aesthetic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B6DD9-E50E-4058-837C-DE7A0C60CEF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E3F9B1-B916-4F0A-AD42-9FCD740776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38Z</dcterms:modified>
  <cp:revision>136</cp:revision>
  <dc:subject/>
  <dc:title>Fundamentals of Game Design, 2nd Edition - Ch 5</dc:title>
</cp:coreProperties>
</file>