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DB73-08AB-4952-BE74-EFA81B67C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ing errors, tuning, and polishing are the same practices any professional uses when crafting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play is the heart of a fun game. The player is the so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6734F-EA40-462D-9D6D-41C0BF1C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BD36B-DC7F-43A1-8360-DE5F6042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C9F51-4766-49B1-B9F3-42E06D4AC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1F697-DE1C-49AE-87BC-84BF4BA7A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AF05-75B5-4ED6-96B8-F33ADD50A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BFAB-3F6D-4995-BDE8-D29FD56E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0258-95F4-4338-B5A1-3B54AC78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2796-FB19-4F0F-9658-CECA7C98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F1D2-26E0-4628-AFB1-D165DE36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AE1F-AC9C-4D36-8146-2F9E8C14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E323-6355-43A6-A5F9-FBF5B147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1449D-CB9E-4F95-93DD-A6E270CB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9121-6F72-49A9-BD2D-08B250F4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8CF3-2945-47F6-B22A-08C5B12D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51E0-86E8-4AB1-8C7B-4A393AB2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08AB-AA7F-4C48-A621-5DA731A85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B538-34C1-4A98-92AF-B411CF405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8E448-F78D-41CD-9C9C-61D89444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CF871-8844-4739-82CA-EC82962C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0B249-3C93-4471-B8E0-938CBC6F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9158D-EAF2-4770-BD97-B625B000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789C8-A676-4A31-9B71-CB23E27E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72946-3C9C-4FF8-A839-2F40535F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C5881-ECE5-4833-B45F-B4AA13A4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9 Game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A0FC-4D66-4912-8E14-2A4B04C1F482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1165-34C3-46EB-A245-8890A2D2EF72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5282-E6EB-496C-B38D-34EF7011D643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9: Game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coordin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speed and reaction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ccuracy and prec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intuitive understanding of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timing and rhyth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make combination mo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 time available to increas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ECC13-20D2-495C-B746-2AD311307D3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994B89-394D-466A-AE4D-E443D54106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c and mathematic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al logic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outside knowledge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increase difficulty, increase the number of objects and the ways they can be manipula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normally get all the time they need to sol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puzzles that can only be solved by trial-and-err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hematical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s require players to reason about probabil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educated guesses with imperfect knowled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1359C-0F31-45FA-8B0F-C97C161FE43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DB1DF4-DF72-4C21-92AA-978FC9D1D2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ces and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first to accomplish a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combined with other types of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 pressure increases stress o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ual knowledge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rect tests of factual knowledge usually occur only in trivia and quiz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ther kinds of games, all facts must be present in the game or you must make it clear in advance that outside knowledge is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07F1B-088D-4DE3-A5C4-E7B00B782AE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8CF74C-F08D-4315-B97B-649B744139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mory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all things seen or heard i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it easier, give players longer to memorize and test them soon after they have done s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ognize visible, audible, changing, or behavioral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increase difficulty, make the pattern longer, more intricate, or more subt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ACCA1-F766-434B-BD25-4FE2F56C0E2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F28F40-B1A8-4AA5-9C7C-80BD6AE1E2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atial awarenes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learn and navig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decrease difficulty, provide a m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obstacle that prevents the player from proceeding until he disabl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unmarked switches far from the do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C2D9E-F801-4562-9F1B-922D3AA0589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FE6966-A613-445B-A555-CF80F7925B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ice that harms the avatar when trigge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n comes from outwitting the tr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zes and 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ry place looks alike and player must discover relationships between the are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implemented as logic or pattern-recognition puzzl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015A5-04E6-4A82-89E4-6FEE1634C8E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67A389-9F95-4C37-AB8C-1A8B51C74C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sm that transports player to a new lo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make the challenge easier, make the teleporter predictable and revers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ing hidden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reasonable places player can deduce from clu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obscure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Easter eg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are special rewards in particularly obscure loc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D1014-DA18-4611-898C-0A8D7645030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26B233-FB33-44A2-8FE0-FB5390F4EB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direct opposition of forces, some of which are under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 challenges can be broken down into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c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rvival and reduction of enemy fo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ding vulnerable items or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5EA76-92B0-48E6-ADFB-BBC4C46802E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EDDA54-AFC8-4F76-ABFC-7D3313B80B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ehavior of resources creates 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mulating resourc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wealth, points, or anything valua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ing balanc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a more interesting challenge than simply accumulating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ring for living thin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hallenges the player to meet the needs of each individ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D3D8B-FCC6-4191-B2D0-33DF3D8D510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E96E60-B74F-4936-BE4C-0192888F79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ual reasoning and lateral thinking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reasoning puzzles require reasoning and knowledge to solve a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ral thinking uses extrinsic knowledge in unexpected w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EA731-A999-48F8-BD14-CBE80A9DD4E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0781AF-6440-4022-A66F-373EE8549D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basic principles that a designer should follow to make games fu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hierarchy of challenges requires players to complete atomic challenges, sub-missions, and missions to accomplish the ultimate goal of winning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quired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nd discuss how these factors contribute to the difficulty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E8F88-B03F-4390-A647-258A52E9F56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CCA630-8540-47B3-AC80-4672D83CAE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fo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intended to mee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fer fewer actions than challenges to limit size of user interface and animation co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can address more than one type of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ased on player’s role and actions to overcom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B6425-1A39-40A4-9358-CEA22639ACB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DDC1F4-D2FA-4724-AC3D-477802296B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that serve other fun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not related to challenges include actions for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structured 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ion and self-expres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ticipating in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ing the game soft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F4816-8399-4220-ACEF-03669F0C897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A9F264-F8D2-4E46-95E3-B6EB3BE4FD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son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leave and return la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player recover from mistak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courage player to try alternate 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equences for immersion and storytell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rm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s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3BDCB-0BCF-4053-BF74-7EF2C42840E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DCD055-8521-488A-A155-9D2D60A5D9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ays of saving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word to restart a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e to a file or save s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uick s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ic save and checkpoi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ways allow players some way to save and rel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F7526-08C1-4373-BA49-E30AF2A5963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79F164-6896-41CC-AE00-FCD737EA78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the heart of a game’s 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can be organized into a hierarch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and stress determine absolut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ly used challenges test different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w actions can be used to overcome many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allowed to save and reloa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E4645-100B-490E-B436-C3EC1CC986D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A3210F-5F84-4EA9-AA1D-939DD0279A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challenges commonly used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 in the context of the game world and describe how actions are selected to meet specific challenges or serve other function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arguments in favor of and opposed to supplying a saving mechanism and explain the most widely used method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691C0-E70F-40C0-84E9-556371087F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44924B-DC08-4422-83C5-EDCE13BAFE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ecution matters more than innov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ief reason a game is not fun is that it contains elementary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pects of game development that contribute to fu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ing errors; basic craftsmanship is most import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ning and polishing is seco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Imaginative variations on the game’s premise is thir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True design innovation is only 5% of the source of fu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86CA1-0D9C-4127-9212-E5ABEBE44AF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C1FB6F-7D0B-4AE9-866C-A2635F33D2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nding the fun facto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mes fir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t a feature right or leave it ou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around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now your target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or automate parts of the game that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ren’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true to your 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ive for harmony, elegance, and beau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04431-AC1F-47C7-827F-27BFBF9D20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841387-CA4C-4634-9DD6-98032B0922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y from lowest to high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omic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-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75D12-7F1C-47D2-BB1E-CEF8C5F780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CB3A76-CB12-4B7F-AD96-148D4C1BE5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forming the player about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tell the player about explici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discover implicit challenges on their ow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icit instructions are given about the victory condition and lowest-level atomic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mediate-leve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st interesting games offer multiple ways to w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gnize and reward victory achieved no matt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h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achieves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5E626-40A6-4F23-964A-605867B5A9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99BC0C-CA4C-4FA4-A5B3-4F16DEA21B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taneous at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coming several atomic challenges at the same time increases th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way of doing this is to bombard the player with enem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games (such as management games) present more complex interrelated simultaneou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re simultaneous atomic challenges a player faces under time pressure, the greater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t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D720B-69A3-42DC-85E7-D839CE0DDA8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4C0345-29A7-44AF-8055-38CC1790CF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kill, Stress, and Absolute Difficulty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 required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skill needed to overcome a challenge in an unlimited amount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effect of time pressure on the player’s ability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skill required plus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BE184-1749-4BC2-9F58-15B113D99E4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1D0A0B-0520-442F-A51A-E78584088C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7:59Z</dcterms:modified>
  <cp:revision>185</cp:revision>
  <dc:subject/>
  <dc:title>Fundamentals of Game Design, 2nd Edition - Ch 9</dc:title>
</cp:coreProperties>
</file>