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862FB-1051-426C-B3D6-AC67F0194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A5506-DCB4-4E3F-B0B2-F47A1C0EB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F4B01-6077-4366-ABF1-0DB337F0C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E7FA7-0248-493C-A147-4D30FD4B2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55A94-D14C-4C4D-9E11-36D11D401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B839F-BBB2-4242-B800-7946B8248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D8FB4-4225-48B8-BCA5-6B5A3DBE0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7A22E-A7B3-43BB-BA03-C81B86E48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FD08D-8646-460A-8C79-04D3E6AA3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624C4-4080-4065-861C-852DDBB86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03E19-2A9F-4619-B567-266432089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C94CE-6D23-4779-8A8B-2584205BA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AF0F1-1053-46AA-A460-ACB16AE14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F72E7-3CF1-4B6E-B086-28BB4EF8F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599A7-13F9-485C-90F2-469E6D1ED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D005F-06C3-4479-A502-8CCD764AC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3E21A-9E2D-4A26-9CAC-718E7E76F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70A80-829E-4690-8349-8623F1844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565EE-75B1-41A7-BD0B-BA245FA2C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AAFE0-F064-49A8-AEFF-E3C047262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FFF31-CF3A-4077-A6CD-D3F692B4E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87695-3CA1-4FA4-83BD-DA998AD0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D567C-3F14-4C59-A4DE-60631BE6C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CB110-8187-48FE-B2CD-8D1008A24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284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4 Strategy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968CA-4230-4682-8FDC-443E5C421BBA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2EE31-89A3-4730-AC91-EAEF360ECEE5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FAF3D-387F-455D-A378-73ECC6030D4B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4: Strategy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nits usually fall into types so that all units of a type share a set of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units will also have special unique capabiliti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ck-paper-scissors (RPS) model is suited only to simp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not be balanced for complex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esn’t take into account battlefield condi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0E202-24CE-4CB3-ADEB-78DB578CAFA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7B21D8F-6CE5-437E-85ED-9B613391C09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358128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eal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eap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n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t mass and velocity (or power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curac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358128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ensive dodg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pe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urn ra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ss and acceler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nge of vis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  <a:p>
            <a:pPr lvl="1" marL="636120" indent="-30888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rn war games use numeric attributes to describe unit’s abilities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  <a:p>
            <a:pPr lvl="1" marL="636120" indent="-30888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umeric attributes used more often are: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1369B-208C-4A28-B2D1-E05A60820F57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DE4E257-A354-4E69-824F-05D68D8FE93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 capabilities include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eal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lying or sail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pai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nspor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structing buildings and production of mobile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adership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r every special capability you create for one side, you must also create a capability of similar military value for the other side OR a way to defeat the special capability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7CFDC-7F32-45F1-AD81-F0DBDC4997C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A316CDA-72E3-44EE-9076-75A9473FB6B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596160" indent="-289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uting the relative value of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909720" indent="-31212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lue based on time and resou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909720" indent="-31212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quation for attack units: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ttack unit valu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= maximum health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shot power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rate of fire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theoretical accuracy 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range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maximum spe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909720" indent="-31212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quation for defensive units: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ense unit valu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= maximum health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shot power 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rate of fire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theoretical accuracy 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(range</a:t>
            </a:r>
            <a:r>
              <a:rPr b="0" lang="en-US" sz="2200" spc="-1" strike="noStrike" baseline="30000">
                <a:solidFill>
                  <a:srgbClr val="003399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÷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2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9BF5E-123E-4C49-9483-8BC463B96EF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298F930-E823-4DD2-989F-B4B85C6F29D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duction rates, unit numbers, and Lanchester’s law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anchester’s Linear Law: In hand-to-hand combat, the relative strengths of two armies are simply proportional to their numbers of troop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anchester’s Square Law: For units that can aim and shoot at one another from a distance and can concentrate their fire, the strength differential is proportional to the </a:t>
            </a: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squar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of their size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BB0ED-AAB6-4EE9-9545-407CB6543B8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93D4FEB-8680-4A1E-8B84-7232E63A550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ealth, morale, and fighting efficienc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nits normally fight at full efficiency until their health points are g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you allow efficiency to be harmed by poor health, the feedback loop will cause injured units to die very quick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ale is represented by a number that increases or decreases an army’s fighting effectivenes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rale also usually produces too much feedback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adership bonus works better, because leadership is unaffected by health or morale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E8BE6-AA06-40C6-AB53-E0EFFEF7C98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9246AE9-E6D1-4D96-BFF8-D5ADBB803FC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pgrades and technology tre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searching upgra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must initiate researc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rganize upgrades into a sequ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 to choose which upgrade to researc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pgrades can be applied to single units, unit types, or global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pgrades can be temporary or perman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technology tree to organize large numbers of upgra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50202-5737-40EF-B9F5-9AA867DF193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A89ACB9-131E-4FD1-8ADE-E324C8A3700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agement of supply: the production, distribution, maintenance, and replacement of personnel and materi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 games usually have simplified log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pplies and consumable it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n’t track food and fu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ammo is cheap and quickly expended, provide unlimited supply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ghly destructive ammo should be rare and track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7CE4E-EEBC-4D2A-898C-69D40D8B0C9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6F71107-E966-40DC-B0C2-DDB623231AB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pply li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ute over which fresh troops and war materiel must be transported from their source to where they are need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utting the supply line is a classic strateg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st computer war games model movement of troops accurately, but not materiel such as fuel and ammo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s don’t want to manage suppli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ealistic supply lines mean creating transport units and modeling the supplies as individual objects 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F5962-0865-4976-98BA-E6146D79A8B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9FE50C9-0642-4942-BE63-5586AE78775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tracting the distribution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supply is “magically” available wherever it is need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pletely abstracting distribution can cause explo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ternative is verifying that supply routes are open, but don’t actually require transpor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ad-buil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 roads to access resou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ads provide supply ro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wns with no road cannot receive suppl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CD85F-4BD6-4E2D-8DE0-468C993596C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5DF36CD-D3C4-4E7C-AEB1-E14F604E47C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a strategy game and be familiar with the types of challenges that strategy games off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the set of orders that a strategy player will be able to give in your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a balanced set of units for use in a war game, including defining the attributes that govern their behavio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A75D0-332F-430F-A646-C524263854B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79D94C1-C82D-4BDF-B7CE-5FC4CCDE515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fluence ma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ny unit within a certain distance from a supply depot can receive supplie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obstructed route not requir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788D6-6F97-496E-A632-A3D1873967C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96E92AA-491B-4A9E-B455-792C592AA65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storical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strategy games tend to be set in the pa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storical setting will be scrutinized for accuracy by players familiar with the ev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orld War II market oversatura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 a less popular time period or unique appro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5F1C3-E19F-4E97-AF32-56C35AD22EB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B8A641A-9397-42CD-BF32-6DE1FE939FA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dern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isks generating controversy and negative public opin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be rigorously accurate and politically neutral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 use modern, but fictitious, settings to avoid thi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address the issue of battlefield scal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battlefield scaled for fighter planes would take weeks for infantry to walk acros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e solution is to exclude units that don’t fit the scale, i.e. leave infantry out of games about fighter pla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6610C-B12A-4607-A356-3F1B1F4F31E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F44831E-81C6-439D-B2A4-3FAE33904DF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uture (science fiction)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pular and allow a lot of scope for inven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ght not catch public’s imagin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technology careful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erminolo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address the issue of battlefield scale agai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A5B55-671C-4204-BDEB-8DC9D9B0134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C0CC17C-E1FD-4550-909B-BB294D6707F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ntasy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magic rather than technolo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emphasis on close-range and hand-to-hand combat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D8094-6253-4CEB-8FC7-FD1131368B1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44FA273-2F22-41C8-B7B0-D4B8FFDA15D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most always multipres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rge scal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ndirectly controls units and has godlike view of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quad scal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maller group of 20 individual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need to see the big pic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erial perspective need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F72A5-77A3-48C0-8316-44F889A023E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F08513C-FF4A-46A8-A045-A3ABE4CAB65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must control action at different sca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ually present related data in separate window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 unavailable options gr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beginner and advanced modes for comman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oup commands by fun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6C216-8A26-4950-B452-AA98D3A1E16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BBF2415-99A8-424B-A420-F1A83CCDCC6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Opponen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 tree searc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 tree is the set of all possible future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s approach works for only the simplest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eural ne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mics the brain’s ability to recognize and correctly identify patterns of dat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currently used in consumer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F13B1-9800-4BFC-B252-8B8B979E9A0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E0B410A-0C41-4A1D-9E31-3DC1627E337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Oppon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erarchical finite state machin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successful mechanism for creating AI opponents in war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is a finite state machine?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ceptual machine,not real mechanical engineer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s rules establish a simple behavioral system for an individual automated charac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unit has a set of states that it can be i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each state it continously executes certain behavi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tate has a list of events or conditions that cause it to switch to a new state, e.g. guarding to attack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19FD9-8B8B-4F0D-B1E4-472197CFABD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FDA03E0-E714-4157-BC36-79B26158D3B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Oppon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erarchical finite state machin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erarchical finite state machines i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es higher up in the hierarchy give orders to the ones lower down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gher FSMs can order lower FSMs to change sta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I alone usually can’t beat a human player except in simp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st AI opponents get other advanta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uman doesn’t know where his enemy i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er gives AI more resources to start wi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74E91-7DCA-43FF-B585-C0C380F83BB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95A091C-4167-4F2E-A9E3-0902AF85400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ute the relative values of offensive and defensive unit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Lanchester’s laws and how they affect the relative strengths of forces of different siz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a technology tree of upgrades for the units that you have designe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4DE18-E284-4AF1-834F-B507D5CB5CC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9FD1FC7-5539-4B57-9469-539EF67B538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strategy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fine the orders a player can give in your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balanced set of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Lanchester’s laws in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 technology tree of upgra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nact log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tilize artificial intellig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5840B-2321-46F1-B9D7-B694B330911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3359E37-4CF1-4750-A63E-37F5A57D6EF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e a system of logistics for your game and design the mechanism by which it work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most common types of artificial opponents and their strengths and weakness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1C564-DEAD-4BAA-9E6E-F95680D29A3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62E6A4A-C0CB-496A-AF73-2CAACDF4B63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Strategy Games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majority of challenges are strategic conflict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hooses from a variety of potential actions or moves at most points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is attained by superior planning and taking the best actions; chance must not play a large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ther challenges may also be present;  physical challenges play little or no par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0CD0A-0014-46E1-9A3B-8EA6CC94B4D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3FCB122-2004-452B-9DCF-7BDA463A561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wo main subgen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lassical turn-based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ure strategy games tend to be turn-bas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multiplayer turn-based computer games, players often choose their next move simultaneously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l-time strategy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veloped after turn-based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TSs add time pressure to strategy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86333-7FB0-4669-B1B2-42F104842AD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509234A-4ADC-4E0F-87D1-E6EA08C2E9E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ic confli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flict is combat between groups of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actories generate more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n choose from among a variety of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plomacy and espionage offer alternatives to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68FC2-EEE5-4CC6-A706-C58F368E812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AB34CB1-BBFA-475C-928C-26EDA3B2EF5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oration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s to investigate unknown terri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g of war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unexplored areas shown in black, and explored but unpatrolled regions shown dim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conomic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n collect resources to buy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the economy is complicated, the game is actually a hybrid of a strategy game and a construction and management game, e.g. the </a:t>
            </a: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Civilization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r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A96CE-A3A4-4C38-B3BC-992EF69DFD9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CD0E468-FF5C-489D-8B7D-3403A0C3BD6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actions involve giving orders to uni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e to a loc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t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p mov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ld a pos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 a 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duce new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treat, dash, and patrol are variants of thes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8E2EF-47AF-4E00-86B6-FEFEBEF50A9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99AC6D4-C7A1-4177-B4BC-77283F61D3F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7T17:23:32Z</dcterms:modified>
  <cp:revision>274</cp:revision>
  <dc:subject/>
  <dc:title>Fundamentals of Game Design, 2nd Edition - Ch 14</dc:title>
</cp:coreProperties>
</file>