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13837-5A4B-4801-A961-B36BECB232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ideo game will not respond to player actions that it has not been programmed to recogn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players compete, there is often a winner and a los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ly, the behavior simulations are very simple. The goal of AI research is to create ever more realistic sim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i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imCit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players learn how to attract a larger population and meet their nee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multiplayer games have a communication method built into the software. However, players often use communication software such a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eamSpea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entril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ys and puzzles can be used to play ga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 that can be made while playing are limited by the ru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A455F-9D1C-4915-856A-D739D5918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EA01C-4D21-43DF-A5E4-7FF8207FA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324CF-451E-443D-9DFC-BE92C6D63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D7E43-F920-4500-B58D-579EE5C20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37F9B-068D-47EF-A8CD-F78442A31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265FA-6A16-4FD9-848A-34FC9F498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9BFEB-C0CC-45AB-A491-6CEE72AF2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3A97E-2BDF-403D-9A22-B946C6E97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3C0CA-1E7E-4699-B28E-A85CF595F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A65DF-CB33-438F-A3DC-E4BC0E0FA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64512-651F-4FED-AE2E-6074C965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D1F45-BC94-453D-A123-812025AB5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E2787-9AE8-4388-880E-916726EA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1F9CD-B38C-451B-BD20-16EAE9D8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46BBD-4D6F-461B-8D14-DDA13D050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59D6E-B6D7-4448-AB5B-CA6C42BEA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9CFD2-4C9D-44E8-B6FB-52B8C8389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61A0D-26EA-45E8-A806-6EDE7F061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18D98-8A1C-4F97-A1F3-4781A8BE1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30005-395A-4862-9EA8-57DF04D79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FC02C-8706-406B-B6F5-FA6D489CD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F187C-3405-40FC-83AD-EC3087B2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37003-920F-473D-8AEB-A09EC625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AED53-E1AC-489D-BEEA-E4C62C7B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888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  Games and Video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0F22D-45ED-4DBD-9DA8-96EDDE4E4220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7200" y="6244920"/>
            <a:ext cx="2641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</a:t>
            </a: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3E006-4452-4F3F-80F0-5B1C47F0F20C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8FFBA-2B7B-4FBF-96D6-261D7877AB18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: Games and Video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 must overcome a nontrivial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require mental or physical eff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challenge can be composed of several smaller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can be required to reach the goal or optional to add game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BB96D-87C1-4CEA-9320-69C0D41ACE3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0F30E12-9744-4D75-9672-98D2A296A7F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rules determine what actions are available to the player(s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fferent actions may b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mitted by the rules, or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d by the rules, 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hibited by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permit only actions that are programmed into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34FF2-70EA-416D-BB3E-F56960C31D6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D9B48FD-494F-4EB6-A73D-D88EE935D65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therefore consists of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hallenges that a player must face to arrive at the object of the game, a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actions that the player is permitted to take to address those challenges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plus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ther possible actions that are enjoya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086BF-3B56-4E29-80B6-52CA25456A8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0CF84F0-83B6-4380-8EF6-CA6975A52D8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airn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expect that the rules will guarantee that the game is fai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irness is not an essential element of a game, but a quality of goo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often change rules of a game if they perceive it as un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irness is particularly important in video games because video games seldom allow rule cha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470F2-E2F1-469A-9F27-B133FA13548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1B32940-5DC6-43AB-BBDD-05F22C2FCAC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ymmetry and Asymmet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 symmetric game, all players use the same rules to accomplish the same go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n asymmetric game, different players follow different rules to accomplish different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7808D-A666-4213-A16B-BBC1E2EAF9A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EB932F2-3C4A-43E3-9AE4-18D864BCABC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etition and Cooper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compete, they try to accomplish mutually exclusive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cooperate, they work together to accomplish goals that are the same or simila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 are ways to build cooperation and competition into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46C65-FFB8-46DA-9847-0BBBE2C1462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25DA14A-9CA3-428E-955E-19386B343F5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Hiding the Ru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do not require written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game enforces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can’t chang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 adequate clues for players to overcome a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ing trial and error to overcome a challenge frustrates many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1C2EB-974C-4FF6-9F43-D507BB97C89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9F7D57B-32DB-4C59-8F46-B25A4436A5C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etting the Pa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software determines the speed of the events in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 can’t affect the speed of the game unless the software has to wait for player inpu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computer allows for modulation of the pace, so players can rest between periods of intense activ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7AE6A-3987-4AA5-AC41-EB17E6CE513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3A07D56-6DE2-4823-B5D4-9238068462C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resenting a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present a game world, video games can u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c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i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alo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xt and subtit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66B57-765D-48FD-BC40-3F0D7D2F765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BA6A858-D5E2-4257-807B-A7476C9CCAE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Intelligen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day, artificial intelligence is used fo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hfi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ing the behavior of people and cr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artificial intelligence advances, games will add more uses for i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ural language pars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ural language gene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tern recogn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D6717-E92D-41CE-B5E9-94E7A60C4B2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7BCBE98-0955-4C00-B633-68280237583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essential elements of a game—rules, goals, play, and pretending—and what they do in the context of playing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formal definition of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nature of challenges and actions, as well as the formal definition of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89CE0-596D-42ED-AD6F-CA0AF0BBFBB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4AF6416-0F3F-4736-A19A-FD4EEA433C7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esthet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 game elements should be high in quality and present a harmonious look and fe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look includes the quality and appearance of the graphics, movie clips, animation, buttons, and fo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eel includes the music, dialog, user interface, and objecti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armony is the feeling that all game elements are part of a coherent wh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7F2D5-1A77-476D-BF37-91AD50888DB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6393CE4-E5B2-4643-9DD4-20990301B04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torytell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games incorporate some kind of 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can mix storylike and gamelike entertainment almost seamless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make player feel he is inside a story and affecting flow of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is one reason why video games are considered a new mediu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49AAF-439E-40BC-85A1-B4DB689384A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C47DC00-50A2-4302-ABCD-73D81E436AA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isks and Reward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isk is created by uncertain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the player overcomes the risk, a reward should be give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size of the reward should match the size of the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9AC15-B579-479F-954B-3F3D6FDF86C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4622E12-4A70-41A1-B804-3047C80B711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velty and Learn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can offer more variety and content than any traditional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velty alone is not enough to sustain player interest, howev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ople enjoy learning when it takes place in an enjoyable context or provides useful maste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should supply both enjoyable context and useful maste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7A0DC-D11F-4060-815F-E90BEE22C34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BA96852-6FFA-41CB-8723-3523645A30A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ve and Express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ople love to select, design, and customiz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s activity can have a direct effect on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video games reach a wider audience, creative and expressive play become increasingly importa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608F7-E63B-4FBE-8CA3-60B12A7DAAB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7B5A1EC-B103-438E-99C6-9875FF0B189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mmer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mersed players lose track of the real world outside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mersion can b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ctical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e sense of being “in the groove”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i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bserving, calculating, plan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e feeling of being inside a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AF2C1-E93A-476A-B49C-0B8BD66D577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9C14D74-4B44-433C-94D1-55AE15368EB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ocializ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traditional games are played with other people, making it a social activ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ral methods allow people to play video games toge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ltiplayer loc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tworked play (multiplayer distributed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N par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oup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147A7-FA9B-49B9-BB38-F1A84E17E2E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E64A3F8-AA1F-459C-BBDD-1A6BDBC872F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lements of a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interaction of challeng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role of the computer in video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various ways that games entert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187D1-69CD-422E-B2D7-F122BBC435B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08C02B4-3693-46B9-85E4-EA4EAF17037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come familiar with the concepts of symmetry and asymmetry, fairness, and competition and cooperat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arn the various benefits that computers bring to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come familiar with the ways in which video games entertain peopl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DE7ED-B08D-41F7-9D67-D16E4F35161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41523BE-5411-4460-BC9F-E3DD646606B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ys do not have rules or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s have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have rules and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1454C-76B1-433E-BC3B-123771D3870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59CA290-0F23-4D84-815E-E519C5FEC77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must inclu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tended re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nontrivial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45E36-3E4C-45D1-A3A9-E0EF0A3FE53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1564974-8D12-4B46-AE98-A3FBE09E9A0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requires particip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ing different choices while playing the game a second time affects the resul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etend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s an artificial reality known as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agic cir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importance is assigned to events within the magic cir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leave the magic circle, stop play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E4274-7883-4B33-AFFA-86C4F105E36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D0695F5-D1BB-4D76-9B06-4564ADA9F4F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ery game must have a nontrivial goal or ob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rules define the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game designer sets the rules, thus defining the object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must overcome one or more challenges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achieve the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goal is often a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v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ctory condition, but victory or defeat is not required in all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3076B-A959-4900-9340-1622DC22701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56D7A27-90DB-410F-BCB5-3DD941C5B79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are definitions and instructions that players accept for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define the actions the players may select that will help them achieve the object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designers must make the rules understandable to the player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CB6D7-2D6C-4E81-830F-F19EAB50DDF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E749F24-9218-4BD3-BA1F-3EC11826B59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ings That a Game Is No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does not have to inclu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et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tertain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se are qualities of some games, but not essential to the defini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rious games are not necessarily made for entertainment or fu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58BA0-AF64-4519-974B-DD063286A7F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EEB8863-E881-48F9-A63F-85E14AA0AB5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3:54Z</dcterms:modified>
  <cp:revision>96</cp:revision>
  <dc:subject/>
  <dc:title>Fundamentals of Game Design, 2nd Edition - Ch 1</dc:title>
</cp:coreProperties>
</file>