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230F4-D523-498B-B290-D87F2D6670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69863-3F6F-45A8-B846-7945A817A9B0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9A182-DD9D-4A01-8D8A-52B3BCD59BEB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DAE28-2454-48F0-85C5-D051096963F6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F0624B-F33E-4A12-BB8E-3BC374BE8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3B60C8-E80A-46AA-B447-7C8D8658E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EEA6CC-DDE9-4AD5-8453-3EC4CB058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850C42-7F82-460C-B582-2915C1239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C9BC9-2E17-4317-99DD-F730B956E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8278C-94D0-4F63-86D5-99254FADB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88990-D2E9-43FB-9FCE-D7ABF080D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03B65-4D8A-43B4-B2D3-B81F26BF6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67219-37A8-4FA0-9293-8CA953CDB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F8EBA-494F-472E-8393-815A5ACAF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7E5BE-37E4-46D1-950C-4E08921A7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710BD5-3323-493F-80EC-296DF8160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014EF-0277-455D-8001-79B00C493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82C9D-EB4C-4668-870B-558F3A4AC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50571-5F10-488B-AE1E-920272970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4C868-7255-4931-9A1F-0EC830C23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218D9-086B-4505-B697-CE48A8755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235A1-9CE7-495E-8798-11DB33148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EB0DB3-8A5B-441B-A5A6-850B68CBD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005C3F-2464-4451-A5AF-08422C5FF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AC0D89-7B21-4D18-B706-111BE6CCC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235A7E-6444-479E-B0FF-B3EED6332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AD5E60-9337-4594-983B-6622DCC8F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57DF1F-20B9-446B-A46D-8C48C24E7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2852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7 Vehicle Simul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885E3-1C95-42C1-B047-9F12E965312A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76633-6BD1-4D9D-AB55-A875BA2CAB2B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49932-F937-4DDD-9A3F-95F8C018933D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TextBox 12290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7: Vehicle Simulation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1680" y="479916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ehicle simulations are technologically oriented, so the core mechanics are almost entirely about phys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ing oppon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 different vehicles with different characterist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dify the behavior of individual oppon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18D451-DA15-40A3-8CBD-4E1AF3DBC7BF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4081A35-2755-43B4-84DE-2DEF472947F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amag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ildren’s games can ignore damage to the vehic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amage can be modeled as a single variable like health poi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curate modeling divides the vehicle into area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racks damage in each individual are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mputes damage’s effect on vehicle performan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EF0401-00FB-4684-9856-86A16D2A163A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2F20966-1700-408F-937F-9F34308AE09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</a:t>
            </a:r>
            <a:br>
              <a:rPr sz="4200"/>
            </a:b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andscape is an important part of the entertainm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light simulators—setting is the plane and the grou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riving simulators—racetrack, road, or off-roa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eather affects vehicle handl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sider adding people to racetracks and airports to enhance immer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67C971-D421-455A-A531-57C2A9062A74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62565B7-F2BE-4318-B801-8AB9350B831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ther Vehicl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oats and ship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luid medium changes handling characteristics, making it different from driving simulat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arge warships simulated as parts of flee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ubmarines are popular simula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ailing simulations are ra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cean is not modeled accurate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horeline is usually correc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pth, tides, currents, reefs are no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C4B170-80BA-47F8-9294-45D08EE31EBE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5D41059-FCD8-4A80-9D2A-AFD9FE0B614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ther Vehicl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anks and mech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otating turret on tanks adds complex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ech is an invented mechanism unrestricted by real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pacecraf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jority of spacecraft simulations are science fi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t modeled accurately—similar to fighter plan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6947C5-D185-4A5C-B660-21212F079E9F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0E65930-915F-42D9-A57C-75FA6C12E28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Intellectual Property Righ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erally, you can simulate military equipment without obtaining permission from the manufactur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 simulate an existing car or other civilian vehicle, you need a license from the manufactur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1865E3-9B36-40E6-8818-11B880CE16FC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B337D56-DBFA-48B2-A65D-6BB1E32CDBB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on model—vehicle is the avatar; view through cockpit window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iews common to driving and flight simulat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ilot’s/driver’s view—defaul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ckpit-removed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hase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ar, side, and front view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ree-roaming camer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AA238-DC16-42F0-8E85-51AB3FCD8FBA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88B13C8-E7E4-4487-B72F-950CC4BF76B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iews unique to military flight simulat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round target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omb or missile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iews unique to driving simulat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rack-side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randstand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limp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AA4F78-1024-4E70-A3F2-1271F78B873B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732790C-1DB0-4E72-8D1E-5D3113DD1C7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iggest challenge is mapping vehicle’s real controls to those available on target machi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plific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ilitary simulators require some simplific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light simulators commonly simplify navig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flight simulators produce automatically coordinated fligh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7EE636-7B7A-4C87-BC05-0DBCB839CB38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B6851B8-FC5E-4B80-8936-CA5D85EFD59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 design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ing the sense of speed—critical in driving simula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splay a speedomet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Vary the driving surfa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clude roadside objec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se sound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-for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ilitary planes can show a G-force met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ilots can black out or red ou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1B6592-A0A2-427D-AC92-BECECEEDFB15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6E1472B-45B1-417D-AEAF-E3664B49FAE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Know the different types of vehicle simulation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Know how the design of the game world influences the player’s perception of spee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some ways to design artificial opponents for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D722D7-C686-41AD-B5F2-A76FABF2A22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9D5C661-9CE8-46DF-AD78-CEF036A15ED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different types of vehicle simulation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vehicle attributes and characterist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reate AI oppon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list the requirements for a military simul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the UI for a vehicle simul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5E8A4E-B667-48B4-B629-1419CD94736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1250580-E390-4ED7-A5C9-CA531ACF65D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distinctions between military and civilian flight simula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e familiar with the various views often used in vehicle simulation interfa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A3CB1C-0771-4567-9B0B-4EFC085A40BF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F08A789-F02F-4EB1-8711-B3CAD26CE6B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Vehicle Simulations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eels like driving, flying, or controlling a vehic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mulations vary from realistically handling the vehicle to adding game mechanics such as combat, racing, and special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pace and water vehicle simulations follow the same fundamental features as flying and driving simula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F1A96B-F4D3-46A0-8782-E003E2F9C4E2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5008700-9E80-485D-89B5-E6ADABCA649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light simulato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ivilian flight simulators are realistic and don’t include comba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litary flight simulators are simplified but provide tactical conflict as well as physical challeng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riving simulato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rganized racing is driving in an existing racing class; requires licens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maginary racing uses imaginary situa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4DA372-0153-4AF0-9B94-2657442EEBA4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2C23F07-2F8B-4B4C-B7FD-866D1F8D4E8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rists demand highly accurate simulations of real vehic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sual players don’t care about the details as long as they can fly or dr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A6995A-26E0-4A17-9A25-A98BFBD9C30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5C4A4F2-FFBC-47E9-BDC0-4B94F11E984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player’s ro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light simulator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ilot or military positions such as navigator or bombardi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acing-oriented driving games—driver or mechanic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1EED4C-3818-4B36-BFD0-0F273D580675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215C7C8-CE30-4B46-876A-B8F3B781ACB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petition mod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litary flight simulators—similar to first-person shoo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ivilian flight simulators—single-player m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riving simulators—single-player games or multiplayer ra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litary flight simulators and organized race-driving simulators—often include career mode and campaign m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71710E-73FE-4F7E-B153-C81706627368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01D1396-68E9-42DD-A3DA-32A393D0C10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play and victory condi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imary challenge is controlling the vehic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litary flight sims must also achieve the mission objec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ype of plane determines gamepla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ny offer a series of missi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ivilian flight sims seldom have victory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rganized racing sims take gameplay from the real ra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19482A-A218-4908-A054-BBE48E6906B8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A2BAF3F-16FD-4A21-88B1-897276ADAD3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8T13:51:43Z</dcterms:modified>
  <cp:revision>383</cp:revision>
  <dc:subject/>
  <dc:title>Fundamentals of Game Design, 2nd Edition - Ch 17</dc:title>
</cp:coreProperties>
</file>