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30E4-1C78-4E65-AA6D-5F46D3C80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65F3-9246-4F13-83C2-A0AB157484A3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9676-237E-43C1-BD26-BF415C685193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B107E-AA2A-43E4-BE40-3DC62734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E2F94-DDE6-4CE1-939C-F77F2BAC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09C6F-C933-47DB-9D3C-2556A649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2FC27-9848-4010-96E5-252201804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6462-FC97-4CDE-955F-5B1ADCC8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11BB-1327-4A8A-AD67-939B5196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F4C3-6497-4513-A375-2B8F006E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975C-976A-402D-8150-49B46B24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0065-76A7-4351-AC25-6F136158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C37B-D0F0-4425-8F16-FAE65D05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0FAB-292A-4F62-82E2-656AFF6D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85896-8734-4033-94BF-4E55AB99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86EB-E35D-4302-86EE-12F70D1E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15A7-13B4-4A67-881A-527743E9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CCB2-746E-4B07-81F2-1B4CACF8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AFAD-2B91-44BB-97B6-488635E5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931B-AC22-4685-842D-294B0720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5CD9B-A173-4F06-8A09-13E18970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77C6C-712C-4E86-9A08-5C540774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99F7A-7E9C-4959-96D8-E07AFCD9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44394-E042-4E43-8DF3-874349D4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934F0-D1F6-4D39-8A51-7B19E6F6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F7A8B-6A96-4502-99CF-95612586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FC861-DE3C-4D57-BB82-A248EDEA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6 Sports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A8B6-C85E-44FB-97E4-D7CEE495F5E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8A1D-1B30-41F8-BA23-011BC869FCC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CC83-CFF8-4474-AAE5-A52FDB88FE3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6: Sports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pportunities for creative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cre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reate their own te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create their own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ing field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edit the shape of the playing field if sport allows this op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1CC9B-A85B-4264-B5C2-5B32A04C863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D20F51-E268-4862-9F23-E3705246D6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venting a sport is a risky option that is hard to s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can invoke special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stant replay is an essential fea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ll usual video forward/reverse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move camera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locking the camera to an athlete or the ba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CDEAB-FE75-4037-A32D-8DA80D94624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E0B86F-48E7-47B9-882A-B568F4FAAE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s for sports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engine determines the behavior of moving bodies in the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should not be perfectly realistic becau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does not have precise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not a professional athle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DEDEE-A992-4B21-84E2-D8EC179D075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94279F-0406-4AD2-8965-F376A81FC3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ting the athle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ing ratings is a big ta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ings provide data for the physics engine to simulate the athletes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ratings are provided for all athletes—speed, agility, weight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ized ratings apply to specific positions—passing strength, passing accuracy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9C4E8-00C0-430B-9CFC-35714CB8E3A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6BCF51-1E5F-4330-817B-D6C3AACAC6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hlete AI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state s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in a match is broken into states defined by rules and strategy (e.g., fly ball, foul ball, grounder, strikeout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flowchart to map the game’s sta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collective and individual goals in each st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dividual goals are what each athlete tries to achieve in the course of playing his pos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llective goal is what the team is trying to achieve as a whole; the collective goal determines individual go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05F1D-2072-4A14-818F-6D8DC5C4C4D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8E4E67-6138-4CA3-9F7B-AF53BC266B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ju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juries introduce som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inju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cade mode versus simulation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cade mode increases action and decreases realism; produces higher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on mode increases realism but probably decreases 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DDBC7-3307-443B-82FC-8CD6C49A17A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928391-9FD4-41E0-AD52-BDFF509406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matches automat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plays out matches and records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fake results quickly, roll dice to generate game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ores must be restricted to a credible 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generate other stat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a home field advantage is not recommen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DEE19-9A4A-4BAF-82D9-71ADE1D3A38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E93015-DFDC-4524-BC43-A514BACF0C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copies of real stadiums and aren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significantly affects games played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wd noises contribute to set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E1FA6-F4AC-44E1-8CF5-D55F24E715F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C8A7FE-13C5-4485-AB4C-BB6A5FAFC8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censes, trademarks, and publicity righ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and league tradema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merica, the league holds the license to use the team and league names, logos, uniform designs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variety of governing bodies manage individual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nts are owned by the organization producing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diums are now asserting trademark rights to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 publicity rights owned by the athlete or an organ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8B406-87DE-4CB4-906C-2DEAEE150F6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BD8E75-040C-4DBC-AEFF-153DBCD6E6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dio commenta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ed to feel like you’re watching the match on tele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-by-play and color comment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e the events that should trigger a specific com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6260F-961E-4C7A-B94F-82BFAA961D5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E0958C-C33D-48AC-9F4C-89B94C4B1B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hape 1331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2F15-A8D7-4C50-A5AD-0191FB92D706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efinition of athletic sports games and be familiar with the types of challenges that these types of sports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challenges of meeting players’ expectations about a real-world game in a video game implement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AEDE8-7218-43BB-A195-33E95AC107D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332772-B603-4616-9ABF-7A12CE50D4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usually controls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ich athlete is being controlled can change as the play progresses (in team sport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use first-person; players watch the athle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hea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dividual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d view or side vie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-in-pic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ports with more than one focal point, e.g. baseball or crick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A8E99-157E-4107-9EA3-C5C5AFB76B2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19F102-C575-43BC-828A-DDFB258A3B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tion-sensitive (e.g. Wii controller) best for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eam games, let the player press a button to switch control to the most appropriate defending athle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r interface can change every second, depending on conditions in the mat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requires a set of op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rk the controlled athlete with a lab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overlays rather than pull-down men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D971E-A59A-4A9F-846B-EF50E0600BF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B2ECF9-FDA3-4163-B406-40DFAECDF5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player’s expectations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dapt a sport for a video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at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flowchart states in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cense teams and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user interface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06BE7-2D4F-4698-AB11-7C21B3E44CA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5AFB72-39F8-4A85-9EE0-9A27D79E8D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hape 1433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3674-D2B7-41D3-93B3-2C97AFF95852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basics of adapting a physical sports game mechanic to a virtual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design complexities for physics, AI, and player skill ratings required for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se flowcharting to help define AI states within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3383B-FF0D-48D7-A6A3-3E0990C7649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C4FE26-CEEC-4053-95F4-BFEE719038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hape 1536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CEF5-313B-4C0A-9C8B-025BB5C5E5AD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issues involved in licensing sports organizations, teams, and players, including the use of names and im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mapping known physical game play mechanics to computer-human interface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7B96F-2C1A-44BD-ADFC-2E8D5E248CE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D12631-0B63-408D-B033-50FC8DAB74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ports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ports game simulates some aspect of a real or imaginary athletic sport, whether it is playing in matches, managing a team or career, or both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tch play makes use of physical and strateg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nagement challenges are chiefly econom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5F3B3-9488-48DA-B050-99123916DCF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1118AB-B274-4C01-A9E5-ADDA4A5ACF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gameplay mode is match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utside of match play, game’s modes relate to other aspects of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the game for coaching tas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hlete is most common ro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 follows the action rather than a single athlete in t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ay also take role of coach or manag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9D3CC-2E27-414C-95EB-A38F8E0FA89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DD9EB3-3166-4256-B276-BACB515931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and actions match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hlete—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ach—Strategic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might have to be relaxed because controlling athletes onscreen does not correspond exactly to real-life sports experi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to decide what to do about athlete mistakes outside of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set referee parame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D93A3-4E09-4382-AD48-8E9F87A51FD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6F76C2-2826-429B-8990-C80869FDB2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 competition modes are allow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s are more popular on consoles to permit multiplayer 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mode should include computer versus itself so players can watch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F89D4-944B-416E-AAFA-A4864A636CC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D1C4A4-5C1E-4A51-8508-64C9DEA6BA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ch real sport’s victory and loss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as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hibiti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dden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nd rob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rnament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anchise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AF4D1-519C-4D6B-B2FF-CE749A1DA21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9E5185-2FAE-4EB9-8181-76E7EF29E4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43:47Z</dcterms:modified>
  <cp:revision>327</cp:revision>
  <dc:subject/>
  <dc:title>Fundamentals of Game Design, 2nd Edition - Ch 16</dc:title>
</cp:coreProperties>
</file>