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0CF6-75F2-49A8-ABCC-3E0123DF7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ers must lose arcade games to keep putting in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3E002-D4E2-4D21-AB3A-4FD071F6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78485-1E99-4083-8948-B70EEEF5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2242F-15C9-41EE-9DB9-DFC502888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66B6F-9D15-4070-8BAD-D6D31557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F0A0-CD57-4827-9EF1-274C1968F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0599-3133-4734-92EF-0BE00202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CC73-91B6-4FF8-8270-56539E11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D565-786A-4646-BD50-A45607E5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D031-5950-47AC-A935-6DE08D46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069C-804E-4B61-8D53-9A232F52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A8BB-A5EE-4780-8766-CED4B56B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1FD90-1D7E-4D55-BEBF-11D02D57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2B3F-D563-4A73-B8B8-1522D157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D456-5134-43A4-B555-0FB30CC3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4B24-0DED-472A-90D9-FAC6B212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8D71-CE65-42CA-8015-DC9218D2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1737-11C7-4D5F-8EF6-8A9FF0EA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1E416-1DB2-48E5-B135-F438729E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84952-8936-4756-AAB9-AC864DCC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3F916-7CD4-41A2-B717-DE497369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2F37D-E861-4F48-8F02-B05466F6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B9258-BDA6-4EC9-8B44-2E736DFF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90C85-EFB1-4562-9B87-E88C8680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5559A-4F31-4F9D-9A33-DF18D4A1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3 Action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BEBC-6CB3-4704-8964-5A799891005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DB24-FB8A-4145-9773-8852D2850777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5267-9D8C-45F1-80BD-0B2C4F97BAF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3: Action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shooting, hand-to-hand fighting, or abstract puzzle-solv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skills such as maneuvering and path plann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77608-9DE8-459E-85A9-D90D0C52124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146ABA-A9C6-456D-B743-456979D281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s usually completed in linear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s often grouped by theme and end with a bo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ixed challenges are easier to build, but repetitio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killed, avatars reappear at a checkpoi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exits, level warps, and 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exits lead to the next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warps exit the level and jump ahead several leve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leporter jumps within the sam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D6A6F-267E-4575-8B35-BA06AD88E00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BAB061-29F1-470C-A535-D57BD60DEA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your pac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ainstorm ideas for moments of excit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der ideas by prior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story frame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key events for intensity, and sequence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and sequence story plot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ime between high-intensity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aluate the tre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constructing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eratively test, review, and adju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49F1F-8EF9-4165-B722-3E90C3F7F2E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9C371D-9913-472E-A2C2-F38F792DC7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s typically faced by three kinds of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ssive obstacle impedes movement without threat (wa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onary danger attacks approaching avatar (electric fence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ve dangers attack and move arou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E7201-591C-4EB1-BCED-2AF6DBA5D85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75FC1B-4ACF-4301-B202-E96560D27D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v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mies attack in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ig boss guards the end of the them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ldcard enemies break up the predict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 partition levels and control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nster generators or spawn points cause new enemies to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D852C-B890-42C5-B7D0-9CF0FE6A51B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6E2065-F98E-45EC-885F-F599ABF853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utine actions include maneuvering an avatar, aiming and shooting, collecting and selecting, manipulating objects, and fighting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rt bomb clears enemies from the immediate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perspace escape immediately moves the player at the risk of unexpectedly entering a dangerous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652E5-0F7F-4C6F-A586-90AE7BC9E59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63A6FA-9B5C-4CF9-9F31-5855CF5F91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re simple and obvio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ves provide several reprieves from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ergy is replenished by collectibles or power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werups increase streng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lectibles are common but not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rease the sco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ock secret levels or cause special bonus ev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6DD31-9DEA-482A-8650-B6EA946173E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5A66C5-6989-4B81-88F8-A668AEA612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counts down time to events and catastrophes or the amount of time left to finish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ore indicate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0ACF7-0ECB-45D8-86D4-C77202AE1C1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F7307B-F67C-42E9-B21D-53945A7C85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y arcade (or arcade-like) games don’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ing a structured story means the game will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most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manipulation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or omnipresent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emmin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also us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DAE85-82A7-4886-92D3-EEDACD0299E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075005-98CC-4C93-B7C2-067252B1DF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camera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s side-scrolling and top-scrolling perspecti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inuous, variable, and parallax scrol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first person is tied to the avatar with a limited field of 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third person lets the player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both, switchable at player op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Resident Evil 4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es these somewhat, moving camera to just behind avatar’s shoul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AC5DE-5FA6-4459-AF1A-72B51E7B015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E47993-3F37-4C05-A3D8-7FA88CD522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dentify the qualities that set action games apart from other 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stinct subgenres of action games and their particular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characteristic features of action games, such as levels, lives, and powerups, to design games of your 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sign limitations imposed by placing the player under time pressu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2467D-FD2D-4764-BB45-6F2A206B15C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6421E4-7E4E-4C19-8D3E-E23C2351B5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mplications of 2D an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it is difficult to tell the speed or distance of objects that come directly toward the play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3D games use the environment to present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enemies can hide and sneak up on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mera moves depending on the circumstan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a good model for fast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dden changes of camera position are disorienting during high-speed ac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BB3FF-722B-4B87-BE89-E6AFBA3FE7B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3758DB-4111-4D81-B626-39E2C3215E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only as much as the player needs to kn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on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ndicators rather than numbers or t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w attention to critic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s and mini-maps can be shown as transparent overlays; keep them si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olor to identify character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rols should be as simple as possi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07CF0-D63F-41FE-854D-AD31E3D0382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E5BB21-6FEC-480A-806E-768672BBED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ecognize action game sub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d use characteristics of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design limitations of 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2DDA9-94E7-4B1A-A758-23772ED6FDF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2579F7-ABDC-4074-BDF5-2DD80E05A2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ction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action game is one in which the majority of challenges presented are tests of the player’s physical skil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, tactical conflict, and exploration challenges are often present as w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est action games are called twitch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DA551-CC3A-4F9F-B99B-9C4A11FCBA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E297AE-D8E9-4835-9E46-770D8009D5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amiliar and popular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use a ranged weap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or side-view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are under constant attack so shoot everyth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imited ammun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realistic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8684F-358F-4309-80A5-1C2B27E2AE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4F6D3F-518D-4F26-8D54-5BCF22D630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edge of game hard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s are more realistic than 2D shoo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first-person or third-person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rther subgenre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ctical 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rvival horro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rena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7FD55-A1CD-4407-91FB-E8CD49B26D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801A1D-20D3-4F7A-A055-E8E4A4CF30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tfor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rtoonish games in which an avatar moves through a vertically exaggerated environment, jumping on and off platfor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jum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ghly unrealistic phys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2D side-scrolling games with humanoid avatar are platform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uper Mario Bros.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classic exa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C1C08-E1E4-457F-A4D6-2E663CD896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9D54E1-BC6B-49D3-83B7-A8E4FEF6AD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ghti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al challenges test reaction time and tim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 hand-to-hand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y use a few ranged 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wo major categories: one-on-one and mêlé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ous boxing games usually classed as sports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include maneuvering, attacking, and def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o moves are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is largely 2D in the plane of the video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22E44-FC1D-46A6-BBC8-A7D8325D45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AC7A79-BB3B-40A3-85B4-05BFF1E409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 player to solve problems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e, abstract, limited control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archetypal fast puzzl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gamers enjoy this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al for handheld devices and cell pho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5F8B9-1F20-49FD-8BCA-91EB1504F99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1CFE02-D1BF-4E22-869E-C79176A4EC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-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 combines action and adven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include physical challenge, story, inventory, and 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nce and rhyth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player’s sense of rhy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s buttons to make the avatar d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cialized hardware common: dance mat, conga drums, marac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girl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ss pointless viol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E268D-8017-4F7C-A999-1F04920FADC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86F0DA-8E08-4346-B2B2-FBB27AC731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5:17:29Z</dcterms:modified>
  <cp:revision>247</cp:revision>
  <dc:subject/>
  <dc:title>Fundamentals of Game Design, 2nd Edition - Ch 13</dc:title>
</cp:coreProperties>
</file>