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5100F-7068-437E-BD33-CE525B297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ing errors, tuning, and polishing are the same practices any professional uses when crafting a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play is the heart of a fun game. The player is the sou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84E52-B405-4852-A617-A2659A9EE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9749D-2C06-41B7-A166-094470FBC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DB159-9D6E-49A8-BE69-B1B57E5FC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9299B-BB61-431D-B099-BC3AEC42B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DCAF9-D235-4B8D-80F7-A9981A2FD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C8457-8F62-4C34-A197-BF5BD59F9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2CB60-BC39-452E-9A13-C8F52F394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087B7-BF01-4153-8E6A-095C012AA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882E6-048D-4016-885B-31896E91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67438-CA39-404F-AB0F-765FEE339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628BC-B59A-4E5B-81DA-13E7CE50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1CD86-A091-40DD-9491-B451E0654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4A611-93EE-454A-8E9F-5DA8C364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1FFBD-DA5E-4FE6-B3F1-26A4E482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E374E-6156-4B9F-89C9-A6AFA6A7D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8A856-303B-4334-B7EA-98B6533F4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16875-F8DB-4E3C-B2C4-2EA805BA4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9B2A8-78FB-48B4-810A-EA8D338BC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12DD6-5531-45C7-95CA-B5721C070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33CFF-AB88-4F80-BB83-569E4EDC9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96624-7E27-491F-85FA-B9B823F90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AA00E-5BBE-4177-B52D-48663BA5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B52CA-20EF-4C8E-9C07-8FA09580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0350E-B20A-4800-954E-6EB7D743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9 Game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9EB16-D1F9-450F-A956-20FC2BFA2378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2651F-F16D-42AA-8CA6-157A6661A7E8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DFE1B-479F-4879-9D30-442D5DC017BF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9: Gameplay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 coordina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speed and reaction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ccuracy and preci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intuitive understanding of phys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timing and rhyth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bility to make combination mov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duce time available to increas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F3BD9-3D3C-49AF-A548-62122E9FFE7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538B994-CBB2-4629-9996-7F8293DE894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c and mathematic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rmal logic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 outside knowledge requi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increase difficulty, increase the number of objects and the ways they can be manipulat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normally get all the time they need to sol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 puzzles that can only be solved by trial-and-err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thematical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s require players to reason about probabil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ke educated guesses with imperfect knowled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71E3D-30E8-4C79-BA1E-CAF9B4292D8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212625E-8459-4DEB-A230-346E06E9FC1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ces and time press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first to accomplish a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be combined with other types of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ime pressure increases stress on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ual knowledge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rect tests of factual knowledge usually occur only in trivia and quiz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other kinds of games, all facts must be present in the game or you must make it clear in advance that outside knowledge is requir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FBD28-16EB-4A50-B941-FF1CDE75C07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4D0F513-9333-4545-81F9-3B24F826B4B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mory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ability to recall things seen or heard i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it easier, give players longer to memorize and test them soon after they have done s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ttern recogni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ability to recognize visible, audible, changing, or behavioral patter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increase difficulty, make the pattern longer, more intricate, or more subt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A6B53-965D-4ABD-934F-2E396D573C5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B4A783A-88CE-49CF-BA08-58D56EE4927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atial awareness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bility to learn and naviga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decrease difficulty, provide a ma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ed 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y obstacle that prevents the player from proceeding until he disables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 unmarked switches far from the do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1D8DA-BDD7-476E-8284-8DACB28F17D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D2AB6CD-877E-451F-8E5B-8009E3AA4D7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vice that harms the avatar when trigge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un comes from outwitting the tra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zes and illogical sp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very place looks alike and player must discover relationships between the area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 be implemented as logic or pattern-recognition puzzl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062E8-86CC-4F18-91AE-C7FA387E74B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8CD76A2-5D4D-4DA2-9CC5-2AE26FAE33E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lepor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chanism that transports player to a new loc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make the challenge easier, make the teleporter predictable and reversi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ing hidden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imes hidden in reasonable places player can deduce from clu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imes hidden in obscure o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Easter egg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are special rewards in particularly obscure loca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13FB9-E7EF-4161-AFF9-66CF1C27484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AAF998D-BC11-47E6-AE80-907977E71BA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fli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s direct opposition of forces, some of which are under player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flict challenges can be broken down into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rateg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ac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og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urvival and reduction of enemy fo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ding vulnerable items or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F8E4C-CF9C-43E4-B0D0-47ACD12A86F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1B4F2A2-68F0-4779-9F22-0BF9F4C6441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conom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ehavior of resources creates economic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umulating resource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this can be wealth, points, or anything valua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ing balanc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this can be a more interesting challenge than simply accumulating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ring for living thing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hallenges the player to meet the needs of each individu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511FC-6C94-4BC3-B0C4-13D8E02D0BB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6D5F4E5-040E-4542-8EA3-1A667087407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ceptual reasoning and lateral thinking puzz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ual reasoning puzzles require reasoning and knowledge to solve a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teral thinking uses extrinsic knowledge in unexpected way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1CFF2-A864-45CF-BA94-2C6D6DA3092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06931E6-4441-4062-A8DC-8543AA7596B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basic principles that a designer should follow to make games fu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the hierarchy of challenges requires players to complete atomic challenges, sub-missions, and missions to accomplish the ultimate goal of winning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intrinsic skill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required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d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res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nd discuss how these factors contribute to the difficulty of the game 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831E5-1A07-4FB1-8F80-EEDD88862B4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6F92EB2-FA9B-494C-BF53-BF4CF8F0A25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for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are intended to mee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offer fewer actions than challenges to limit size of user interface and animation co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can address more than one type of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ased on player’s role and actions to overcom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86A28-290B-43FE-8399-0CD242C563E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31B4B97-893F-490D-AED4-C1AD2AE97F6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that serve other fun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not related to challenges include actions for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structured pla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ion and self-expres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iz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rticipating in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rolling the game softwa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FE21C-9400-437A-8EFE-F6E4BD06D5C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93D465A-E81F-4790-91EB-BC509DB0D75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aving the Gam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sons for saving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leave and return la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t player recover from mistak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courage player to try alternate strate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equences for immersion and storytell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rms immer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duces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0115E-78CA-4CD0-9702-631854C8AE9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966E5CA-D10C-4AA4-9DE9-AA7577E079F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aving the Gam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ays of saving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ssword to restart a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ve to a file or save slo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Quick s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tic save and checkpoin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ways allow players some way to save and relo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4F585-2496-4C04-9597-3BA4E06917C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0D105A1-921B-483E-982B-EA8879BA36C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s the heart of a game’s 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can be organized into a hierarch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 and stress determine absolut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ly used challenges test different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ew actions can be used to overcome many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be allowed to save and reloa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0326D-D708-4D12-81A5-ED445C73C7F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05EA930-802A-44F5-9E8D-4315735771C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challenges commonly used i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ctions in the context of the game world and describe how actions are selected to meet specific challenges or serve other functions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the arguments in favor of and opposed to supplying a saving mechanism and explain the most widely used methods for saving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8BA31-B579-41FE-8868-6E086538660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71D51C3-701C-4127-BF16-5001E703AB5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Games Fu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ecution matters more than innov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hief reason a game is not fun is that it contains elementary err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pects of game development that contribute to fun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ing errors; basic craftsmanship is most import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uning and polishing is secon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Imaginative variations on the game’s premise is thir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True design innovation is only 5% of the source of fu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0D25E-5077-41C1-A100-5BB11BED530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385223B-C3D7-4015-A5F7-EC03EF26E3D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Games Fu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nding the fun factor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comes fir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et a feature right or leave it ou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around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now your target aud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 or automate parts of the game that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ren’t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true to your vi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ive for harmony, elegance, and beau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BC4DF-2C6E-4F72-AFC1-77A0ECCF77F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3A01436-2B7B-4661-B767-60E36150B28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y from lowest to highe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omic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b-mi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let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50D65-330D-42CF-82C5-BC9DEAE7C9B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28838FE-1CBB-4D2A-A784-BD3C7DCB98C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forming the player about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tell the player about explici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discover implicit challenges on their ow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icit instructions are given about the victory condition and lowest-level atomic challeng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mediate-leve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ost interesting games offer multiple ways to w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gnize and reward victory achieved no matter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how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achieves 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01F1F-4256-44BE-9A92-6640094AEAC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69EFD8C-C33B-44B6-93AE-D462490B936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taneous atom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coming several atomic challenges at the same time increases th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way of doing this is to bombard the player with enem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ther games (such as management games) present more complex interrelated simultaneous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ore simultaneous atomic challenges a player faces under time pressure, the greater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st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6A0CE-0ED1-47D4-BD8A-BDCAD048F48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CE681C6-A763-404F-9204-D1B968E310A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Skill, Stress, and Absolute Difficulty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Intrinsic skill required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the skill needed to overcome a challenge in an unlimited amount of ti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res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the effect of time pressure on the player’s ability to overcome a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Absolute difficulty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skill required plus time press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1C966-51B8-4FF3-B182-E806C1BEDD9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E104BBB-8FAF-434B-882E-B5ACF61859C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7:59Z</dcterms:modified>
  <cp:revision>185</cp:revision>
  <dc:subject/>
  <dc:title>Fundamentals of Game Design, 2nd Edition - Ch 9</dc:title>
</cp:coreProperties>
</file>