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BBD0-5CD1-4E33-98C7-F370EFF37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telling engine works with the core mechanics to create the complete storylike 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tar’s death is usually regarded as a temporary setback rather than death in the real se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matic tension is based in the story. Gameplay tension is based in the interaction. For this reason, they are not analog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mechanics and storytelling engine constantly inter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3A531-0A80-4AE1-A678-5779001AE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2EFFD-C972-4C35-8D36-E870BFD5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0823A-5928-425F-8E40-89A10FB3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36BC9-0EAE-4F6E-A8C0-D1078869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73AA-FB62-42E4-8250-DB9F408D1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E7FF-479C-4F17-9B30-E4E34E7E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ED54-B1EB-4707-9B88-CCA51A02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0990-72B4-47A4-A928-4DD2CC1C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DD06-305A-42FA-BA20-D3D1E6F0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7411-B168-4A9D-860D-ACA2D367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565D-F732-4226-8EB5-46DBB9D2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F9908-BE73-47E8-A6BC-6000D46B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7ED6-5058-46D4-B430-DE7C749A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199A-B8EF-4423-8531-BB0C4182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E83A-8646-4018-B882-4C879DCC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7E21-1FB6-4CA4-B8F5-F041B2800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755B-47BE-47B6-96B0-96DF4C9A4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11580-B4F9-4378-BBAC-DD8D2E11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F880F-8F23-4432-8270-2305DBB3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33BAE-A954-4B1A-A695-EC524169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4BEDF-CE2D-45C3-92FC-FA4CD14A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60483-7120-4BCC-95EC-B7C88D2D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71881-7464-4FC2-9BEF-4140EE1F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4A199-B83B-4F1C-9107-072077D8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14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7 Storytelling and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C55D-8E09-47F7-B4FC-BF46366D4720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E275-D456-4570-8C01-08A09D220004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87C5-7741-4CF7-8A73-AA79099662B9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7: Storytelling and Narrative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81000" y="1600200"/>
            <a:ext cx="71820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B5959-625A-4D1F-A8C5-F7EA61C56A1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20AD9C-255F-4819-B0A4-A1EDF4DD17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301920"/>
            <a:ext cx="40384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quire less content than nonlinear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storytelling engine is simpl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less prone to bugs and absurd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capable of greater emotional pow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3298320"/>
            <a:ext cx="4038480" cy="28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deny the player dramatic freedo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duce the replay-value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an’t change the story – no agenc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are part of the stor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 and cons of linear stories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012C2-FC3A-4590-98B0-3CCA113172C8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D7540D-4744-4CF7-A4B3-208B1A6D85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ranching stories – a lot of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different experience when different choices are ma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has an immediate, deferred, or cumulative effect o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xpensive and complicated to build than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play repeatedly to see all the con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BE352-3F39-4A2C-83CB-EC5886D37C9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5C73E2-71C3-4DC0-B91B-E6A4719AED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ldback stories – limited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romise between branching and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branches, but the branches fold back into a single inevitabl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players some agency without the cost and complexity of a branching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siest nonlinear story type to devise and most commercially success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4A01F-59C1-44B2-B881-C72B8FD94A7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44511F-B1E2-4B09-8331-995D70104E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ergent narra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produced entirely by player actions and in-game ev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tory emerges from act of play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More agency because the sequence of events is not fixed by a story stru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ts a perhaps impossible burden on the core mechanics to produce credible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 present, no commercial games use purely emergent narra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4611F-A834-442D-B0BC-DBEEB6CC162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53D9EF-F2D4-433A-AF82-2309EAE455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multiple endings to provide an outcome that reflects the player’s dramatic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provide an emotionally satisfying conc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ultiple endings if each one will wrap up the story in a way consistent with player’s choices and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nclude them just because you can. Have a reason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F7796-4585-4227-9F43-E0FEEB03609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7B212B-8DAD-4F2B-93D3-5DBD5E72F7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ranular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requency of presenting narrative to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rge granularity reflects less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mall granularity reflects more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3838C-F83C-4499-9100-22274A08A72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986A9E-7FFF-4A62-A8F8-3AA1FCF863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series of challenges or cho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advances as the player meets challenges or makes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method of plot advanc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journe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riving at a location triggers plot mov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s nove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E956C-526B-408D-8CE1-EB52A050E33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292E6C-3E28-43DC-9778-15836A012B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dram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engine advances the p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not control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common meth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6EE2E-796B-4545-971C-2FAC608F05E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F57FF8-F2FD-4E39-B709-255FF87B1F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Emotional Limits of Interactive Stori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needed to arouse complex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nonlinear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e endings might not be the most power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s often create a single ending so players experience emotionally satisfying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avatar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hould surv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nions can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E1533-A6A3-4E4F-8B03-2D0CFCACBB7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5D1B11-340E-4D0F-B775-41B3A00041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why stories are important to video games and know the definitions of story and narrative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in player actions, in-game events, and narrative. Understand how to use story, character, and narrative to engage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DAB84-5C35-4B72-B980-B6CB2615ED7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ECF17D-A16A-42B0-A74B-B7BEB3B70A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cripted Conversations and Dialog Tre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dialog tree to design scripted convers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ing from several possible responses injects the player’s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’s choices can affect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character attributes can affect what happens in the dialo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F35D7-F248-41BC-8EE6-3036D6566D1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F0EA38-C567-40E7-93F6-552357DA96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en to Write the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 list of episodes or levels during the concept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rite the story during the elaboration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5DE78-D10A-4823-B375-CBFA29C8E78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862804-9AAA-4D66-848C-50D5764E21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member that you are creating an interactive game, not writing a no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quels are a vital source of inco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episodes and delivery systems could provide more income in the fu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62C0E-C1A6-43D6-A8F3-072DBE4405F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1B8AB5-E082-4F4D-A633-419794532F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stories are important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tory, character, and narrative to immerse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linear and non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oldback, nonlinear story with multiple end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pisodic storytelling to encourage playe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524E0-C11D-4CC9-89B3-58D3DCA4031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8C982A-9EBF-49D5-A2AB-FE0344952B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ce between linear and nonlinear 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foldback, nonlinear story with multiple e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you can use episodic storytelling to encourage players to subscribe to additional versions of your franchi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BEBAE-834F-4090-875C-71E85E2CEB7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C6942D-50B5-4BB2-A136-375F8D2043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dd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ttract a wider audi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maintain players’ interest in lo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help sell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4A6AD-2BD2-4B4D-9393-3DF4F8928A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4745B1-C05D-4E37-8F9D-CF8DA03383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should not be more important tha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when considering how much story to includ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ngth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cus on individual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gree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motional richn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5223A-D5AF-4B2B-A955-C70815F78D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0B4B47-4452-4B97-AF25-25C2F5E53D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tory is an account of a series of ev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quirements of good st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od story must be credible, coherent, and dramatically meaning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interactive story includes three kinds of even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-gam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516FE-238B-4B9E-A3CB-9979A62391B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C507BF-5CDB-4446-9146-A2C5F82920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is the part of the story told to the player by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function of narrative is to present events over which the player has no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ay be in the form of a movie, cut-scenes, scrolling text, or voiceo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ust be interrupt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lance narrative with action to keep players interes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gency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player’s power to change the future of the story. Also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dramatic freedom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29FC2-086E-44F3-B1F7-19CBEEF9F0D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57EE83-6F91-4060-9D39-28FE6A8D3E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matic tension and gameplay tens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ramatic tension comes from the pl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des in the presence of randomness and repet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play tension comes from the challenges (gameplay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lerates randomness and repetition for much lo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096D5-FAD8-4205-A5BB-6E33487F770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C1D878-C79A-4A07-93DC-9B9645B154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ves together the gameplay and the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es it work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s triggers from the core mechanics to track the player’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s each narrative block at the correct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nds triggers to the core mechanics when the current narrative block is d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EBEE7-AB1B-451B-AA2F-91A2EA6F67A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F87F3D-DD55-4836-B86D-BE92676C32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38Z</dcterms:modified>
  <cp:revision>162</cp:revision>
  <dc:subject/>
  <dc:title>Fundamentals of Game Design, 2nd Edition - Ch 7</dc:title>
</cp:coreProperties>
</file>