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14B2-4C2B-4BB8-BB9B-156521547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2470-1060-4554-AB1E-EBFA3DDB4A67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27AA-4E13-48EC-B436-5FBEB19B2D6B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75C5-6A6B-40A8-A2A8-2784C2CD9DA1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7919-2713-45A6-8A61-C942F0E65AF7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49BCC-CDFA-4463-8486-6DE772987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0524F-1671-468F-BA31-6634FC12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E6A25-37B3-4D52-B1B1-FE021A333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80129-C44B-484C-A972-F60C751F4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CACF-6FAA-4338-A6C6-D13BB6C83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F9F6-DDBB-49F6-B0D9-B47BEF3F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CB05-A5E9-48A7-9BDF-444B5A3D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74B4-B98C-42E7-93A5-A86ADF2F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7387-BB50-457B-91F5-5385F62D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24E4-0227-4E37-88FC-68037FE4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76EC-74AF-438C-9261-6F3C7052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FF1A8-ACB0-475B-B58C-FBC1B070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6E3F-8D85-41FD-8D31-951657AC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638D-3A59-4137-BD95-E99C6BE1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D957-FDF4-40F9-A59F-4B452150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7ED4-E398-4249-9417-DC256824B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7FC3-4416-4494-B9FF-469253ADC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C09CA-63CB-4FCF-872B-3650A30F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7F00B-D5B2-4813-97B0-A26F2839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0FA45-925B-4405-A734-39086C2D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ACA0E-93DC-43F3-BDAC-DF68F7E4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3586D-4661-45DB-A7F1-E02A1D27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54B81-8DAC-4E6B-B703-8542BC27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AE046-3271-4B59-9922-02210581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9 Adventur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ACDC-FBAF-4901-8AD4-15825970AB12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1448-6BCA-4589-84A6-CC584927025E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EE02-0884-46D1-BB68-BEE25FA63210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9: Adventur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eeps the avatar 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mon in action-adventure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st games allow the player to move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2BC36-0B78-4405-857E-EE4B26463EF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30429B-B55C-4C8A-8996-70156F6DCD6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 of the player comes from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dventure games treat the story as a journe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relationship between locations in the world and parts of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became more linear in action-adven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3CF41-9669-4C03-8AE0-F184D0F8D21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B99C21-0E93-4BDE-A928-8EC15975109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rises from an unresolved situation or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dramatic tension, start by presenting the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resolution of dramatic tension occurs at the dramatic climax, usually near the end of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can have several different dramatic climaxes for intermediate problems until the final climax solves the final problem and ends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4F805-7C14-44F9-B593-46A9C28B6D0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6CFBEF-3817-4036-8AB3-F69D1D770DF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heroic qu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majority of adventure games are heroic quests: a mission by an individual to accomplish a great fe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iggest climax should be the last major climax in the game because anything that follows seem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uld be periods of quiet to rest and he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23ABB-EB03-437F-8D84-AE223BD9CAF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E51EF4-95D5-4552-9E94-988DC1C0BA9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roblem of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genres (RPGs, combat flight simulators) death is accepted and players know what is likely to cause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dventure games it is less cle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adventure games adopt a fair warning approach, making it clear when something is dangerous and usually offering a way to neutralize the da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n autosave feature to save the game at intervals so the player can restore it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B8223-00A6-47F6-A15C-0E7F1EB86D0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DFBB7A-E2FD-4731-A5C4-269EA5D9E6A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Shape 26630"/>
          <p:cNvSpPr/>
          <p:nvPr/>
        </p:nvSpPr>
        <p:spPr>
          <a:xfrm>
            <a:off x="45720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nding keys to locked door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guring out mysterious machin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taining inaccessible object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ipulating people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avigating maz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4" name="Shape 26631"/>
          <p:cNvSpPr/>
          <p:nvPr/>
        </p:nvSpPr>
        <p:spPr>
          <a:xfrm>
            <a:off x="464832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coding cryptic messag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olving memorization puzzl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llecting thing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oing detective work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nderstanding social problem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5" name="Rectangle 26632"/>
          <p:cNvSpPr/>
          <p:nvPr/>
        </p:nvSpPr>
        <p:spPr>
          <a:xfrm>
            <a:off x="457200" y="16002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hallenges are conceptual: puzzles that can only be solved by lateral thinking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include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F5B02-6BF0-4300-8E3B-75AF1304FCCA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81066B-F58D-40E7-9C74-B0ADFEF1A20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sations with nonplayer characters (NPC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 NPC’s conversation is defined by the NPC’s role, such as blacksmith or tra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games try to sidestep the problem of conversation by setting games in underpopulate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ripted conversations became stand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0F781-BB1E-4DB3-B782-9FD4CA786CB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931867-9030-4E9C-AD0A-277372FDE8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p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ics provide cues to location and how that location relates to other areas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pp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p fills in as the player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see the map at any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compass as well if appropri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tomatic journal keeping is comm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7B10F-075C-4C38-B86F-62C3F3640D9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F5BCB0-9FCF-4D4B-BAFD-48EB36033C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ew things to avo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solvable only by trial and err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requiring outside knowled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ick-the-right-pixel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backward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FedEx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4F577-AD69-4E70-B383-59A1A2D2449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347EDE-B710-46A9-9101-7A6E3B0680D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mov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ment interface depends on the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perspective uses point-and-click or direct control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int-and-click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 contro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yer steers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both walk and run 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CD79F-18B1-4E13-AC22-C3BF011723F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8C6CCE-5A00-43A2-90D1-8BAD1861556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n adventure game and the common game features of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character and story in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t interaction models and perspectives common to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puzzles and inventory in designing an adventur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049CA-55E9-4661-9EDC-34EEB394E9A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8D960D-7987-4FCC-9501-308BECB72E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ying activ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nt and cli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ynamical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cus-of-attention highlight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743E2-9AC1-4362-9FD8-A7BC314C4E1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B79F0A8-779C-40F7-9A72-B6A1DF7EB94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button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troller button or mouse click correctly manipulates the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u-driven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nu gives player the available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right-click an object to see a pop-up menu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B3823-A468-4CDF-A6FB-12E42F1D7B6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B8E179-CF62-4FB4-95A4-80C00EC3A3A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ing inven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games limit the amount that can be carri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isible inventory mechanism like a backpack or box is comm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inventory management eas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and close inventory with a single click or shortcut ke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6316A-9730-4AB9-8B4F-E72FD4B99CC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03D9F5-270B-4ECE-993E-8CE2CAEA16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importance of character and story in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t interaction models and perspectives common to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puzzles and inventory in designing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5FFEA-7D32-4F3B-BBD1-37740ADC532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56011F-1CB0-4E52-8BEA-DA42FFE30F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dventur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ve story about a protagoni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and exploration are essentia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 and conceptual challenges form the majority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bat, economic management, and action challenges are reduced or nonexis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8C317-D536-4DAC-A54A-2E3B9978638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D0BCEF-6D89-485A-AE5B-B405D3C113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al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dven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was a text-onl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o give the player a credible illusion of freedo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hat spoke to players like a person rather than a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764B0-1BE1-47E9-81F4-660F942DA02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84B7B7-3D4F-4752-9B59-88C18F08831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rowth of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popular in the early days of personal compu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ving no graphics made games inexpensive to develop and allowed scope for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ers added graphics when the technology became avail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217B1-3BD5-43FA-BA20-9D92C00E680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BA5D13-11C2-4803-9918-D0DD4630308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enture games tod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rket for adventure games has grown less steadily than the market for other 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ment of 3D hardware improved graphics in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-adventure games develo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s hybrid is now more popular than action or adventu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ive solutions improves replay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never 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D69EC-AAC0-45CA-9791-B43EB42EA45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C1F502-EB6B-4878-880B-CC4A9C471A6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 and emotional ton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ting contributes more to the entertainment value of an adventure game than settings in any other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move slowly, which gives designers the chance to create a world with a distinct emotional t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867D9-96CC-49C6-A054-F7C23646998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618435-0CB2-4EF5-8E6E-52DA3ED794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ways uses an avatar-based interaction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rly games used nonspecific avatar, but now avatar possesses his own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approach is tradition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 and first-person games are becoming increasingly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F7A3E-4632-478C-BDBA-D518ACA04A4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AF1615-7214-4039-83BF-9B6C716986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 is shown from the camera angle most appropriate for her current location in the gam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s the designer play cinematographer, using camera angles, composition, and lighting to enhance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ourages a more action-oriented approach to play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ewer opportunities for visual dram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C4C39-8585-431C-B16C-47210F87E8D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0BA05C-81DA-4F8B-928F-161A043EA7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9:40:29Z</dcterms:modified>
  <cp:revision>423</cp:revision>
  <dc:subject/>
  <dc:title>Fundamentals of Game Design, 2nd Edition - Ch 19</dc:title>
</cp:coreProperties>
</file>