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655B-C9C4-4DCD-8C0C-2BE307B95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154E-9E25-4DBF-AF8B-DD816BC40CC9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D7F2-CC92-43D0-BB6F-E4244F06EC44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3396-62C8-4E9B-AF11-27551E5CA20D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D2AA2-7080-4491-8453-B9ABA81C2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4F01A-0021-4D9B-A54A-D3DB5C2B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59A2F-5D48-41AE-93F9-97D57C96A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0ECBE-F708-48F7-A239-7F6C0F6DA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E07F-E5EB-4265-B984-071B78DE6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C3F2-6516-47EA-A2DD-691D5EB4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4EE7-95C5-4C5B-A297-FD3AC287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4EAB-DE42-4BE5-9E86-F23DFF44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1D7D-2BB9-4784-8605-7E9FF50C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E8A5-1B08-477B-8408-BBAFF4CC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375A-1934-40BE-9E87-FEB45C51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34B42-7A34-4468-AC05-2CDA8FFB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9A86-3B5E-411E-AD61-275573B0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3CB5-38A7-40FD-A2FD-7B24DCC2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3D7A-4155-4F32-AB8F-CA1B6043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D705-60B4-478B-A008-536CC7178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4CF4-16E9-49A3-A914-3EDF3B916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1E4AB-2C83-4611-BB1D-1FC624A3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A2E79-2C17-4280-B551-6AF43F15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4E0CE-3416-46B6-BC60-88605058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6A91F-0103-4872-94F5-2561D203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27512-35FE-4765-B11F-043E2200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E416A-4604-4751-A06B-53831E24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5B12F-E718-40FD-B6D3-E516BC48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7 Vehicle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D1E2-BE3B-4382-9530-5ED1363AAD2E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896D-FD7E-4F08-9729-B4B6ABE1606A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4E5C-92B6-4FFB-B2D8-714CA3981432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7: Vehicle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ehicle simulations are technologically oriented, so the core mechanics are almost entirely about phys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oppon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different vehicles with different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the behavior of individual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AD61D-A7A1-4876-BB77-FF96D320ACD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47AB7A-7E6B-45A8-8AF8-D999F38CCA3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m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ildren’s games can ignore damage to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amage can be modeled as a single variable like health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modeling divides the vehicle into ar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s damage in each individual are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utes damage’s effect on vehicle perform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177AD-20F9-45E2-885B-C15946921AE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0FB199-862A-402A-B18D-4106B622AE3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br>
              <a:rPr sz="4200"/>
            </a:b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ndscape is an important part of the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—setting is the plane and the 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—racetrack, road, or off-r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 affects vehicle hand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ider adding people to racetracks and airports to enhance immer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C26A5-BAB8-4681-825A-D2F1D0FFF2E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E12B36-AE7E-4E9A-8C7F-F20C061B29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ats and ship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uid medium changes handling characteristics, making it different from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warships simulated as parts of fle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marines are popular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iling simulations are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cean is not modeled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reline is usually corr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pth, tides, currents, reefs are n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7CD27-A5E5-4A25-8787-915491F0EAA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E0C2EA-1A6B-4E51-9B7D-63A9CACE89D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anks and mech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tating turret on tanks adds complex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 is an invented mechanism unrestricted by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craf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spacecraft simulations are science fi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modeled accurately—similar to fighter pla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60D0F-84DF-41F7-902A-254F720EF48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62FA1C-B36D-4932-8064-028EEE1731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llectual Property Righ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ly, you can simulate military equipment without obtaining permission from the manufactur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simulate an existing car or other civilian vehicle, you need a license from the manufactur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CDD35-EE00-4FBF-B9A9-EC15F945D12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97A225-C3D2-4BD3-A005-732D7AC714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—vehicle is the avatar; view through cockpit wind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common to driving and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’s/driver’s view—defaul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ckpit-remove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s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ar, side, and front view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F1B9B-CF9D-4CA4-BBFA-B804319F2C0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3DC93B-BDCA-420F-8F2E-A93F74058E6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military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ound target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omb or missil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-sid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andstan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limp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23FDE-1B7C-47DA-BAFB-ECB18230B9A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A33E02-8575-4883-96EB-58149BA52B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ggest challenge is mapping vehicle’s real controls to those available on target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simulators require some simplifi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ight simulators commonly simplify navig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light simulators produce automatically coordinated fl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79862-71A7-4D55-AE0F-B414B71E5FD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7C2E92-8359-4D6F-A5BE-EAA8CDBA7EC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sense of speed—critical in driving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play a speedo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y the driving surf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roadside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soun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-fo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planes can show a G-force 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s can black out or red ou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BE977-E742-4A7E-AC09-423D6AEF760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5C0A41-A350-4697-9E0D-63633C42CF9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ifferent types of vehicle simula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how the design of the game world influences the player’s perception of sp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ways to design artificial opponents for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09B9E-5507-4B93-8F5A-B1A4AA8D009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65111C-0177-4E07-8373-441401CEB4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different types of vehicle simula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vehicle attributes and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I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st the requirements for a military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the UI for a vehicle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09424-1BE4-4F43-A71B-23CA0B31586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1FE90A-65C7-4CF9-A697-139B429324C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stinctions between military and civilian flight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various views often used in vehicle simulation interfa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CB306-A8D7-4812-83FB-AF88CBE7442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52F4C1-8241-47B1-B24B-BC4AEDD5468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Vehicle Simulation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ls like driving, flying, or controlling a vehic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ons vary from realistically handling the vehicle to adding game mechanics such as combat, racing, and speci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 and water vehicle simulations follow the same fundamental features as flying and driving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98EAD-01AC-4669-98AC-E10028A13DE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BA17D0-4D34-4737-91A1-478BCE4D23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 are realistic and don’t include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re simplified but provide tactical conflict as well as physical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is driving in an existing racing class; requires licen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aginary racing uses imaginary situ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2462D-E3F7-4DAB-BC7E-5F436BF4E69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387EF4-3C90-43D9-973C-52E94F00106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ists demand highly accurate simulations of real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players don’t care about the details as long as they can fly or dr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D940A-027F-4B4E-A506-E678AAFA251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733EE9-94B5-4347-9288-7FA156783F8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lot or military positions such as navigator or bombard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cing-oriented driving games—driver or mechan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BD0A7-8C41-4C53-8B8A-3994E31494E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F92C1A-A99E-4609-87E2-3EE3E1681B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—similar to first-person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—single-player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iving simulators—single-player games or multiplayer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nd organized race-driving simulators—often include career mode and campaign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E862C-836E-48C8-AF52-3174310F22B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542DCC-1C14-4129-B650-4AAB9A5A60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challenge is controlling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s must also achieve the mission obj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ype of plane determines game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a series of miss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s seldom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sims take gameplay from the real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C39AC-D349-49A1-9784-ED40E7FBAAC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CDC43A-8C0F-46B1-A059-BD1E2DCB337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51:43Z</dcterms:modified>
  <cp:revision>383</cp:revision>
  <dc:subject/>
  <dc:title>Fundamentals of Game Design, 2nd Edition - Ch 17</dc:title>
</cp:coreProperties>
</file>