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6.xml" ContentType="application/vnd.openxmlformats-officedocument.presentationml.notesSlide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2ED44-418C-41F1-B11B-C06452A3BB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w occurs when the player’s abilities balance the challen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inder from Chapter 9: Intrinsic skill needed to overcome challenge + stress = absolute difficul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ew the graphs in Figure 11.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0DC7A4-7A81-4CDA-B0D6-69F6977C7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DA8D8C-FEEA-4DD3-8DD9-D72AF20A3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B6A91D-BC88-4212-94B4-0CE433132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17F1E2-28BB-4A5B-AA58-0CD917DA3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2A6A7-D7C5-4467-8E77-0373D5C19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949E9-8901-4691-800B-9C1217BAA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2E85E-67FC-4912-84FB-04AF9153F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027E3-2CBF-4FCC-94C1-6E7D3E52F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21AD2-911B-4775-A6C9-7CD2F9D73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95054-886E-4C47-B8E1-F418422F4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961E1-CA5F-4014-B0B9-CD9EF8811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574B92-DAAC-4C46-80AC-38F130545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C88DD-5A52-4D1B-8CCE-B8676C3B0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4B218-DA7E-4D7A-8D41-5CC603A10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0E7C2-F0DE-4836-BA22-FAEB5D2F5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BC2A2-0925-4209-90E2-8ACCA39FB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D401A-111F-4D3A-B509-40CC90FF8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496E3C-3D92-4987-91CE-0C769B882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EF8DB-1163-4905-A9D1-31C7DB074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2B2569-A5F2-40CA-BB01-D731FD2A3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569766-2945-4417-85FA-5D9A5ED67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6DA2A1-2DF1-479C-8523-CF22B77DB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0A2613-9424-4D27-8860-5ED10AD27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0F9E0C-5EEC-45D8-B380-6F8222C21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1760" y="6248520"/>
            <a:ext cx="2841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1 Game Balanc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98F0D-0ED9-41AF-B5C9-94885A154563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9627F-27D4-496B-A0B4-B7546157D425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ACAEF-2D05-4F13-82C9-898456F135D3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1: Game Balancing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voiding Dominant Strategi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ominant strategies in video gam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transitive relationships (rock-paper-scissors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f A beats B and B beats C, you can’t assume A beats C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ather, A beats B, B beats C, and C beats 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PS model is simple but can be adjusted by modifying core mechan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rthogonal unit differentiatio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ach kind of unit should be unlike the others in some w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ot simply more or less powerful, but uniquely differen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uarantees each kind of unit has a unique func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200B5E-62A4-4AB6-A566-971D813B427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D780E89-37F2-482C-B871-987497D4E71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voiding Dominant Strategi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ominant strategies in PvE gam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mplementing fewer actions in a game risks creating exploit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ons that can beat any challe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st thoroughly to eliminate explo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4B48F3-D4B2-4DE9-BC29-407374B1CC9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A650DC1-5823-47F1-B242-E3E9D7C4C51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Role of Chance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f chance plays a role, how to ensure the more skillful player wins?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chance sparing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chance in frequent challenges with small risks and rewar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layer to choose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layer to choose how much to ris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87A39B-8681-4BF3-B3E7-4B636EF5E45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CB4F2E7-E3F6-4ACD-83F4-A6C9E203F82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king PvP Games Fair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 balance symmetric games, treat every player the s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ame rules, resources, victory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symmetric games are harder to balan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e approach: give players identical quantities of materials or points when they star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spend points to build units as they wis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spend ponts to adjust unit attribut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udy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Starcraft 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s a great asymmetric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0B76BB-3863-4BEF-8BE4-B779ADAFF6F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67C35CB-B2EB-4CD5-87EF-E84BD556382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king PvP Games Fai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alance issues for persistent world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rsistent worlds are never symmetric and always intrinsically unbalanc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ew players need prote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n be rebalanced on the fly by patch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DC0BC8-4E6F-422B-8B5A-E4427F18B42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71BCE45-BC47-427A-B330-06C56A9E1E9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king PvE Games Fair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fair PvE game shoul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ffer challenges at a consistent level of difficul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oid learn-by-dying desig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oid stalema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 information for critical decis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oid requiring extrinsic inform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lude challenges appropriate for the gen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E743E9-50E3-4E5A-96ED-B194363EF457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0AB54B2-70B8-40B8-A3C7-041A3C0A6A4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naging Difficult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alancing a game includes managing the difficulty of its challenges to keep players within a flow stat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ctors outside the designer’s control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evious experience facing challenges similar to those in your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ative talent such as hand-eye coordination and reasoning skil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game that requires cheats to be winnable is badly balance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18CC12-6B33-443E-9D23-01A4AEB5C0F0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E0C3089-E29B-47A0-A2E1-91708CF4229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naging Difficult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ypes of difficul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49800" indent="-31536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bsolute difficulty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are amounts of skill required and stress to that of a similar trivial challe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49800" indent="-31536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lative difficulty – difficulty relative to player’s power provided by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991440" indent="-3402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ower provided measures player’s strength by means appropriate to situation (e.g., weapon strength in shooters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49800" indent="-31536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rceived difficulty = absolute difficulty </a:t>
            </a:r>
            <a:r>
              <a:rPr b="0" lang="en-US" sz="2600" spc="-1" strike="noStrike">
                <a:solidFill>
                  <a:srgbClr val="003399"/>
                </a:solidFill>
                <a:latin typeface="Symbol"/>
                <a:ea typeface="Symbol"/>
              </a:rPr>
              <a:t>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(power provided + in-game experience)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23979D-2474-44C6-917C-BF0703F288DF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F4B2D17-D774-49CB-9B8B-AC36AD667B4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naging Difficulty </a:t>
            </a:r>
            <a:r>
              <a:rPr b="0" lang="en-US" sz="34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400" spc="-1" strike="noStrike">
              <a:solidFill>
                <a:srgbClr val="0b0506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351160" y="1835280"/>
            <a:ext cx="4440240" cy="405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59BD89-28AF-4609-A2B7-B92DA52DE79D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2F44CF8-DDA6-4018-81C6-9F755D4F240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naging Difficult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eating a difficulty progres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rceived difficulty of challenges should stay the same or ris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games for casual players and young children, it should remain almost fla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lative difficulty must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rease over time to counteract the player’s growing in-game experienc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EBE788-B27C-4E67-A6B9-A6C75ACB888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EBE4885-7D49-443A-BC7D-CBBDAA94BE3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qualities that characterize a balanced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a dominant strategy and discuss ways to avoid dominant strategies in player-versus-player and player-versus-environment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how to use the element of chance in a game so that player skill still ultimately determines the outcome of the game 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0513DF-02A0-44FF-81D9-EFF3E15EBF9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D932287-CB25-43BC-9A0F-500E2D1B57A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naging Difficult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stablishing difficulty mod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single-player games, allow player to choose a difficulty m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en a difficulty mode is selected, challenges must stay within that ra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f you can’t adjust the difficulty of a challenge, provide a way around it for the easy mode and block the go-around route for the hard m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1B89CF-A37B-410B-954B-7817519FAB1F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6D1272A-C580-4CAF-B04A-FE6CB600B1F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Understanding Positive Feedback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ositive feedback occurs when a player’s achievement changes the game state, making future achievements easi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nefits of positive feedbac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scourages a stalemate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wards succes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648320" y="1599840"/>
            <a:ext cx="4038480" cy="45306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4800600" y="1828800"/>
            <a:ext cx="3776760" cy="267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49471B-66AB-4981-A533-DB896E491E4A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76F0791-DD6B-483B-ADBE-3B964BB0860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Understanding Positive Feedback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trolling positive feedback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n’t give too much power as a rewar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troduce negative feedbac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hievements have a cost as well as a benefi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aise the absolute difficulty level of challenges as the player procee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collusion against the leader in PvP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e victory as unrelated to the feedback cyc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chance to reduce the size of the rewar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1B6CE6-AC57-4D8C-81F0-D91154A56D79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9C614B9-76C3-42FE-A4CF-66D90AF11B7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ther Balance Consideration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oid stagn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agnation occurs when the player does not know what to do nex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ide clues in plain sight about how to proce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ave the game detect when the player is wandering aimlessly and provide nudges in the right direc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oid trivialiti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t the computer handle uninteresting details of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5BA837-9433-42D9-9D60-7F3D1C66F602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723BE1F-1ECB-491C-B024-A16EF8730BF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to Make Tuning Easy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eralize mechanics when possib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y to avoid creating special cas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parate code and data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uggestions for efficient fine-tuning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dify only one parameter at a tim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en modifying parameters, make big adjustment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consequences are easier to se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Keep recor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pseudo-random numb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783007-2DFC-4D48-AC27-22B02E2BD08E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36AC49A-4E72-4462-B5BF-A8DCE0A0B03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a fair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avoid dominant strateg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cha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manage difficul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ontrol positive feedbac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CDED92-D7C0-4508-89D8-AC7DC62F030B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FFF2A78-C35B-4E33-8903-539581272A5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strategies for making symmetric and asymmetric player-versus-player games fai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strategies for making player-versus-environment games fai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ypes of difficulty and explain ways to manage difficulty to maximize the player’s enjoyment of the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29E906-2C62-4618-A2B5-3896D0FBA5A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30F5C59-657B-4BE6-AD7C-C6D5C357D94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cuss the phenomenon of positive feedback and discuss ways to control positive feedback in the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cognize qualities of unbalanced games such as stagnation and triviality and explain how they can be avoided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design methods that can make fine-tuning easie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E806DE-AE50-4FEE-86F0-C8108FE53CA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80B50F8-5923-4186-9AF0-2E2925A1418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a Balanced Game?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balanced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s fair to the player(s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s neither too easy nor too har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kes the skill of the player the most important factor in determining his succ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cept of balance differs between PvP and Pv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DDEA66-8644-4D4E-8FBF-8F2140B9D7F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94B76A9-06F5-4555-BAF6-34C9D2B0A88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a Balanced Game?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 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well-balanced PvP or PvE game has the following characteristic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t provides meaningful choi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t avoids dominant strategi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(They will be explained later)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ach strategy must have a reasonable chance of producing victor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’s skill must affect succ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ole of chance should not be so great that player skill becomes irrelevan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DB101F-867B-45E6-AAFB-762E510DFA2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E77672B-C2FF-460E-A648-7FFB3AAE9C9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a Balanced Game?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 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dditional balance requirements for PvP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perceive the game to be fai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player who falls behind should have opportunities to catch up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 rarely ends in a stalema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dditional balance requirements for Pv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layer perceives the game to be fai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finition of fairness is different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scussed lat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vel of difficulty must be consistent, without spikes or sharp dro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F6D37B-C181-4F7E-ACA5-B9E2DA23866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6017331-CC5B-4D36-AFCF-A2350DBC528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voiding Dominant Strategi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ominant strategy is a strategy that reliably produces the best outcome a player may achieve, no matter what his opponent do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ominant strategies are undesirable because a player has no reason to use any other strategy once she has discovered the dominant strateg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71D9D2-8296-4C02-B7F1-5056F6E8FC1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D0CC3AA-BBB4-4529-A57F-B2309E824E1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voiding Dominant Strategi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ominant strategies in video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ansitive relationships among three or more enti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f A &gt; B and B &gt; C, then A &gt; C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Never any reason to choose B or C if A is bes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 correct the imbalance, assign costs to each choi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 create a more interesting choice, impose shadow costs for choi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hadow costs are costs that are not immediately apparen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ransitive relationships often used to create upgrades for a player’s abilities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art with C, then earn B, then 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107D49-34AC-42C9-886F-55B6A9E90E6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EA6607F-C1D8-41E0-98FD-5FFEECEE5E8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9:04Z</dcterms:modified>
  <cp:revision>222</cp:revision>
  <dc:subject/>
  <dc:title>Fundamentals of Game Design, 2nd Edition - Ch 11</dc:title>
</cp:coreProperties>
</file>