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E817-2557-40BC-BEA1-8B485D8AF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ing errors, tuning, and polishing are the same practices any professional uses when crafting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play is the heart of a fun game. The player is the so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35AD5-DF2D-4019-839D-01965A096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D5D20-F496-4C7C-9399-3B7A0B03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51264-E289-4BF5-B703-5B6BEB14C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9E63F-1D6B-4858-B8C9-17BE380A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AE0F-14FA-4053-BF90-0471F7C48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B1EF-F7D5-40F1-89B8-E8D12164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E6E8-BC51-4B28-B999-7DD68AEF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F58F-8612-4E3B-B0D4-58C13999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E785-C4F1-45D8-B762-A0B04A39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F5B3-DACC-46F3-92A5-641684A4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9CBE-E566-4E72-9E14-8A940EEF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875CA-18FB-4F39-AD59-386E81C7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4C4F-A16D-4351-A356-675A39D7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DDD2-9500-4770-8CF8-597804F0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9893-B9FB-45DE-8B73-0358FC18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F51F-9773-422A-9210-93F0A798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034A-40FA-45FF-9DE3-7767647D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13966-1305-4650-A629-4038B89D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07548-D096-4B9E-9721-6C8B490E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A5510-841A-40BA-80FC-98D54DBA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857DF-9576-42B1-B22D-7F91C258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9ECAE-FCD6-4EF0-87AE-F4B51BB8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4922A-0885-4157-B4F2-F0BFBCBB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EB37C-32D9-4ECF-AD3A-2A5D0CF7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9 Game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131F-B894-44EB-B26D-7D949605E39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4519-BAC6-490E-97FE-D5E37015662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8782-CB0D-4E69-85A8-2471A836BC2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9: Game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coordin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speed and reaction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ccuracy and prec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intuitive understanding of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timing and rhyth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make combination mo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 time available to increas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55BAF-C1C8-450B-B835-4E283F573D5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E14FFF-F291-40CF-8F47-6B34856DF0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c and mathematic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al logic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outside knowledge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increase difficulty, increase the number of objects and the ways they can be manipula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normally get all the time they need to sol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puzzles that can only be solved by trial-and-err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hematical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s require players to reason about probabil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educated guesses with imperfect knowled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84E89-7FE8-427F-80E3-6F6753D8DB5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7F90A5-35E3-4D75-86EB-8BBEDA13AD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ces and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first to accomplish a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combined with other types of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 pressure increases stress o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ual knowledge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rect tests of factual knowledge usually occur only in trivia and quiz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ther kinds of games, all facts must be present in the game or you must make it clear in advance that outside knowledge is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522A8-C9E4-49A0-AAF7-668E9FDDB44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12F31E-7619-4A63-A92C-3B53E9A9D2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mory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all things seen or heard i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it easier, give players longer to memorize and test them soon after they have done s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ognize visible, audible, changing, or behavioral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increase difficulty, make the pattern longer, more intricate, or more subt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0F282-CA33-40EB-B95F-B0A387ABA6C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7BBFC9-10F1-44A7-A5E1-8D03DEAAAC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atial awarenes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learn and navig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decrease difficulty, provide a m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obstacle that prevents the player from proceeding until he disabl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unmarked switches far from the do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BF796-D9B0-43F3-893B-38F2FE5DF6F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91BF1D-5EFA-4B1E-A7F6-09EA12B4DD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ice that harms the avatar when trigge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n comes from outwitting the tr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zes and 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ry place looks alike and player must discover relationships between the are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implemented as logic or pattern-recognition puzzl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5A30F-FE24-4539-A20E-4036176C813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E35E51-2710-4A25-9D75-D4490154C7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sm that transports player to a new lo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make the challenge easier, make the teleporter predictable and revers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ing hidden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reasonable places player can deduce from clu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obscure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Easter eg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are special rewards in particularly obscure loc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192C1-379E-48EE-AB86-FE43A62080D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5F155F-FEC1-4BB8-8579-69A81EA710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direct opposition of forces, some of which are under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 challenges can be broken down into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c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rvival and reduction of enemy fo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ding vulnerable items or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E9C06-7BED-4391-845D-8A8D7D98EE8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01FE22-A210-4FCA-951F-F85C1BDAC6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ehavior of resources creates 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mulating resourc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wealth, points, or anything valua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ing balanc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a more interesting challenge than simply accumulating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ring for living thin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hallenges the player to meet the needs of each individ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F2729-3DF0-4B73-BCF7-08378AF39AF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A9C050-58D7-47A2-9F1F-52E08ED7AB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ual reasoning and lateral thinking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reasoning puzzles require reasoning and knowledge to solve a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ral thinking uses extrinsic knowledge in unexpected w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DB208-F0B7-4E46-8783-14E9FE05627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AE1C47-6965-4E73-989B-F1389B9BE9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basic principles that a designer should follow to make games fu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hierarchy of challenges requires players to complete atomic challenges, sub-missions, and missions to accomplish the ultimate goal of winning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quired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nd discuss how these factors contribute to the difficulty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0648A-140F-440F-81D3-311FEDECACB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14F8B5-1E1E-4F00-B65F-27FE626739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fo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intended to mee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fer fewer actions than challenges to limit size of user interface and animation co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can address more than one type of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ased on player’s role and actions to overcom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98719-5C6A-4540-839C-E987D95767F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191462-7E6F-4FDA-9A11-AAD56A5EB9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that serve other fun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not related to challenges include actions for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structured 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ion and self-expres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ticipating in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ing the game soft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6486C-59FF-4B23-964A-336D0E3C499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E25643-9A9F-42EB-BD4A-F975422C15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son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leave and return la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player recover from mistak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courage player to try alternate 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equences for immersion and storytell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rm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s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FCA2E-1CA2-44B5-8491-C699DF7C661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017571-853A-4577-B6BA-419C0109E50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ays of saving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word to restart a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e to a file or save s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uick s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ic save and checkpoi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ways allow players some way to save and rel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0B780-45F7-40C8-9139-46C218DF8E4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547998-3BF7-4710-A51A-A5D5DF0775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the heart of a game’s 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can be organized into a hierarch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and stress determine absolut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ly used challenges test different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w actions can be used to overcome many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allowed to save and reloa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368DE-5665-4985-A1CB-25896F62165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4549B4-8C9C-473E-B7CC-B7F0445C8B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challenges commonly used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 in the context of the game world and describe how actions are selected to meet specific challenges or serve other function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arguments in favor of and opposed to supplying a saving mechanism and explain the most widely used method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D5544-87AF-4725-B4E8-9F26FBE948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6B9A49-BB44-4274-B217-92687B53F2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ecution matters more than innov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ief reason a game is not fun is that it contains elementary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pects of game development that contribute to fu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ing errors; basic craftsmanship is most import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ning and polishing is seco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Imaginative variations on the game’s premise is thir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rue design innovation is only 5% of the source of fu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0377B-F650-4ADA-96DF-FAFC9C160B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5AFCC7-2C3E-4084-92EB-5FC030DCDA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nding the fun facto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mes fir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t a feature right or leave it ou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around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now your target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or automate parts of the game that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ren’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true to your 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ive for harmony, elegance, and beau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6F642-455F-4D4B-BEE1-9206AA7A6B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77470B-F246-43DA-98EB-BC37D4983B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y from lowest to high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omic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-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6239A-193B-4F58-ADEE-D6D991CAD3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D25589-E02B-43E0-8808-5D57A4EC6D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forming the player about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tell the player about explici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discover implicit challenges on their ow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icit instructions are given about the victory condition and lowest-level atomic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mediate-leve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st interesting games offer multiple ways to w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gnize and reward victory achieved no matt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h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achieves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75C35-3BD5-4ABE-BE6E-3CF54B1D3A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44E5BB-16CC-48F0-ADE7-5524147874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taneous at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coming several atomic challenges at the same time increases th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way of doing this is to bombard the player with enem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games (such as management games) present more complex interrelated simultaneou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re simultaneous atomic challenges a player faces under time pressure, the greater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t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E612A-7147-43E8-810F-B0A150224E5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ECB966-5167-4A6B-94C1-E97A0B27EA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kill, Stress, and Absolute Difficulty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 require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skill needed to overcome a challenge in an unlimited amount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effect of time pressure on the player’s ability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skill required plus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765E4-5403-42B5-82B7-0A88BEDF076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CD98FB-4727-44AF-BC36-9B491BE53E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7:59Z</dcterms:modified>
  <cp:revision>185</cp:revision>
  <dc:subject/>
  <dc:title>Fundamentals of Game Design, 2nd Edition - Ch 9</dc:title>
</cp:coreProperties>
</file>