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0A78-B5D4-43D2-A84C-005D85259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known as m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represents the player in the game world. Frequently, players make avatars that physically resemble them or how they wish they appe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hat play is always limited by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BE617-F300-442B-9EDA-94E268E7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B89CB-A363-461A-AA49-5D04E082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BBD5F-10DB-4F69-AA31-4833B8AE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C1C6A-F9C4-4C8D-928B-B0AE0A96C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1EDF-2F08-488D-9257-98F0615AF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26C5-AB51-4437-818D-99832C5A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2DDF-F700-433A-9CC2-E917F515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C718-27E1-4B4C-AF42-010B54EC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B30D-6C8B-49D4-8C4A-B05D1598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0E5E-4020-4DD0-A9DB-CBA9BDD5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8E06-62AB-4CCA-A568-91836CA5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4782C-0F5E-4B71-B9A1-16DDC9DC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0BC4-9C50-417F-BE1C-2FE14DFB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640D-889F-4F59-9A43-F51AA2BF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0C48-F845-4571-A175-41A15703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B9AB-4DF2-4A83-8878-6511B32E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4016-C318-4E65-A777-373705AA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90A18-3361-45C7-AC05-CEEF5247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9A681-97FF-42FD-A571-CE79A459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68B97-0810-4FF2-9C05-6B0FC555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D2302-7FE2-4ED6-999A-AD6CCDBA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BD655-E1E2-4588-A318-A3134B09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A9AC5-0AD8-4C91-928F-C7DC822E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7362E-D530-443F-B6C2-46B1D2A9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5  Creative and Expressive 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78ED-47C9-4974-BD39-86B30D88581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687B-5253-43AC-8202-55504558905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8922-D9CC-4697-A3E4-571A0787C32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5: Creative and Expressive 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easuring Aesthetic Cre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like physics, computers have no innate way of measuring aesthe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must provide a system. Some possibilit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xed aesthetic rules (e.g. certain colors clash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ystem of trends the player can resear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ublic to vote onl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E573D-29F7-419E-A800-E75CC026580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12F988-2041-496E-BA05-17463E12368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reeform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s unlimited time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itionally known as sandbox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ually offers fewer rewards or no rewar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E794F-1D85-4AB1-9CD7-4F2DCC28533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EB1C54-B42F-43B2-ACDA-5426A04A9C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features that allow players to create and share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ums and captured images assist this abi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408D5-A910-418D-BD48-D2647EC135C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6AF1AC-6E84-4C89-80F2-FE3CCE8245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Modific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utmost creative freedom, allow players to modify the game itsel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core gam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tends the lifespan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have no control over the m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players to create mods can put the reputation of your game at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AF4F2-CBF2-4540-BC0E-0753E4FD7E0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20C072-F4EC-438C-B6B0-3BA97F1B2B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evel Editor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construct new levels for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y be able to construct a new landscape, place challenges in it, and write a script for the game engine to r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ols must be included with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23A1C-81C6-4539-852B-391839AF473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1E9E79-18C7-4B5C-A6A7-939AEEDD02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Bo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ly intelligent opponent that the player can progra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create tougher opponents than the original game includ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5542D-CF07-47DD-B121-312436882B1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5F103F-E92F-4778-A4D3-C7121FB55D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players express themselves through their avata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storytelling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players create m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CFC67-027C-468E-A2BF-750BB0E9C84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468A78-8526-47DB-8648-1FAB6F2B73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self-defining play as a way a player can project his personality into the game world by selecting an avatar and the avatar’s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creative play as a way to allow players to design or construct as part of th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59238-6CEA-4497-82D7-9AE9BF89385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629AF6-FF59-451A-A6E9-0B05B9BFE7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fference between constrained creative play and freeform creative 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games can provide storytelling play by allowing players to create sto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ways in which you can provide additional creative freedom by allowing the player to modify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AC961-43D3-40BB-88BD-0B21F70A0B0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A18E54-1D5B-45B9-8878-FA0E93C916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lf-Defining 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s the player project his personality into the game world by means other than gameplay choi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tho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ustom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04948-3BA4-440A-83DF-8ACBF19D91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2A12F4-43E1-4A1E-94F7-B6CE129971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al attributes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e fundamental aspects and change slowly or not at 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ive the current status of the character and may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assign values to characterization attributes, they define themselves in a creative w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C1454-27DA-46B0-8490-0B42381A6E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4C3C5B-D647-46C1-BAC7-1D2BBB62E4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ing players to set all functional attribute values may introduce bugs; inst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players a fixed or random number of points to assign among all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 set of default or recommended settings for new players who want to get started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earn the right to set their character’s functional attributes any way they lik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E28C3-F7D1-4927-A969-B8F081DAEE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C78EBB-21CB-41AD-9B7D-43E5156992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smetic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do not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make a game more fun at a low implementation co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ical cosmetic attribut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eadgear, clothing, shoes, and jewel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ir color, eye color, skin col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dy type or siz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 color, decals, insignia on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21C9A-AEA9-44F5-87F9-2FA6CDA3D7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7E6F59-1876-460F-92D6-2C952B28C7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save and reload cre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rized creative play can be categorized a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ained creative pl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reeform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2D78A-6743-4148-A9C9-E37D2BB15B1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A90C1C-E937-4129-86A8-49778B787E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nstrained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layer can create only within artificial constraints imposed by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 can be limited by the econom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physical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aesthetic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7F110-761D-4E2C-93E7-A5BCB9FDFD0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6FE0A1-BDF2-4537-92B6-62B30777E8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38Z</dcterms:modified>
  <cp:revision>136</cp:revision>
  <dc:subject/>
  <dc:title>Fundamentals of Game Design, 2nd Edition - Ch 5</dc:title>
</cp:coreProperties>
</file>