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A755B-1A3D-410E-8D24-89940F6E91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on sequitur is something that does not follow logic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isimilitude means having the appearance of truth. Sports games must be realis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FB95B-B1FB-4CE5-BBCA-BFAB2FBD8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A6D00-8DD6-445B-9E9E-DB02D7D67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93C42-7F92-4DF4-A58B-E5E333D17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090ED-8D2D-46EE-9EFE-249868B5A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5B0A4-BC0F-46D2-896A-006025700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3FDC1-B97B-4DA7-8248-69AE6049A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20176-73B4-489C-9A7A-9A3105F2C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1A912-43A7-436B-ACF5-6EF951748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C5E17-90B4-45F7-B3B0-57AF2C99B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20A47-9DA2-420E-BA2B-8D05DA51D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86588-EB96-444E-A066-CC239B7F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D83D2-3E40-4FB0-902F-FA5294811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6F797-42BD-439E-A9AA-887F9563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A54AC-AD06-40A6-A556-C4AB5D56A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F476A-E0A2-4819-969A-C040D24B4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DBAE4-5170-4CB2-A222-F4F4E64A7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44D8D-5365-4698-BBD3-1C8055584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72880-E592-40A5-811C-51BD45979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420FF-1038-4B35-927F-B42DBED99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30F0C-82B2-48B6-B9DC-C1736BF69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856A5-9A63-4FBB-8D37-A6C7BA14F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F4096-3409-489F-9DDB-60234DF56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85458-88FE-41E5-B5A2-4AB0405C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7D781-3446-4D71-B40B-7A46E370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3375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2 General Principles of Level Desig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C294A-A9DC-4542-A768-91A2D3B8C957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DA1B0-C1A0-46ED-BF56-6167926BEB9C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2C2DD-59DA-4FA7-A881-A47F2F034173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2: General Principles of Level Design</a:t>
            </a:r>
            <a:r>
              <a:rPr b="0" i="1" lang="en-US" sz="1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arallel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odern variant of linear layout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Variety of paths can go through th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an reflect a foldback story structur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ing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ath returns to its starting point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val tracks or twisting road-racing tracks are ring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for racing gam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649520" y="4191120"/>
            <a:ext cx="1457280" cy="2158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791320" y="4114800"/>
            <a:ext cx="2133360" cy="21337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B1830-B219-4F76-A4CB-56730B0B3B61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538D4F1-E680-4356-8C4E-BC14E515B7D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etwork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paces connect to other spaces in different way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Give the player freedom to take any path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tories must be able to tolerate player experiencing events in any sequenc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ub-and-spoke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entral hub is usually a safe zon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rovides some choice of where to go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ck off some areas to control sequence a littl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600200" y="4419720"/>
            <a:ext cx="1905120" cy="18572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638680" y="4343400"/>
            <a:ext cx="2286000" cy="19018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3F06B-DDD3-4C7D-90EC-7FB624CC586D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8C74242-36EA-42F1-B323-982F65A7822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binations of layout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bines aspects of several layout typ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le-playing games and adventure games often use combination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768760" y="3429000"/>
            <a:ext cx="3605040" cy="2679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8B489-3342-4B82-AC83-25972D64761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5DE023A-619A-4BAC-B012-972D9C70294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er assembles components to create the atmosphe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gh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lor palet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and atmospheric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 visual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ic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mbient audi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 audio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B28A4-E464-4220-8D19-725E6943845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D58E7E5-9695-4C7B-9F91-A1DE1EEB05E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 refers to change or grow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designing progression, consider these factor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3505320"/>
            <a:ext cx="3886200" cy="23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chanics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perience duration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ncillary rewards and environmental progression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actical gameplay rewards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952880" y="3505320"/>
            <a:ext cx="388620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fficulty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tions available to the player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ory progression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racter growth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7826C-E016-4F34-A90B-03CBBB3D2E4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3021AD9-E507-4213-9F4C-7D78925B321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cing refers to the frequency of individua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enre affects pac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ltiplayer deathmatch shooters use the fastest p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dventure games use the slowest p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y the pacing with fast and slow perio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verall pacing should remain steady or become more rapid near the end of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0E0FE-A35C-4D72-8207-75FA3C2D652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A5B3E03-0425-4BA5-A928-64657846B23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utorial levels teach the player how to 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what scripted experience that explains the game’s user interface, challenges, and action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troduce features in an orderly sequ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witch off features not yet introduc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the game is complex, use more than one tutorial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ghlight screen elements when you introduce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t player go back and try things again convenien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oiceover narration or text can explain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rule: Make tutorial levels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option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63201-C4C7-44DE-BCD3-86C4B60848F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F832B8E-DEC6-472B-9DB9-684933878E4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to level design handoff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st features in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rough overview map of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nning phas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n the level in detai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n the sequence of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cument the gameplay, art, performance, and code requirem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33363-55E7-4B07-BBA4-C0BD629F9A8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EE51AC0-3E09-41CB-8914-25BA3BF3257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totyp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 temporary models of the landscape an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ls serve as blueprints for the art tea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revie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view the prototyp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eedback from the design, art, programming, audio, and testing team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A59D4-D9D1-4B0A-9523-D60D8863A45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36745FD-5462-4D7F-A384-E83557608D6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refinement and lock-dow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 corrections based on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view and correct until the level is flawl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ck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 to art handoff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ive all files to the arti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ll artists how the level should look and wor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act the audio team for any needed audi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51570-3AC5-4062-8A3E-30D915BFFD7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42E3AC8-DDD6-4DFE-A301-4A6D3DBEB48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level design can enhance or undermine a game’s story and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ce between universal and genre-specific level design princip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possible level layouts and understand when to use each and how to combine them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16DDC-635C-4696-9A19-7F1E6255C49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399F064-17D2-4FB8-B1A6-5B68B172FA0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rst art and rigging pas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 team builds the real artwork and rigg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You might need to incorporate the new content into softw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 to level design handoff and review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eive final artwor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duct a revie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300E3-EA36-45E6-BA5D-17B26BD194C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9487B8B-2A62-4F12-B4D7-472C1FA651A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tent integr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semble all the assets into the completed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just any rigging as necessa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ug fix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for bugs and mistakes and hand off to Q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testing and tun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QA creates a test plan and begins alpha tes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thoroughly alpha tested, hand off to beta tes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CD5CE-FEEC-4488-8B54-699A4F4A8ED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E951074-FA66-4A78-902E-F3124883ECB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itfalls of Level Desig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t the scope righ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within your available resou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’s common to design something that’s too bi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conceptual non sequitu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llogical events in a game make it harder to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should be rewarded, not punished, for using their intellig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68E2A-6843-4323-B8DF-F7CDB5D84D6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04FC1BA-EA71-4401-B307-8B6ACBF1D11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itfalls of Level Design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ke atypical levels optional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ypical levels break the player’s suspension of disbelief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ypical levels could prevent some players from completing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n’t show the player everything at o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roduce new features gradual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tain the player’s intere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893B2-D5CC-4888-8B0D-8B4826B1B30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57F1778-9796-4183-A4DE-7BECDAF20B4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itfalls of Level Design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ever lose sight of your aud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-centric appro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nderstand your target audience and deliver what they wa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d the “Bad Game Designer, No Twinkie” articles for more examples of design err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ww.designersnotebook.com/Design_Resources/</a:t>
            </a:r>
            <a:br>
              <a:rPr sz="2600"/>
            </a:b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_Twinkie_Databas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EA019-BA62-4C65-A40C-C33C26BFD98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3F7D8D9-8D02-4C64-971F-3ABD9D98BAC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level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pply key design princip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 variety of layou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tmosphere, set a pace, and build tutorial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mplete the level design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void common pitfalls of level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14B52-B91A-44DC-BAC0-98C6BCA50BE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5CE7F31-D747-4D4D-AACC-19E2BE07020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importance of atmosphere, pacing, and 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key aspects of the level design proces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some of the pitfalls of level design, such as inappropriate scope and conceptual non sequitu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016AB-66D9-4382-BB28-2FCA96EBCB9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FDFDB9D-057E-42E1-BFD2-25A5C58B2DE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Level Design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3428640"/>
            <a:ext cx="4038480" cy="27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pace in which the game takes plac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nitial conditions of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et of challenges within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0" y="342900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ermination conditions of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nterplay between gameplay and story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esthetics and mood of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: constructing the experience for the player using components from the game designer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ers create: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0829B-025A-40E4-8409-9F2BFCCF080E}" type="slidenum">
              <a:t>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92DAB05-A95B-406F-861A-B9AD954F714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iversal level design princip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 the early levels of a game tutorial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y the pacing of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the player surmounts a challenge that consumes his resources, provide more resourc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conceptual non sequitu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learly inform the player of his short-term go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8B97B-860C-4690-8BDC-7E96BF59EC1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EE4C363-3F61-4855-9054-D9B093AD7F3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iversal level design principl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clear about risks, rewards, and consequen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ward the player for skill, imagination, intelligence, and dedica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ward in a large way, punish in a small wa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nd more resources (polygons, memory, CPU time) on the foreground than on the backgrou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urpose of an artificial opponent is to put up a good fight and then los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 multiple difficulty setting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30852-B837-4CC2-BB96-2FAF077DCC3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409CED0-60FF-4404-A76F-7162989DF15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re-specific level design princip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v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y the 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r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ward plann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le-playing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o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fer opportunities for character growth and player self-express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orts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v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risimilitude is vit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hicle simul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r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ward skillful maneuver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E8039-C4E1-4D13-91A7-6863163DCF8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8A2C85E-C56F-4134-B79C-34AFB26D6FD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re-specific level design principl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ion and management simul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o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fer an interesting variety of initial conditions and goa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venture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struct challenges that harmonize with their locations and the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ificial life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te many interaction opportunities for the creatures in their environment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ve the player time to think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9F876-6854-48B0-A584-75E5614E228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0D1B33A-84C9-4FB0-9275-22857645547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pen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llow unconstrained movem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rrespond to the outdoo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in war games and role-playing gam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near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equire player to move in a fixed sequenc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 can move only to next or previous are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traditionally in side-scrolling action games and rail-shoot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791320" y="4398840"/>
            <a:ext cx="2361960" cy="19288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C72DF-4AE2-4C2B-9F18-CBD1AC291BE4}" type="slidenum">
              <a:t>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FEEDA10-EECE-4C65-B8BC-A7802852634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9:45Z</dcterms:modified>
  <cp:revision>242</cp:revision>
  <dc:subject/>
  <dc:title>Fundamentals of Game Design, 2nd Edition - Ch 12</dc:title>
</cp:coreProperties>
</file>