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B5727-96E3-4544-A6EE-005FFC4991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8C9FA-F08A-4FAD-9A76-EBE520561FDE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49A49-03FF-4880-A436-EA7BE6B06D36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FCC630-A2C5-429F-88D0-40A6192F4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F1F0F5-97AB-438C-B231-9B3C90349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80019D-30A6-4B61-8048-1CAA2F792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7E0A12-2972-43D4-95DC-B7601A667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FA1FA-0499-4A67-A9AB-D575B8E3E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A4840-6F50-4307-8F00-5AD7E4ACE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C977F-F890-48B0-9302-7B220919B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67F68-D1CF-4DCC-90EB-997EAEA5E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2D807-4F28-4027-95EE-1939EACD1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8DA55-A935-4102-9743-855D59E18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D1A37-44FA-499B-8DB3-F450BB402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CDEF1-36B1-446F-8213-6378756CC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EF4B3-CCE9-46D6-BBC0-426872A4F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AC8E5-84B1-4F3B-9E1C-FE0EA4F1A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88D96-E1D5-4004-A2EB-E7559D0A0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D7954-8C0B-485A-A760-48FBACB9D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68DE1-B410-49DB-B32E-156D0F7B4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9887BE-EBC5-4B68-96D6-8ED31E526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7F209A-4202-4DDF-9A04-7187E7903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D07F47-6F0E-4311-9C8B-4AD141949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8D2915-3838-4982-9515-D7691A958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4E62BD-8F98-40E2-B77D-D7249390C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AD0ACB-E8C1-4EEE-BD7C-4BFB0A493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D7F1C5-558C-4778-807A-75C26FAF2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2852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6 Sports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99EDB-1668-4AF3-A149-2E7A73A9935C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6DC7C-0AE7-47F4-B0FF-465140E3CE90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3052A-67B3-4C67-835D-028D967A807E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TextBox 12290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6: Sports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pportunities for creative 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am creatio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players create their own tea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ategy desig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players can create their own strateg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ing field desig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players can edit the shape of the playing field if sport allows this op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256B46-FA70-4719-9484-FC9FAFF84B6F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FA77A00-4C29-4BF0-94A5-F0327CFD44C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venting a sport is a risky option that is hard to sel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eath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eather can invoke special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eather affects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stant replay is an essential feat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lude all usual video forward/reverse featu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layer to move camera arou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locking the camera to an athlete or the bal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811A03-233C-4521-9F7A-CEC9F5F6B0CC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9AD562C-D076-4384-AC84-70BA464361E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hysics for sports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hysics engine determines the behavior of moving bodies in the mat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hysics should not be perfectly realistic becaus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does not have precise contro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is not a professional athlet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145235-5487-45F3-96BD-E9E1E0F36197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2410198-70B9-4D71-89A0-7DD81616248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ating the athlet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veloping ratings is a big tas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atings provide data for the physics engine to simulate the athletes accurate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mon ratings are provided for all athletes—speed, agility, weight, etc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ecialized ratings apply to specific positions—passing strength, passing accuracy, etc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FAFABD-4D10-46DA-879C-96351DD9E5B5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AB2FD33-A950-43CA-AA42-2C0722B7066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thlete AI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e the state spa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 in a match is broken into states defined by rules and strategy (e.g., fly ball, foul ball, grounder, strikeout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reate a flowchart to map the game’s stat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t collective and individual goals in each sta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dividual goals are what each athlete tries to achieve in the course of playing his posi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llective goal is what the team is trying to achieve as a whole; the collective goal determines individual goal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BEC08D-188C-4DC0-846F-E653EFD5E68C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7BABEF7-BA97-44AF-9C39-31439D2F237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juri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juries introduce some cha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layers to turn off injur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cade mode versus simulation mod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cade mode increases action and decreases realism; produces higher sco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ulation mode increases realism but probably decreases a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DB9064-0CF2-4264-B54D-8231FEDC91DB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60D527D-364D-47C9-8DA1-EBD989BB6D6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mulating matches automaticall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uter plays out matches and records resul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fake results quickly, roll dice to generate game sco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cores must be restricted to a credible rang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oesn’t generate other statist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ing a home field advantage is not recommend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7EE8EC-58C6-41E1-86C9-61A9B9B0278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89E44B8-9467-431F-BDE4-449D0CD29DA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tt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curate copies of real stadiums and arena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eather significantly affects games played outdo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owd noises contribute to sett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7946A0-5333-45EB-82E7-3B24FA64373D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B0CAE09-BD07-4E05-A494-F96C2722340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censes, trademarks, and publicity righ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am and league trademark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America, the league holds the license to use the team and league names, logos, uniform designs, etc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 variety of governing bodies manage individual spor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vents are owned by the organization producing the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adiums are now asserting trademark rights too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rsonal publicity rights owned by the athlete or an organizatio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DB64BB-EB66-470C-851B-A6FB652B6426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79FB599-D054-4BDD-80A1-E6CB9A43271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udio commentar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eeded to feel like you’re watching the match on televi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-by-play and color commenta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te the events that should trigger a specific com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51366D-5A53-47E2-AA94-35B3A9074136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F643750-8E3B-4E08-AB12-FDF15F4DC24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hape 1331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9E420-3201-4826-BE1D-744ACDDDBE35}" type="slidenum">
              <a:rPr b="0" lang="en-US" sz="1200" spc="-1" strike="noStrike">
                <a:solidFill>
                  <a:srgbClr val="3366cc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Know the definition of athletic sports games and be familiar with the types of challenges that these types of sports games off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Understand the challenges of meeting players’ expectations about a real-world game in a video game implement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D2C4D1-C628-419C-8061-17E5A5572E4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FA3582D-B2A3-4AEB-8343-364672F9265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on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usually controls an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ich athlete is being controlled can change as the play progresses (in team sports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n’t use first-person; players watch the athle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verhead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i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dividual spor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nd view or side view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t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am spor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icture-in-pictur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sports with more than one focal point, e.g. baseball or cricke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349899-E619-412F-ADC5-4974CFB404D4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0A5931A-4DDF-4221-BC65-52B3644063A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put Devi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otion-sensitive (e.g. Wii controller) best for spor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team games, let the player press a button to switch control to the most appropriate defending athlete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splay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ser interface can change every second, depending on conditions in the matc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ach state requires a set of opti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rk the controlled athlete with a lab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se overlays rather than pull-down menu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6DA2F2-B3EA-41E7-9CED-9D887B888BD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5D6BFAE-DD1F-44CA-8D58-4F74931300E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 sports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the player’s expectations for a sports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adapt a sport for a video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rate play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flowchart states in a mat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license teams and play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reate a user interface for a sports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F7EED3-B8E2-47CF-AE40-98CB4343A639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5F66AA8-3CDF-407F-8D2E-21F4C1A15AE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hape 1433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55BAB-B568-4E0C-9F1F-0A9E6CA30EE8}" type="slidenum">
              <a:rPr b="0" lang="en-US" sz="1200" spc="-1" strike="noStrike">
                <a:solidFill>
                  <a:srgbClr val="3366cc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Know the basics of adapting a physical sports game mechanic to a virtual worl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Understand the design complexities for physics, AI, and player skill ratings required for a sports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Use flowcharting to help define AI states within a sports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4C53CE-9445-46B2-A077-64E25842422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C5E089F-3ABF-4AF3-8830-B86E0324E23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hape 15360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EA582-3C19-4280-A4AB-FCBA242259EB}" type="slidenum">
              <a:rPr b="0" lang="en-US" sz="1200" spc="-1" strike="noStrike">
                <a:solidFill>
                  <a:srgbClr val="3366cc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Know the issues involved in licensing sports organizations, teams, and players, including the use of names and imag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Understand mapping known physical game play mechanics to computer-human interface devi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8F169-EC14-4467-B8CB-B2BEAD41C143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742EFEA-4454-40AF-93E1-9EF64E32E0D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Sports Games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sports game simulates some aspect of a real or imaginary athletic sport, whether it is playing in matches, managing a team or career, or both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tch play makes use of physical and strategic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management challenges are chiefly economic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7770E1-C934-412C-AD90-984DBF678B3E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D90357D-EFEE-4A7C-B172-90D27CE6EFE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 struct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in gameplay mode is match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utside of match play, game’s modes relate to other aspects of the spor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use the game for coaching task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ro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thlete is most common rol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p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ayer follows the action rather than a single athlete in team spor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may also take role of coach or manag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BA6EC7-14CB-43FE-A339-8BB0FC81AD43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B5D928D-C701-45AF-9540-BA8EC606A86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play and ru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llenges and actions match the spor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thlete—Physical challeng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ach—Strategic challeng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ules might have to be relaxed because controlling athletes onscreen does not correspond exactly to real-life sports experien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eed to decide what to do about athlete mistakes outside of player contro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llow players to set referee paramet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8A5946-42BC-42AA-99F6-2F6C6E5A7DF1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29A747A-CA55-4227-A88D-A7D742278D8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petition mod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 competition modes are allow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orts games are more popular on consoles to permit multiplayer competi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e mode should include computer versus itself so players can watch a mat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66F61A-C846-49AB-A865-1EE84D7BF1C6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CD3C9EE-BDE8-4971-82DA-16A7A8180B8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ctory and loss condi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tch real sport’s victory and loss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d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eason mod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xhibition mod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udden deat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ound robi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urnament mod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ranchise mod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257C07-CFAD-43E0-8711-1FB0CAA726E2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D5F983A-9E09-4810-A98A-56B3CC757F5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8T13:43:47Z</dcterms:modified>
  <cp:revision>327</cp:revision>
  <dc:subject/>
  <dc:title>Fundamentals of Game Design, 2nd Edition - Ch 16</dc:title>
</cp:coreProperties>
</file>