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7ABCB-3572-4FA7-8976-64C276A7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C6169-9EE6-4E8F-A155-D3AF4BA7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0F0DD-41C0-428E-B719-B06F56B88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3A723-F58E-47D2-A683-364B3D517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34F8-AC49-44B4-ACF2-2B08A8D32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1BAD-E45E-407E-8456-1F86B935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7CBD-6EFA-49B9-B6F5-8D605A31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DD80-6F2D-41AD-BEF6-C1743E52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BCA8-B2E7-4668-90F5-DA7D2C2E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E276-C184-47C2-B567-CC7D6CF9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6C1E-274D-4B42-A71C-C643C038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D9E65-070E-4608-BADA-F8D45EC2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0D6B-644D-43C8-8CE9-6E256188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1C39-E52A-49CD-8BEF-74877767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DF45-52F7-44D7-8931-AF8E838D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5BD4-FB6E-4426-A6BB-4464B96B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F7EB-F105-48E9-9A25-EB3B29E1C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40BFE-FB95-41B4-A777-8FA4F8B5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F5A0C-99D8-49A6-8261-0359EDD8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3EB73-3DBD-421F-BCE4-417992A0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081A3-7112-4140-8E1E-4A8671B3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B3675-61D5-4217-B15C-DEA4DD00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DEE12-1D55-4A14-BA60-AB3D4007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351FE-8601-4725-8E10-CBF3B025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5 Role-Playing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B98E-8462-4015-BC0A-1655EEBCC8D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D7B9-067F-4115-AD63-9A6A44BE766B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ED51-F68F-4201-A56F-883591E08BB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5: Role-Playing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and comba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tions include setting a destination, designating an NPC to attack, and using special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vers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u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s dialog tr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d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y and sell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vento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ge carrie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04931-7961-461E-8DC2-0AEE7517410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1B0F2B-7D87-4308-A63C-40473C2A27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olling di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k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w the probabilities to get the result you w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termine general abilities and qualities; change infrequent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x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cla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, mental, moral, and social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89038-3944-49BE-8AF5-4DB4C3FD981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97DE9C-1B0B-4C57-911E-FA31125DC0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, experience,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ributes that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points and character level  measure the character’s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smetic attributes add richness to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45A3C-8895-4E2D-83B6-63C1A5178AE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E57F93-8CBD-4529-A67A-81D2D6909D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gic and its equival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 that allows characters to influence the world by means not available to us in real lif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ience fiction implements magic as “advanced technology”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of magic restricted by character cla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magic, how it’s invoked, how it’s 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often spend magic points,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n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ana system is more convenient and flexible than the D&amp;D “memorization” syst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F4DFA-9131-43BC-B3CD-3506C8FA802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1D12D1-CDED-416E-B81A-6B65C84DAA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kills and special capabi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taining new skills for a character is similar to upgrading a unit in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trees provide a growth path similar to a tech tree in wa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RPGs allow the player to create the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l dice to generate points to distribute among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FFCDF-E694-42B6-BF5B-2B9201AE078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96A48C-B701-4775-B916-B3D05CA03D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nd to be fantasy and science fiction sett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appealing to explo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RPGs provide an editor to enable players to create scripted adventure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AB7EF-3223-437F-9389-B5FB554981F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62A9BE-8678-4F59-BE15-2E44B40A45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, determine the game’s overall ques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, design the episodes that the player experiences from the beginning to the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e an enticing ope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403E2-60C4-473B-9760-F8077E15A8F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0C22DF-6107-41EA-B1BA-5EB4AB14A1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 in single-player CRP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-based is becoming more common, howe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 in multiplaye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person or third person for avatar-based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allows player to see all members of the party at once as well as surrounding ter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75BEB-DF70-4313-BCF9-FDB264145E9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1C4D56-B9C7-4568-863D-FEF913D572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de range of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terface can be complex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de the mechanics to aid the player’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ve task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nstead of making the player try repeatedly, automate the repetition and sho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progress b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character has low skill at the task, it will take a long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the player to interrupt and abandon the attemp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38226-5CE6-4D13-85B5-670B3719AD6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629CB5-B35C-4FF2-90A1-1551151826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role-playing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evelopment of the role-playing game from tabletop to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a world and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xperience points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gameplay modes for 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0EB49-F825-484B-B193-54362A63806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016172-B0D8-4348-A486-9569F0CEFF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role-playing games and the game mechanics common to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history and evolution of role-playing games from tabletop to comput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character attributes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103F5-5E46-4740-8F13-07EC83BD701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CCE660-D7FE-4987-9A17-4B008D3ED1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world and setting suitable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use of experience points and character level for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gameplay modes within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ADA6F-EB4B-4753-9DC7-F4C745B880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D28DC0-68F1-49BD-8787-F62DFC2CD3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jective is to experience a series of adventures in an imaginary world, through an avatar or a small group of characters whose skills and powers grow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sential parts are the quest or story and character growt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ctory consists of completing th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just enjoy exploring and interacting, even without trying to w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68E5B-7ECC-4724-AAC0-54A455406B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7C4E8C-8FB4-4DC2-939A-56D5DD2A25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types of challeng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gistics (managing supplie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grow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sol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523AC-22AB-4EDD-9BC6-8AC41DADF5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FADDFE-0052-484A-8566-B7B9F1523D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war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include combat governed by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ll group of characters who exhibit growth; no factories to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r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ge group of identical units; factories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EBD90-02C5-4760-9919-70CFCDE7CB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7428DB-3F13-4A6F-867D-52318F6E4F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 becoming more common in hybri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such as buying and selling as well as conversations with other charac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zzles more sophisticated than in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are rar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114AD-228D-4C4F-9215-02C74AF065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266322-E901-43EB-8661-1436A13DF8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br>
              <a:rPr sz="4200"/>
            </a:b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have rich storylines, highly detailed characters, and 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-defined character; characters defined by numeric attributes that improve over time; complex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tar provided by the game; concentrate on a single character; puzzle challenges; no numeric attributes; personal growth; simple internal economy (or none at all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86BF0-0D4B-40C0-84C6-A1154AE6E3B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F8B7BF-AE71-49F3-A532-F87CD6F0FC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and combat make up a big part of most CRP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ing the world is an overused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find an alternativ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ng quest broken into epis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 challenge at the end of each epis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tional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97F21-1CFB-4A10-BAB7-4DC88F6F0AF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F1E68A-A5B9-4E7D-9F7C-19C8AEBD94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9:38:35Z</dcterms:modified>
  <cp:revision>280</cp:revision>
  <dc:subject/>
  <dc:title>Fundamentals of Game Design, 2nd Edition - Ch 15</dc:title>
</cp:coreProperties>
</file>