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ACE3-69FA-41D7-B7E8-1323E1F1A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ies resemble data structures in programming, but designers should not concern themselves with coding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1DA82-5A70-4882-8E3F-9B9E5E96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9DC46-90D2-44F5-8B08-D2A3EE23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E2B2B-D9E5-4783-8010-B04C54FA9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ED8F3-BC2B-4FBA-932E-EFF04EDAE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8923-C37D-4972-AF4D-F33DA4515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383D-C717-49A4-938C-38AA863C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C119-CF48-42F9-9114-56006EF1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3BF8-F013-49F9-9C25-C5A1942A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99D6-527B-41A4-8BBA-667A77E6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5163-5C7C-453E-89CB-073DECAC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27B2-0A8E-41CA-B8D7-65D8F157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DDFE4-CB3E-477D-9F2F-8C8F6E9F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2F4E-B57B-47B9-8674-D3D0F68F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80B7-C108-49D6-8F4F-CEC49E51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0D28-829A-4BE1-8753-F6354837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6ACE-FBF5-48E0-95CB-D48A941A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08BC-3F6C-4257-BFBA-E787AC21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273C9-6129-4506-85DD-24550E5A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C7BC9-FD98-45EE-B18F-F18349F9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194C9-4627-4B73-82F1-32C39AE0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8A676-FD70-4F96-A3CA-E6BC964F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4FE66-AE97-4F7F-8250-92812E80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C8DA0-00FF-4069-A170-781F0300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2E95F-35A0-40DA-9DD9-C464944A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0 Core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150B-1538-4156-948F-65A983B12C10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3E9C-60C9-4FB1-AB3D-4180A5FC6C9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60EF-A7E7-4214-A967-5684F016858F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0: Core Mechanic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umeric and symbolic relationship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umeric relationship between entities is defined in terms of numbers and arithmetic opera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lues of symbolic entities can’t be added or manipulated mathematical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must define how symbolic entities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ymbolic entities can control mathematical operations on other numeric ent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5CD1C-F685-453E-8154-E0DAF7FF2FD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C5EA45-2254-4E53-BADB-65DF497A25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tity Exam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79250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03311-22C9-43DE-B029-C5193116C57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EE67BF-0DC1-4681-9279-A99A3CBA53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our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a mechanic that defines the way that a resource or entity comes into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Go” square in Monopoly is a source that produces money according to certain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produce resources automatically or when started by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limited or un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E123F-7F05-477C-9382-3D57CDB8589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371B92-14BE-453C-94B2-10B984C7AB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remove resources from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ters turn a resource into a different type of resour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ers change the ownership of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duction mechanisms make a resource available to play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82BAE-13BB-470A-803F-5BCC3839213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1380CF-BEFE-43F3-BD84-F327AD796C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 can be tangible or intang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ngible resources possess physical prope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angible resources do not occupy space or require transpor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feedback loop, a production mechanism requires some of the resource that the mechanism itself produ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problem unless the system runs out of the resourc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is produces deadlo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D7D31-9802-4C7D-9DC0-D0E6FDB17F1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6D1124-9014-4836-9A7D-A247CDB83E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production mechanisms that require each other’s output as inputs are mutually depend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static equilibrium, the amount of resources produced and consumed remains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ynamic equilibrium, the amount of resources produced and consumed fluctuates cycl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56ECC-FBAD-42FD-9ABA-F2CE2DDC1D9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AE1EAC-8F88-4939-84C7-1066BE68C6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present challenges to the player and accept actions from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implement the mechanisms to operat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perform tests to see if a challenge has been surmounte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ive challenges (such as static obstacles) do not require mechanics to ope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ve challenges require mechanics that implement their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30F2D-A378-42B3-9F36-C7EC15E3A94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0649D4-AABF-464A-BA1A-337087218A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and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available to a player normally do not change much from level to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ions trigger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icated actions may involve manipulation or storage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his case you must create both an event mechanic that implements the action and an entity that stores the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346E2-BAA2-4DD7-9786-2EF4C169F55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850413-C228-4703-9D7A-9E18045EB8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s of core mechanics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simple and eleg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generalized systems from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terative refin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y to get everything perfect on pap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, test it, and refine the resul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cuss with programmers the level of detail they need in your docu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CBF2F-6D72-420F-B24B-42CE6ACCE19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7DCF5E-CE9D-48E1-B6F0-6E9D2899F73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visit earlier design work on the project to identify entities and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uns in design documents will probably be implemented as entities or resources or bo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bs are actions that will be implemented as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” and “when” statements identify conditions that trigger and contro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7B226-C22B-4EAD-90CA-474E401B6B2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4F8866-CB30-4BEC-BA35-FFE6341C0C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functions of the core mechanics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components—resources, entities, attributes, and mechanics—that define how a game wor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 game’s internal economy controls the way resources and entities are produced, consumed, and exchanged by sources, drains, converters, and trad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2846D-5627-429A-A712-272FAEBF161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AE03C4-EE09-4971-AAD8-70A586FFE2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entities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es a noun describe a resource or an entity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n entity, is the entity simple or compoun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 compound entity, what attributes describe i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B2120-D55F-48F6-9973-22943083FEB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D1FA36-BBFC-4140-ABD6-80624C73A2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 th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member that mechanics consist of relationships, events, processes, and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nk about your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udy your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lyze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for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4FA06-7EBE-450F-A2E3-603FFAC02D7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E3298C-F789-43A7-938D-59556528F1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pseudo-random numbers, a seed generates the sequence of random numbers produced by the algorith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uniform distribution, the chance of getting any number equals the chance of getting any other numb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metimes you want certain events to be rare and others to be common – for this us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on-uniform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tributions of random numb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12025-0F88-441D-81EC-1544BDAA503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0677D8-DBC2-425E-A293-EB09120C5BF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generate non-uniform random numbers, generate multiple uniform ones and add them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ing 3 six-sided dice produces non-uniform values between 3 and 18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10 and 11 are common, but 3 and 18 are very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ing nonuniform distribution creates a Gaussian cur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B54AA-9F9C-464C-B31C-624A62A9A1A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130018-12AD-4944-8BB7-C59B628C14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onte Carlo Simul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means of testing a complex mechanic to see how it performs in different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 your mechanic hundreds or thousands of times with different random values in the entities it works wi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alyze the results to see if the mechanic is performing the way you expe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ten you can do this in a spreadshe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946BC-A478-4A72-9AF9-42751D0CD3D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D782AC-0A3D-4B81-986A-D035BC3834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resources, entities, and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affect game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vert your early design into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generate 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use of Monte Carlo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2ABE3-8020-4941-9EDB-5F6613E1B6E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5111D9-0EF4-4598-B92E-957F9B4976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the core mechanics implement both challenges and player actions to manag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design the core mechanics of a game by writing specifications to document the entities and the functioning of the mechanic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random numbers in a game, and test with Monte Carlo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8CBA8-89D5-4CAB-BC8E-DEAACE3A82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488E3A-11F9-4DDC-BCFD-BF0A8D0926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consist of algorithms and data that precisely define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ation of mechanics varies as project goes through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does not experience core mechanics direc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ame engine is the part of the software that implements the game’s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71C85-B88E-4135-AAD5-B71E58C0EB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D68EF8-39D7-44A9-96A5-A117CD85DA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s of the core mechanics in ope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 activ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pt player’s actions and determine their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ct victory, loss, and the termination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AI of  nonplayer character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witch the game from mode to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mit triggers to the storytelling eng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5D607-0F4B-4D63-B47B-4B14CE4834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7B52FC-D45E-4F53-B03B-08EA469457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games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real-time game, many mechanics are processes that operate continuous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turn-based game, mechanics compute the effects of the player’s actions after each tu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level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should specify how challenges work in general but not which challenges each level will con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5C7C3-1D4F-4FD6-9D2C-7AAFB935BC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370489-49A3-4536-8E2A-33CFA47ADC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resource is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yp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of object or material that can move or exchange within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ources are handled as numeric qua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define how resources are used or traded and how they enter and le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e: resources are not objects but types of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cils” are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pencil” or “these 3 pencils” ar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entiti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9C07A-23DA-45C5-A996-E5B6BD8E97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2B282E-27F2-41BF-BA74-0D33EA746F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entity is an instance of a resource or the state of some element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simple entity is defined by one dat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.g. Points scored in a basketball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ompound entity is defined by multiple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character in a role-playing game has many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unique entity occurs when the game world contains only one entity of a specific 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football in a football game is a unique entity – there is only ever one in play. It is compound because it has several attributes: position, velocity, and sp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3E0E9-D1B1-4334-974A-24C302BCA9A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0B85E5-E91E-445E-B3BC-3A3976669B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chanics document how the game world and everything in it beha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es the relationships among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lobal mechanic operates throughout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ies the events and processes that take place among the resources and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ck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condi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at trigger events and process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01439-8329-4229-B2E7-1F56B79C77F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EA8C45-A2C8-43A9-A843-10056F8C5E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8:33Z</dcterms:modified>
  <cp:revision>197</cp:revision>
  <dc:subject/>
  <dc:title>Fundamentals of Game Design, 2nd Edition - Ch 10</dc:title>
</cp:coreProperties>
</file>