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D96B-9C6C-4187-8128-72AB5D497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lements, including the shell menus, should be in harm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ion means completely removing processes or systems from the game. Automation means leaving processes in, but letting the computer control them so the player doesn’t have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point-and-click, player gives a command and the unit or character travels to the designated location by itself, wthout further st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the primary gameplay mod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o consider the player first in player-centric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20D35-4610-4164-A64E-0C6B75AAA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5F89F-90AA-4C7A-B8A9-6CCD2D9C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10DBC-7115-48EF-817B-6BB9C38F7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2AB1A-5A0A-4996-AF93-AA03F31A1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9003-D31E-4331-8EB0-B0100586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1003-F419-4100-A610-514CE157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1247-96CB-46C4-873A-AC4192C8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D4E8-39EC-4AE9-B57C-2411EA59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9F08-63E4-42A4-B2BA-99177484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CBF4-5425-4182-8E45-FF0ED6FB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B7C3-1882-4F25-9CCF-48D7ABCA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F267C-E55A-4D2C-BB4F-AEBC27B7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4F7D-334E-4152-8C33-DC2CCAA0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79A1-6066-4914-9EF1-AF4E6489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972D-268A-4810-A448-B958CFC9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DD93-F711-49E1-AE19-ADAFC12B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3A16-DE6B-41EA-809F-C479CCB4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F58F6-C0A5-43AD-BCBB-4E4E6B65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B3093-807D-4D84-BD6B-99CDC67D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20A5D-AF52-46A3-9DE2-5B5D2CBB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FD372-DA63-4045-AF23-22BA706C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986AC-1B2A-4703-8D8D-8565E91A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D285B-80B2-4192-99BA-182370D7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40643-0BC6-49D6-8A5B-F4046A7B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29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8 User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52C8-57B0-49E3-B454-53E822AA82A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6EA2-20E4-4250-A9A4-1BEFD88A9068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C6DF-DAD4-4CA2-93A9-28361FF9869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8: User Interfac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data from core mechanics that you want to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feedback elements to display that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ter defining critical information, move on to option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n mind the general principles of good interface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5EAD3-A487-4D0A-A58D-99BA6D006E5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605B5D-A493-43F2-99FA-6534829A96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 the player do what she wants to d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devising appropriate control mechanism for each action the player can take that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visual and audible feedback for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 input devices to player’s actions based on chosen interaction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time you move to new gameplay mode, note actions it has in common with other modes to keep control mechanisms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A1929-FF1B-4648-902F-ADDE47E731C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88B20A-0E84-4B75-BC69-A2AC591E814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ell men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menus allow the player to start, configure, and manage operation of game before and aft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hould not have to spend too much time in shell menu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interface is the first thing players see, so don’t skimp on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CED6F-9AA6-4A1D-8075-9809FBFC55E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D2671D-E5BE-476A-9F43-DB376FC59D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plify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some detai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e some fun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pth versus bread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ep interface places commands in multilevel menus or dialog box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oad interface offers more options at one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solution is a deep interface with keyboard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900C4-3902-4787-A71A-EFF3D42C3BA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083472-EBEA-48F1-9588-B44DF9740D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xt-sensitive interfaces show players their current op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obs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the user interface, don’t sacrifice function for loo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e UI on someone outside your pro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9E135-9687-4946-80C1-6D45D786D72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1CD60D-F185-4308-9100-F5545EFC1D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raction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ans by which the player projects his intentions into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mon typ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through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rese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on many places at o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a group of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sta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as if on a TV game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kto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ilar to computer desktop metaph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BD315-522A-49D4-B990-2A830575B97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74B5BC-7C4C-414C-AAD9-905D366CD7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termine virtual camera behavior by asking how you want player to view th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erspectiv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re camera models that are largely fixed and unintelligent, e.g. top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rtually all standalone games running on powerful game hardware employ 3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3D graphics only if you can do it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ood 2D is preferable to ba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2634F-1566-4CAB-88C9-3B017B80576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CE7593-3076-4446-90B2-64E1A3E825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ttle animation needed for th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You don’t need to design AI to control the camer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find it easier to aim ranged weap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may find it easier to interact with the environ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not se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ifficult to indicate avatar’s personalit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mera angles are limi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rtain moves are difficul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pid movements may cause motion sicknes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only in avatar-based gameplay mod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s and cons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9202E-BE19-4261-B743-F333D71579FC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EECB13-C20C-4CC0-A415-E62092EBD87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for avatar-based games and allows the player to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perspective in 3D action and action-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for this perspectiv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ng camera behavior when the avatar tur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uding landscape objects between camera and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itting player adjustments to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61E82-D71D-400E-A99C-F6DC307A8FD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E80AD8-534F-4328-B32E-4A4A31AD7D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erial perspecti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with party-based or multipresent interaction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ypes of aerial perspectiv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d to display map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ometric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angle is such that all three dimensions can be seen at o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controlled by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ext-sensitive camera mode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moves intelligently to follow the a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40532-D9F2-43F8-B562-0D9D74CD010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23AFDB-1806-45A2-93D9-4B2740C012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user interface mediates between the player and the core mechanics to create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principles of player-centric interface design can answer questions about what the player needs to know and wants to do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steps required to design a game’s user interfa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9A20D-812D-4786-AB77-E4E4BC4C764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E56724-350F-4E92-B403-24F31FC894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p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2D display options found in Web-based games and on small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gle-scree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ntire world on on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de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 sees the game world from the side as avatar moves left and r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p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andscape scrolls beneath the avatar and new challenges appear at to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ed backgroun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vatar and other characters appear in front of static backgrou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E9DF9-7A40-485A-B024-75D7C3D4AA0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5CFCC0-FA7B-4449-B9CB-9C35B67EF9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in 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be largest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option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indowed view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main view takes up part of the screen, with the rest of the screen showing panels displaying feedback and control mechanis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aque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superimposed over main view; the overlay obscures the ma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mitransparent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that players can see through partial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9DB6D-DF23-47BC-8440-72C1043D6F5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CCC72E-3DD3-47DB-8213-80980263D6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dback elements communicate details about the game’s inner sta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dicators inform about the status of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gits, needle gauge, power bar, small multiples, colored lights, icons, text are common types of indic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-maps show an area larger than the main view so player so orient her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s give additional clu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D14D4-B0AD-4BA9-A71B-71747C4FB2E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9132DE-594D-4ED7-952B-17B56EDC10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portra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give the player a better idea of the pers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function as a feedback element if they ch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ey issues regarding text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localization easier, store text in text fi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typefaces and formatting carefully to harmonize with theme and present information clear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17452-3144-4AF0-8C80-CAFA00FE201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C218E5-57F6-41DB-9B8A-9B8C0C073B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bration (“rumble”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mbient soun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alog and voiceover nar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on can be irrita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multiple alternative ver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ing and acting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us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g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F6BDA-B2E6-45A7-8F97-1238CCC2A30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EBC1F7-4521-482B-A4D7-820968BD49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put Devic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elerometers (e.g. Wii controllers), GPS receiv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ional pa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Joystick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use or trackb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chpad and touch scre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er buttons and ke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nobs, sliders, and pressure-sensitive butt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4E50D-F658-4987-8F10-182603998F3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CD6DD9-D9E5-4D1E-9317-253BCA9BD2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reen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toward the top of the screen to move the avatar the same dir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up to move avatar forward in the direction the avatar is fac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A7B72-DF25-49D8-ADFE-D96C919E970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22250E-7D25-4014-A633-4420389BB4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y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two mechanisms because the movement occurs in the third dimension as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first-person perspective inside cockp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oint-and-click navig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to give directions to semi-autonomous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s a pathfinding algori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give the player more control, allow him to set waypoints for the un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12DC1-2ED0-4B35-A23B-1374A6584CF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6C08DC-ECB3-486C-BB83-B35B39B202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llowing for Customiz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ful and easy to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 key reassignment shell menu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ave all customization changes on a per-player basis (like the Nintendo Mii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FAEEC-AA45-48EB-B2B9-154100B323C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315000-BD88-4CC4-8F34-51199D2DCB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the player needs to know and how it can be presen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game’s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audio and visual eleme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e input devices affect the 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C4921-3CAA-47B2-8141-CA5900AED7E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FABACC-543D-49AB-ABF4-9192422078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options that can help to control a game’s complexit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five well-known interaction model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camera models and discuss their advantages and disadvant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how visual elements supply information a player needs to know to succeed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4623B-3334-4512-9771-CB9795A089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F27C9B-871D-45DE-B554-F2D01C704E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udio elements such as sound effects and music affect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types of one-, two-, and three-dimensional input devices and discuss how they affect the game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navigation systems and explain how each system controls action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102F0-B9DB-457C-9727-67B9B54AA3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15EF0D-5D0F-459A-A1A3-E31D7B41C4A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the User Experienc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is often called the presentation 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experience must be entertain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utputs = Visual + audio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puts = Contro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81DF3-936E-4DFE-B481-A84C7B7985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06374D-87A7-4D3F-9CCA-C6DF7390A0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prefer to use a familiar UI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 principles of interface design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good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eizing control from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mit the number of steps required to do th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ppropriate, permit player to rever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mize physical stress; provide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lated info together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9D440-2806-4A46-9B1C-868B0079E4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AE46ED-6BC8-487B-9D54-8720E680A6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he succeeding or failing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he doing now and what should he do nex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fer actions the player can perfor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 with NPC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or s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46815-E974-4A74-8CE6-2A0F7537BE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1E5EDA-4E3E-4376-830D-9CBB76CF34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gameplay modes you’ll n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primary gameplay mode first, then move on to oth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 think about the visual elements and controls that will be needed for each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a different user interface for each gamepla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ach mode, design a screen layout, select visual elements, and define inp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 UI in PowerPoint or Fla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8AE83-6070-4A24-9D3E-BE3B2FE477A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35ABC0-C923-41B6-84B1-B9CEADD22A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creen layo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will be the largest visual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a balance between the amount of screen space devoted to the main view and amount for feedback elements and onscreen contro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45343-C52D-4FCE-893A-38183994674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02FDB0-F77C-409A-A4DC-6F91BD7C3B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9T18:15:45Z</dcterms:modified>
  <cp:revision>183</cp:revision>
  <dc:subject/>
  <dc:title>Fundamentals of Game Design, 2nd Edition - Ch 8</dc:title>
</cp:coreProperties>
</file>