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77BA-14BF-4F49-A506-E6810D463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B925-FE7D-43FB-AAFC-48A3F3BA501F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6A2F-5275-4226-96F6-8ABB5DB8376A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3A4A2-F177-4306-8BDC-E9B38138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1C85F-160C-4108-9512-1BD49D6C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BCBD8-662E-454F-B1AC-BE18B75A6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9FFC6-3D83-458B-9FCA-F48F17E4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A0BB-0C3C-4570-A271-F21AEF2D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4981-4A8C-45E2-A958-54E1771D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95DC-F3E4-42E8-AD59-EBCE11FA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2A0F-8699-42A3-9712-50FADAA3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5A19-365F-47EF-975D-CC9405D8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0DB3-D404-4ADB-B886-9E402C9D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C0AF-2024-4041-ADEC-57EA3A6C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E7D8B-8CC7-42F2-996B-90A2A13F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620D-ADD9-489A-91E0-8FDF8EEF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5442-B56C-47D8-B3A2-3007A871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A2B5-F9B7-435E-9281-EB846DB0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1F8A-3C1B-4E8B-8BA4-69BC7FE1F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92FA-8DA7-4FC6-9872-83EAC54BE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881B3-6C09-4C4D-B97E-CF82E54B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4EC5B-B106-4797-87B6-DD1EDB1C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A2D6D-1797-42BC-AD79-F1E19575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8CB44-2B41-4D1F-8DBB-99353B9B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5F128-74D7-4D2A-AA15-6FF4D573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CAF3D-4713-43DF-9E89-60240982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57DAC-0DA6-451C-92CF-F072D7B1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375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0  Artificial Life and Puzzl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F9A7-3B84-403F-9D69-DF766F3C249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1E2A-EB2B-49AB-AE31-4F3256DD345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6AB3-CA60-496D-8D03-85A62172FF0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0: Artificial Life and Puzzl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a god with limited powers who gets more power from simulated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mnipresent interaction model and an aerial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often share qualities with CMS (indirect control of population) and real-time strategy (compete directly against a rival god)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55493-B18B-42FA-90BF-17A7EDFBDFF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610487-CF77-40F3-9EFA-C725F6113F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conomy of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’s power (mana) grows with the number and prosperity of his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ze of the population influences the maximum amount of mana the player may have and the rate at which mana is restored when it is below maximu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sitive feedback can be limited in various way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ople do not reproduce instantaneous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king land suitable for population growth costs man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a cost of using higher-level powers rises exponential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77A62-DF34-4A3F-B0B5-1F8705D1CE6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367078-9DBA-45D1-B331-E57DE5C476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n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mary challenge is to produce population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 must also damage the other god’s worshippers and repair the damage the rival god does to the player’s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design a god game, start with the question of what powers you would like the go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d game needs a lot of interesting animations for the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67D46-92D5-40DA-9EDA-33570C2D805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AC5CDF-E5B8-4B11-A01A-48DAE98653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about managing a population over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tries to achieve goals for the whol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concentrate too much on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 geno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enome defines the creatures’ inheritable characteristics such as eye color, hair color, height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eles are traits inherited from each pa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f parents have different traits, usually one win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rown eye allele dominates blue eye alle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A3683-E0D0-4210-95D7-924F2D3BDAC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99869F-0B05-4444-BDDF-7709B88A11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nge to the gene caused by an environmental fact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tations may benefit the population by introducing random new values into the gene po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fe span, maturity, and natural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creature needs a natural life spa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evolve through natural selection, creatures must have a time of immaturity before they can reprodu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enetic mutations that cause death in children do not get passed on because children do not reprodu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6A6A1-E521-4373-8A06-7D12101E561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FB55CB-CC25-4F27-B355-8E5AD2CE0D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does the player do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new individuals and add them to the population to see how their genes influence th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d and remove environmental hazards that would weed out certain ge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with the rate and nature of mutation by adding or modifying mutagenic objects or areas of the environm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te individuals to select for particular character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7CCEC-A6B8-4715-A33B-8F50521838C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5404EB-838B-4420-B62E-5C51B46C10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uzzle games, puzzle solving is the primar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s usually provide related challenges, variations on a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types of puzzles offered include pattern recognition, logic, or understanding a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zzles give the player clues that have to be solved to meet the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AA606-F05A-45E7-8573-63C8E5F3973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E0E430-2161-4D37-8CF3-4564197FA5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inspi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construction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he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ise a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y attention to pres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59876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ott Kim’s eight steps in puzzle game design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055CA-E168-4506-B7C5-B96F5A2BD5D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7FC0F5-9E18-4B21-8365-AC4CD54711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at computers bring to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nonphysical or awkward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omputation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forc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player moves and undo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ucture the exper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bells and whis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onlin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3B304-3983-43F3-8309-B3D610BD384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57CE6D-0B0E-4514-AF7A-57A2DAA25E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ecking the victory cond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 to the solution might be different than you plan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eck the solution, not the way it was reach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CCF1E-1223-4AB9-BEAB-C056BAF345E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3F52A8-2862-4DE0-A6F4-05BDE13A21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forms of artificial life games and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basic artificial life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steps to designing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player’s needs for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267AC-D4D2-4D96-865C-CB46507531C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898CF1-7775-49CC-A025-A4B2231BAD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rtificial life game and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basic artificial life sys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steps to designing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player’s needs for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12095-BD09-4B98-8B15-E5D856BC779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D35EA4-8819-4E6A-A1CC-7445D6B6CA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life is a branch of computer science re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nvolves modeling biological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s the study of emergent properti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unanticipated qualities or behaviors that arise out of the interactions of complex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-life games typically focus on maintaining and growing a manageable population of organis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5BFA9-056C-4525-895B-9DEA97D98E5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3EC328-0494-4938-9777-BFB0C23012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simulations or fantasy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cute; seldom reproduce or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ncentrates on training, maintenance, and watching the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needs a lot of AI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ety of triggers and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w the pet's emotions through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4CE2A-2174-4335-ADAE-16990E3EA47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39059C-4A83-43D2-9B54-D4A5507FA6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fluences pet's emotions through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should interact meaningfully with other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must be able to lea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 AI distinguishes artificial pets from other A-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pet is a software to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A0729-8E37-4514-81D3-363202FBA13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A06A8F-91E1-4D02-8CC3-9883CE9872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sims physically and indirectly affects their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sim has a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ss between an artificial pet and a C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has an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71A3E-28C0-4F17-B2A3-9B25212FF3D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F00CBD-B2F4-4032-9A9C-0B80EE8AC3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im has six needs that must be met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s drive the sims'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-based AI is the heart of most simple behavior simul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(in the first edition) have six skills they can impro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teach themselves skil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management is critic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B1A6B-9621-4CC7-B6D1-AE3571F8A73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96D4FE-E8AF-462B-BF9A-9133480B4E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 tries to simulate relationships among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ables define each sim's personality and how they react to each oth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ccess of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based on the unprecedented scope for creativity it offers and its emphasis on interpersonal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4DE6A-0B47-438B-A79E-BBBDFD088D5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D8D77A-E16A-4E79-AE56-D0C47F45E4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ing affinity between two characte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I Can’t Stand” Rule – A character cannot stand another character who has an attribute above a certain thresho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rds of a Feather” Rule – Characters with high levels of one attribute are attracted to others with a high level of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posite Attract” Rule – Characters with high levels of one attribute are attracted to others with a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lue for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8BAB4-8C7F-45F2-9611-CD97A3D04D2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319265-72B8-40A2-AFBE-942ACA06A1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3:24:51Z</dcterms:modified>
  <cp:revision>528</cp:revision>
  <dc:subject/>
  <dc:title>Fundamentals of Game Design, 2nd Edition - Ch 20</dc:title>
</cp:coreProperties>
</file>