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39901-4DA9-4593-9B31-EAF3C7DE80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A25AC-71C3-472E-82E2-021CE3E5DB7B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87792-7BF7-4EAF-9F12-CC2A3A719966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B4E665-04F7-43EE-8F70-1211D4044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B55AAB-D19E-4C3D-BA96-25ED88634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E60104-47EE-48FE-B039-DA43528FD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E2405B-AE8B-4EC0-9B91-F73A48C7E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94E33-56EB-4BD2-AC0E-EF09B14F1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95F41-1A07-4830-AD61-0E3FA7CAD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45AD7-F63D-4163-8E92-25E3AFFC7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DC7D2-3611-4971-80C7-CDF504786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BF251-8C25-4AC3-B963-51F8DF660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0868E-5DF2-4D42-8F02-D159B59A2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22FA5-5B9F-4C59-8745-3C123FC87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130B24-4BED-42EC-847B-92A4FADDC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87399-74D1-4970-8DE4-79F4A01D5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1F371-5BB3-4CA6-A36D-A33D283C8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A2664-8FD5-49B7-B669-D090124B6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4AAF4-2DCE-4025-A9A7-4945D96A1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51077-25C3-44A8-8034-09C1D5E16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538C84-C208-4942-AED5-34E8DC398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596FC9-18EB-4600-BD84-0BA31DD8D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1457FA-4A34-41ED-9054-528C7B223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91ECD0-C8E9-43EC-91BF-E6EDE761D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B8840F-79B0-4C35-ACBE-C169FF478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19606B-6088-4BD4-B87C-0552B42FC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83A860-0A7F-4210-B55C-2BBD87B4E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02120" y="6248520"/>
            <a:ext cx="2852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16 Sports Ga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C7623-DBD3-4E0F-BE2C-DEBBEEB51C45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5140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1C0A5-9439-4F2A-9C63-44D43D7C45D8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D17A4-0CFB-4C95-82C4-4A9EC9C3DF79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TextBox 12290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16: Sports Games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480060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Opportunities for creative pl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eam creation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players create their own team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rategy design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players can create their own strateg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ing field design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players can edit the shape of the playing field if sport allows this op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084020-38D4-407B-9F19-4EDE739BAD68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9B888FC-7E5E-4831-B9FE-5E99FD42691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venting a sport is a risky option that is hard to sel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Weathe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eather can invoke special ru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eather affects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stant replay is an essential featu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clude all usual video forward/reverse featur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low player to move camera aroun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low locking the camera to an athlete or the bal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7733E6-A6CC-4ACC-85B8-9B223390D68E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C99C65B-A2FB-4238-9500-ACC8E49774F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hysics for sports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hysics engine determines the behavior of moving bodies in the match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hysics should not be perfectly realistic becaus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 does not have precise contro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 is not a professional athlet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65A11C-53F6-4EF2-91F4-1EF23FBC1E5E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8B972AB-E7F4-4E70-B071-4A0D81ECFD1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ating the athlet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veloping ratings is a big task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atings provide data for the physics engine to simulate the athletes accuratel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mon ratings are provided for all athletes—speed, agility, weight, etc.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pecialized ratings apply to specific positions—passing strength, passing accuracy, etc.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5052C0-B343-4272-B8A6-8FBEFBA46933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2764990-296D-4B63-BC91-23C42DCB202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thlete AI desig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fine the state spa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 in a match is broken into states defined by rules and strategy (e.g., fly ball, foul ball, grounder, strikeout)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reate a flowchart to map the game’s stat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t collective and individual goals in each stat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dividual goals are what each athlete tries to achieve in the course of playing his posi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ollective goal is what the team is trying to achieve as a whole; the collective goal determines individual goal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396B0A-C873-4F67-950C-729786BD25FA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77D17CB-FBED-4003-B9BD-E3DE83D96EA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juri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juries introduce some chan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low players to turn off injur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rcade mode versus simulation mod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rcade mode increases action and decreases realism; produces higher scor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imulation mode increases realism but probably decreases ac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F502F4-B72D-4898-8F95-B11F9052E613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9C46B3F-A572-464B-9BB7-F288BCCCB66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mulating matches automaticall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puter plays out matches and records resul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o fake results quickly, roll dice to generate game scor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cores must be restricted to a credible rang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oesn’t generate other statistic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lowing a home field advantage is not recommend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9508BA-A95D-4234-AE70-71154B80683F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9CDFFEC-7880-4247-9C15-FD680F3F67D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Game World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tt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ccurate copies of real stadiums and arena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eather significantly affects games played outdoo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owd noises contribute to sett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9823C1-E81B-4915-870E-69811B8713E4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6C75136-F170-48A3-9D94-C81C46FEDA6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Game World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icenses, trademarks, and publicity righ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eam and league trademark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 America, the league holds the license to use the team and league names, logos, uniform designs, etc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 variety of governing bodies manage individual spor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vents are owned by the organization producing them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tadiums are now asserting trademark rights too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ersonal publicity rights owned by the athlete or an organization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E95815-936A-447B-9C57-C8539749ABA0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B280F00-BF13-4F36-9353-F528019E5A1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Game World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udio commentar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eeded to feel like you’re watching the match on televis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-by-play and color commentar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ote the events that should trigger a specific comm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B169C2-ADAF-4ADF-954C-60E12871429A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7044435-D30F-4363-A7F8-F317068AC7D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Shape 1331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EB53C-9509-4DCA-B157-6D60834FFD09}" type="slidenum">
              <a:rPr b="0" lang="en-US" sz="1200" spc="-1" strike="noStrike">
                <a:solidFill>
                  <a:srgbClr val="3366cc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Courier New"/>
                <a:ea typeface="Times New Roman"/>
              </a:rPr>
              <a:t>Know the definition of athletic sports games and be familiar with the types of challenges that these types of sports games offe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Courier New"/>
                <a:ea typeface="Times New Roman"/>
              </a:rPr>
              <a:t>Understand the challenges of meeting players’ expectations about a real-world game in a video game implementat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282BB7-63B4-4951-94BB-C604FF449592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C0FC923-90EC-4ADA-AEFC-0F815BB9DA0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resentation Layer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teraction mod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usually controls an avata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hich athlete is being controlled can change as the play progresses (in team sports)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amera model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on’t use first-person; players watch the athlet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verhead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i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dividual spor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nd view or side view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t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am spor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icture-in-pictur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sports with more than one focal point, e.g. baseball or cricke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02B421-7B31-4A47-8AA7-22D3FB581C64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FAD45E8-D061-4465-A0FB-A5B78280870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resentation Layer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er interface desig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put Devi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otion-sensitive (e.g. Wii controller) best for spor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 team games, let the player press a button to switch control to the most appropriate defending athlete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isplay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User interface can change every second, depending on conditions in the match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ach state requires a set of option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ark the controlled athlete with a lab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Use overlays rather than pull-down menu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48C1D5-20C5-4921-A22D-A0EF5F7629C7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9505269-6065-4E5E-943B-72C4B688B82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identify a sports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cribe the player’s expectations for a sports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adapt a sport for a video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rate play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flowchart states in a match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license teams and play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create a user interface for a sports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7EC50B-7A0E-4DAB-8C01-BCF8F68FBD83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A5FA6F7-1504-4FF2-AEBD-161F8A51DB3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Shape 1433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2B3C5-D946-48FD-BB44-3C3AAFF4ABF7}" type="slidenum">
              <a:rPr b="0" lang="en-US" sz="1200" spc="-1" strike="noStrike">
                <a:solidFill>
                  <a:srgbClr val="3366cc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Courier New"/>
                <a:ea typeface="Times New Roman"/>
              </a:rPr>
              <a:t>Know the basics of adapting a physical sports game mechanic to a virtual worl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Courier New"/>
                <a:ea typeface="Times New Roman"/>
              </a:rPr>
              <a:t>Understand the design complexities for physics, AI, and player skill ratings required for a sports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Courier New"/>
                <a:ea typeface="Times New Roman"/>
              </a:rPr>
              <a:t>Use flowcharting to help define AI states within a sports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8DFC7F-0F7E-41C6-9B33-E7232B609914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9629E75-F2E8-4FE9-A9FA-EFCD84527E4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Shape 15360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47F3E-C455-48A6-A213-B57AB5D0AF7C}" type="slidenum">
              <a:rPr b="0" lang="en-US" sz="1200" spc="-1" strike="noStrike">
                <a:solidFill>
                  <a:srgbClr val="3366cc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Courier New"/>
                <a:ea typeface="Times New Roman"/>
              </a:rPr>
              <a:t>Know the issues involved in licensing sports organizations, teams, and players, including the use of names and imag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Courier New"/>
                <a:ea typeface="Times New Roman"/>
              </a:rPr>
              <a:t>Understand mapping known physical game play mechanics to computer-human interface devic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397AF6-DA89-4388-888C-667CD82696B6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CA6960F-E338-4321-852D-95C41D1F61A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Are Sports Games?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sports game simulates some aspect of a real or imaginary athletic sport, whether it is playing in matches, managing a team or career, or both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atch play makes use of physical and strategic challen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management challenges are chiefly economic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26D020-C9B5-4547-B6CE-9597C5ACA6F7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819C2FE-714C-4F7E-B793-A56558A4860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ame structu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in gameplay mode is match pl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utside of match play, game’s modes relate to other aspects of the spor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ause the game for coaching task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er rol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thlete is most common rol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p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ayer follows the action rather than a single athlete in team spor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may also take role of coach or manag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8F3255-E820-4CBD-A9DC-05F0B0A589CD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8AF0591-62D6-4EC3-B2AA-657F2B05D88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ameplay and rul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allenges and actions match the spor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thlete—Physical challeng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oach—Strategic challeng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ules might have to be relaxed because controlling athletes onscreen does not correspond exactly to real-life sports experien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eed to decide what to do about athlete mistakes outside of player contro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llow players to set referee paramete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BE3FD4-06CC-46EA-B851-5AB97F49C161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3045407-F4D3-4D93-B04F-5822FCDF5D3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mpetition mod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l competition modes are allow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ports games are more popular on consoles to permit multiplayer competi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ne mode should include computer versus itself so players can watch a match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B12554-6215-4E56-B809-B0A41414D4D2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FEE0AE4-6366-41E4-BAC5-E626ED8E8FE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Victory and loss condi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tch real sport’s victory and loss condi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d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eason mod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xhibition mod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udden death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ound robi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ournament mod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ranchise mod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89961F-6E09-4772-BFD8-432C636A82FD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42CC7B0-04F9-4ACA-ADC0-3401A2683B2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8T13:43:47Z</dcterms:modified>
  <cp:revision>327</cp:revision>
  <dc:subject/>
  <dc:title>Fundamentals of Game Design, 2nd Edition - Ch 16</dc:title>
</cp:coreProperties>
</file>