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33B7F-D0B4-45A5-873F-C7363DC92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B211D-0CEF-4459-9549-C43043BD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882FA-2EDD-4251-8233-9D76BE7A1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0B896-EE64-42D9-A882-677D9AF12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EE31-84DF-4438-983C-E0E26B0E1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3B4B-C756-4C7A-97A2-0270F06B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6432-CFBB-4708-9A5E-ADDD0E5F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2962-F3A7-4054-964F-8E1EA0B8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3AF2-89B6-48FE-BFC2-7488E67C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E86B-961B-4422-9BF9-EFD17DAD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B275-3D84-44C4-8D99-EF00B01A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AF81A-DA74-4FFF-8B20-F7062E1C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21D2-C469-4890-86DD-2E506F78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01FD-8417-429E-82E0-D835601A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B946-8AB4-4599-B818-8F806C7F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2F20-6310-4775-A94B-C1985DEC9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A458-C141-4BBB-89C6-5B21CA6B8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F7E46-947C-4A73-A437-F7C7A707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50889-25CC-4930-96DF-D72424FB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8CB3B-CBD0-4F76-BCF9-FDD8AD17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061F7-D58F-4E0F-A12C-AD9BD018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22FDE-DAD0-40D3-A3FE-D7BC69D7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F90BA-6C03-4354-B191-5992F369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066A8-C416-4C16-B075-37DD7022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5 Role-Playing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3419-50EB-4E0D-BAF1-7B46CE1093D9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C078-DA01-42D9-9648-4FD00F40D901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360E-4B86-42C6-A116-1FC630A97820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5: Role-Playing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and comba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tions include setting a destination, designating an NPC to attack, and using special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vers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u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s dialog tr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d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y and sell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vento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ge carrie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28186-7EDE-49D5-818E-91E86994342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FE65C6-CFA6-41CB-998A-19F3729FBA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olling di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k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w the probabilities to get the result you w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termine general abilities and qualities; change infrequent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x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cla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, mental, moral, and social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D2518-C276-4B64-B013-46CEBBD7BF2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A8C436-0C32-44C3-9428-24E88A1C01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, experience,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ributes that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points and character level  measure the character’s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smetic attributes add richness to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DFCB1-90CE-4226-86DD-3D8C00DA9FE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E676DD-4D28-41E6-84AF-8A7000C8F3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gic and its equival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 that allows characters to influence the world by means not available to us in real lif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ience fiction implements magic as “advanced technology”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of magic restricted by character cla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magic, how it’s invoked, how it’s 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often spend magic points,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n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ana system is more convenient and flexible than the D&amp;D “memorization” syst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F788B-816D-4500-943C-D4A693CF9F7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EBD577-F08F-49C8-9270-28EC81AA67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kills and special capabi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taining new skills for a character is similar to upgrading a unit in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trees provide a growth path similar to a tech tree in wa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RPGs allow the player to create the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l dice to generate points to distribute among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FCBEB-980A-4260-9EAA-D06A84EA7DC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1B7BF8-1C3C-4311-9C3C-07887B12A2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nd to be fantasy and science fiction sett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appealing to explo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RPGs provide an editor to enable players to create scripted adventure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ACA97-5DC7-4CDD-8D88-A0F7309ED87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A1455D-2723-4C0D-9B27-21D3409947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, determine the game’s overall ques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, design the episodes that the player experiences from the beginning to the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e an enticing ope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67FAD-E562-4FE9-814E-D011A760C9D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E1CA8F-5911-4977-A66C-5CE04A1FF7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 in single-player CRP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-based is becoming more common, howe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 in multiplaye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person or third person for avatar-based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allows player to see all members of the party at once as well as surrounding ter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944B5-1D4F-4392-B402-83B1EB0456E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9C832B-5165-47DC-A06B-884B867DCB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de range of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terface can be complex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de the mechanics to aid the player’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ve task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nstead of making the player try repeatedly, automate the repetition and sho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progress b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character has low skill at the task, it will take a long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the player to interrupt and abandon the attemp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96D60-B736-45F4-B3FE-13DE253A5BC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8D4ABA-AD21-4CFA-83DB-F77E3070CF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role-playing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evelopment of the role-playing game from tabletop to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a world and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xperience points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gameplay modes for 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05388-9C04-42AD-997D-EC89D0A244A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6E3243-7AF3-42D7-9923-4D43A60DEB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role-playing games and the game mechanics common to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history and evolution of role-playing games from tabletop to comput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character attributes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01777-0761-4DA6-AFD0-7E9E443B775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B45653-08E2-4E72-AF76-B6DA70E938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world and setting suitable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use of experience points and character level for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gameplay modes within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A1CB7-D3D2-4F01-B617-B6744B509AE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11F51E-7B04-4663-AB39-F13725C572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ver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jective is to experience a series of adventures in an imaginary world, through an avatar or a small group of characters whose skills and powers grow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sential parts are the quest or story and character growt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ctory consists of completing th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just enjoy exploring and interacting, even without trying to w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1D30B-B0FB-46B2-A0ED-2F81CCED11A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C7C0C5-D7EB-4D50-83A8-8ADE0558A0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types of challeng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gistics (managing supplie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grow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sol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8D539-518B-45D1-84FB-62056BE0769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363346-CEC1-46F3-BC0B-B1E8D47CF1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war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include combat governed by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ll group of characters who exhibit growth; no factories to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r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ge group of identical units; factories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B012B-6710-446E-BA3B-EC650E0B17B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713AD4-9FE3-4107-9A28-1E7A37833D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 becoming more common in hybri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such as buying and selling as well as conversations with other charac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zzles more sophisticated than in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are rar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470A3-AE5B-45FD-99CD-179241801F1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68B2FC-E355-45E7-8C17-0D77F4C760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br>
              <a:rPr sz="4200"/>
            </a:b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have rich storylines, highly detailed characters, and 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-defined character; characters defined by numeric attributes that improve over time; complex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tar provided by the game; concentrate on a single character; puzzle challenges; no numeric attributes; personal growth; simple internal economy (or none at all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2FF7F-99D1-41B7-AF35-4E7C362B0A8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A008E3-FC0F-4F9A-A71C-EC3C304BB2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and combat make up a big part of most CRP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ing the world is an overused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find an alternativ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ng quest broken into epis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 challenge at the end of each epis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tional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D5E3A-0E17-4E45-A82B-83A61BDA13F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7CC555-A56D-4E35-BC74-19EDF42340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9:38:35Z</dcterms:modified>
  <cp:revision>280</cp:revision>
  <dc:subject/>
  <dc:title>Fundamentals of Game Design, 2nd Edition - Ch 15</dc:title>
</cp:coreProperties>
</file>