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4B955-2C13-4B0E-90A8-6F63124609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3BC6D-9561-49F8-837B-82559709A271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hap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825B5-AA36-41CC-94FF-78B2B188BE20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53D6C-6753-4C73-AB4D-27C97B323D43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50985-BC89-4817-8E74-A227A0D9FCF2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6802A-6323-40B4-9918-E5994A45C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5FAF9-F3D7-41C7-8ED8-AE4E0B86D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35333-4336-423B-857C-EAEBC76A6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15F8D-E953-4E6D-8DA9-AADC76895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36959-CE67-4059-B98F-08BE0FDC8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D6536-3C13-4038-959A-15766275E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E6F49-5049-40B5-B75A-AD89A81EC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486CB-47F2-4F8E-97E1-D9E02D50E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314E6-457E-4959-AB82-C4697FD7C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C80FF-E75E-4D21-9D6F-0E88BF4A8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3D6CB-2920-4062-BB92-4DE32E22C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55F45-408A-43F0-BA1A-8D7A3D163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E129F-9E1F-4E67-A2EC-550F2EA0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2D73E-AC33-485C-9369-A4F5CD68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1B9F2-6EE8-4144-9369-AC9689336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BBB7B-C458-4A90-A63B-602DE6409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B8E03-1986-4E83-907B-7A6524C82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AFF23-00E0-4323-847C-6090846D8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F0B17-C2AA-4508-8AC6-6074E66A0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1B186-FBC9-478D-B38C-C2EF0B78C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2E1CD-A5C8-4B75-9984-7BF18BB81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8E8D0-BACF-461D-88A0-B403EF042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F2AFE-B4A3-4703-A49D-E2CBCCB1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A36E8-97F7-4C22-855A-8ED8D1980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984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9 Adventure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09FFD-C6A4-4C72-BE9A-5ADA0EEC5700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00BE0-CB7A-4E93-A95B-CBA576DFE078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1B944-BF22-4F6F-AE00-D5F8A64DA962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9: Adventure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rd-person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Keeps the avatar in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mon in action-adventure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est games allow the player to move the camer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D5BF4-E259-4867-9574-30BB3610DE4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7230B35-2D9A-4777-A184-6B8BB4381FF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ro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le of the player comes from the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dventure games treat the story as a journe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ruc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 a relationship between locations in the world and parts of the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 became more linear in action-adven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E3DF6-8031-49FA-B5F7-B099B304CAD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EA70051-398F-4F2C-8513-B4E38D6B767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matic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rises from an unresolved situation or probl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create dramatic tension, start by presenting the probl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resolution of dramatic tension occurs at the dramatic climax, usually near the end of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dventure games can have several different dramatic climaxes for intermediate problems until the final climax solves the final problem and ends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D9F18-D38C-44B2-986D-E5E72FD1133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D894F88-4FA2-4C19-89FE-50356C27B47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heroic que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majority of adventure games are heroic quests: a mission by an individual to accomplish a great fea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iggest climax should be the last major climax in the game because anything that follows seems irreleva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uld be periods of quiet to rest and he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C56F0-1D76-4616-908C-DF6408E2150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5C748A6-454E-4F92-8B74-A87244FEED5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roblem of dea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most genres (RPGs, combat flight simulators) death is accepted and players know what is likely to cause 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adventure games it is less cle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st adventure games adopt a fair warning approach, making it clear when something is dangerous and usually offering a way to neutralize the dang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an autosave feature to save the game at intervals so the player can restore it la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C1DAB-A108-4C42-9B02-533A0B6874C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DC56741-5AF5-47E9-8EE1-775501CC7A5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Shape 26630"/>
          <p:cNvSpPr/>
          <p:nvPr/>
        </p:nvSpPr>
        <p:spPr>
          <a:xfrm>
            <a:off x="457200" y="3546360"/>
            <a:ext cx="4038480" cy="27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nding keys to locked door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guring out mysterious machin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btaining inaccessible object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anipulating people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Navigating maz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4" name="Shape 26631"/>
          <p:cNvSpPr/>
          <p:nvPr/>
        </p:nvSpPr>
        <p:spPr>
          <a:xfrm>
            <a:off x="4648320" y="3546360"/>
            <a:ext cx="4038480" cy="27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ecoding cryptic messag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olving memorization puzzl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llecting thing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oing detective work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nderstanding social problem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5" name="Rectangle 26632"/>
          <p:cNvSpPr/>
          <p:nvPr/>
        </p:nvSpPr>
        <p:spPr>
          <a:xfrm>
            <a:off x="457200" y="160020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ity of challenges are conceptual: puzzles that can only be solved by lateral thinking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s include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39D75-2AA3-424C-90D4-43989EEFC0FC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7EE7E4D-EDC2-4A60-8830-5718AE64428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versations with nonplayer characters (NPCs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 NPC’s conversation is defined by the NPC’s role, such as blacksmith or trad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games try to sidestep the problem of conversation by setting games in underpopulated worl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cripted conversations became standar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C9A92-C7CB-4D34-9C6B-D950EF43431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A33C15F-5098-4D06-BDCF-124B594037F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pp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aphics provide cues to location and how that location relates to other areas in th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utomappin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m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p fills in as the player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an see the map at any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 compass as well if appropri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utomatic journal keeping is comm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03ACE-7F66-44DC-8461-05D3FA293A4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F5FDACF-C343-4EC4-B70C-161DEDB7002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few things to avoi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s solvable only by trial and err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ceptual non sequitu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llogical sp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s requiring outside knowled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lick-the-right-pixel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o many backward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o many FedEx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17EAA-833C-4EB7-9082-D343097AAE5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31342B0-24B0-4D77-B26C-25649614F16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atar move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ement interface depends on the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perspective uses point-and-click or direct control user interf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oint-and-click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i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direct contr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rect control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ayer steers the avat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 both walk and run mo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5736B-2F92-4E81-99E2-54BC4D69C56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2C64206-E96F-4F1B-A798-A884672D159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an adventure game and the common game features of the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importance of character and story in the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different interaction models and perspectives common to adventur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to use puzzles and inventory in designing an adventur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0566A-3E66-43A1-8DCE-B0CB90D6901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494F69A-6D83-473B-A3ED-C87F66C85D8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ipulating objec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dentifying active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unt and click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rmanently highlighted objec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ynamically highlighted objec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cus-of-attention highlight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FF217-4404-42F1-B5E6-78A89862FF6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3A0AD63-2034-4A77-9375-59846DB484F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ipulating objec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-button action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troller button or mouse click correctly manipulates the obj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nu-driven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nu gives player the available choi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can right-click an object to see a pop-up menu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BF5E0-C832-4340-94D2-A703B84E880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C8DAD7A-9551-4DD2-B120-88E2A4C2507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ipulating objec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aging inven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st games limit the amount that can be carri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isible inventory mechanism like a backpack or box is comm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ke inventory management eas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pen and close inventory with a single click or shortcut ke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46640-C5EA-48AC-AA15-9920E3A218B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52EA643-DA96-474A-B910-179A0CD984E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 adventur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xplain the importance of character and story in the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different interaction models and perspectives common to adventur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puzzles and inventory in designing an adventur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6788D-7E43-49ED-87AA-5F4B7ED96AC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00B9F10-4D49-4F2F-A882-5985D170CB4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Adventure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ve story about a protagoni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 and exploration are essential el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zzle-solving and conceptual challenges form the majority of the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bat, economic management, and action challenges are reduced or nonexis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0D3C9-C287-420B-8AC3-392885DEB4A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B77A017-E5D4-439E-AE0E-7F186BC2599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Adventure Games?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original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Adven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Adventur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was a text-only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 computer game to give the player a credible illusion of freedo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 computer game that spoke to players like a person rather than a mach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A61F2-F077-40D1-BDE9-1FECBD3BF16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4D3A443-E743-46D2-A333-7E77AECF7CE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Adventure Games?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growth of adventur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ry popular in the early days of personal compu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aving no graphics made games inexpensive to develop and allowed scope for imagin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elopers added graphics when the technology became availab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DB396-AAB9-4A4E-966B-B1056D3C040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1F2984C-CE75-40F8-A1D9-6AA317C967E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Adventure Games?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venture games tod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rket for adventure games has grown less steadily than the market for other gen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elopment of 3D hardware improved graphics in adventur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-adventure games develop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s hybrid is now more popular than action or adventu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ternative solutions improves replayabi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players never complet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7F638-75CB-43AE-84ED-73A0EBF2A03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FE98DDF-AD48-4118-A6D7-B81129DA116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 and emotional ton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ting contributes more to the entertainment value of an adventure game than settings in any other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move slowly, which gives designers the chance to create a world with a distinct emotional t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F4430-74C2-46ED-BAE1-D4F5F20CDA8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83B6C75-1AF4-41A9-BC8B-876F04712BA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ways uses an avatar-based interaction mod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rly games used nonspecific avatar, but now avatar possesses his own person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approach is tradition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rd- and first-person games are becoming increasingly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4E938-74C2-4ACD-8508-D3D0A25A2C2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C923AF4-05E5-40E8-A037-729076E38E3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model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atar is shown from the camera angle most appropriate for her current location in the game worl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ts the designer play cinematographer, using camera angles, composition, and lighting to enhance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-person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ncourages a more action-oriented approach to play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ewer opportunities for visual dram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DA71A-6B04-4059-87A0-28AE426E1AE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A3B20B5-77E5-4A7F-AA20-A26E54034B3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9:40:29Z</dcterms:modified>
  <cp:revision>423</cp:revision>
  <dc:subject/>
  <dc:title>Fundamentals of Game Design, 2nd Edition - Ch 19</dc:title>
</cp:coreProperties>
</file>