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0DE6-8A3F-4C55-8CC6-956715EB2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ities resemble data structures in programming, but designers should not concern themselves with coding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C24A1-337E-46C9-A53C-39D146DBF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CBB24-2708-49BA-B386-6C05810A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4602F-7161-4A8B-B712-CB3177967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4A439-1B27-4C00-8817-99EAC4484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7A55-F968-4F96-8662-A52E7D054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CAB9-8997-490F-8DBB-95CA5E34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EDDE-88C3-4C7B-8737-B54B5DA2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E4C3-F3E2-4FC5-848D-F0C0C48C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EB9C-B164-4100-9552-C03FE50A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AD33-3525-4C4A-87D4-FC6D5F6E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7AC3-12F4-4043-A0DF-D7052F79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22EEC-9473-4F45-9CC4-1B69CAE2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4E71-3763-485A-8E94-5C4E520D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3DB3-CDD4-4877-B626-7AF42EEC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EB86-A20B-4AF5-95D8-6E7CD3A2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462C-87CD-46D8-A3EB-EB0F1C183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A134-332F-4E41-ADD4-DC23BC218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D93FF-BD34-4E8F-B727-F2DB357D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CCF5E-4D19-41CE-81A9-F44799B2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633EF-6745-4032-B640-5F48E2B5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4D05F-B2EF-4C32-98A3-1E1D28B5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63F06-4E24-410C-9A81-C4B02339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E6B91-C76A-4E64-A40B-6ADC40E7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4120B-32BB-4ADF-BF07-1B1177AC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0 Core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16B0-0E5E-4CDE-ADE4-843250FD31DC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2256-D6FB-4636-A21C-FE78B02976BF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5DC2-0905-4E22-916C-2BD2F536E6F2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0: Core Mechanic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umeric and symbolic relationship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umeric relationship between entities is defined in terms of numbers and arithmetic opera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lues of symbolic entities can’t be added or manipulated mathematical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must define how symbolic entities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ymbolic entities can control mathematical operations on other numeric ent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F94F8-132E-42A7-9736-61CE8550231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2B6AAF-C56C-4F5D-978F-DAE0CDF9E9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tity Exam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480" y="1450800"/>
            <a:ext cx="7925040" cy="46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C77BC-981A-441B-B876-0D80882C3F3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76B463-A88B-48D3-B907-AD010E95E4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our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a mechanic that defines the way that a resource or entity comes into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Go” square in Monopoly is a source that produces money according to certain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produce resources automatically or when started by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limited or un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ACBF1-075E-4836-9593-89742093569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32FE80-A25B-49F2-903B-F0354FA0C9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remove resources from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ters turn a resource into a different type of resour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ers change the ownership of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duction mechanisms make a resource available to play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173A5-7EFF-477C-A740-8FFFA873C8F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CFED28-284D-4AB8-848A-A762690222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 can be tangible or intang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ngible resources possess physical prope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angible resources do not occupy space or require transpor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feedback loop, a production mechanism requires some of the resource that the mechanism itself produ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problem unless the system runs out of the resourc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is produces deadlo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A7C97-27DF-41ED-BDFE-7E920A10F10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1BE959-43D7-4513-B757-972746C8CD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production mechanisms that require each other’s output as inputs are mutually depend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static equilibrium, the amount of resources produced and consumed remains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ynamic equilibrium, the amount of resources produced and consumed fluctuates cycl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CAC55-1128-4E82-9A3C-72560D147DE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236D34-24CD-45E6-AC64-CB9416E223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present challenges to the player and accept actions from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implement the mechanisms to operat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perform tests to see if a challenge has been surmounte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ive challenges (such as static obstacles) do not require mechanics to ope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ve challenges require mechanics that implement their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AF819-5372-49CC-AFFF-CDD6A55F613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5A6D39-736C-4069-A619-6DC940F7F4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and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available to a player normally do not change much from level to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ions trigger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icated actions may involve manipulation or storage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his case you must create both an event mechanic that implements the action and an entity that stores the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CB89A-B5B5-4A6A-A7E2-0C95F192786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425E19-A1BF-4C56-9538-24C21300B1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s of core mechanics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simple and eleg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generalized systems from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terative refin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y to get everything perfect on pap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, test it, and refine the resul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cuss with programmers the level of detail they need in your docum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6DE8F-C9B7-4867-BCAB-028C9D1E219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BA18A22-79E8-407C-A2A8-0D7BE99551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visit earlier design work on the project to identify entities and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uns in design documents will probably be implemented as entities or resources or bo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bs are actions that will be implemented as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” and “when” statements identify conditions that trigger and contro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90151-F8EC-4820-8551-02A35EF77C4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112647-834E-4AC9-B448-E770C724A8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functions of the core mechanics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components—resources, entities, attributes, and mechanics—that define how a game wor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 game’s internal economy controls the way resources and entities are produced, consumed, and exchanged by sources, drains, converters, and trad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688AF-ED50-412A-877A-034F6444508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595C93-9E64-4879-A8DF-FF4C449688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entities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es a noun describe a resource or an entity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n entity, is the entity simple or compoun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 compound entity, what attributes describe i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36D40-FC68-4CC5-AD75-33854082396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EBA780-1E5D-44AF-8074-31CA31CA3E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 th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member that mechanics consist of relationships, events, processes, and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nk about your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udy your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lyze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for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65669-54F0-4D9F-955E-EE2F1DFEE46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D50739-C247-4AA4-9A2A-1101153964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pseudo-random numbers, a seed generates the sequence of random numbers produced by the algorith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uniform distribution, the chance of getting any number equals the chance of getting any other numb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metimes you want certain events to be rare and others to be common – for this us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non-uniform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tributions of random numb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913E1-860A-4590-9959-B06129CE7DB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4DE239-8BE4-4F99-A27D-4EAC8CF8D8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generate non-uniform random numbers, generate multiple uniform ones and add them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ing 3 six-sided dice produces non-uniform values between 3 and 18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10 and 11 are common, but 3 and 18 are very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ing nonuniform distribution creates a Gaussian cur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B6D1D-1C85-4BEF-AD49-2BAD755306E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188853-3D2C-4626-846B-B9213309C2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onte Carlo Simul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means of testing a complex mechanic to see how it performs in different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 your mechanic hundreds or thousands of times with different random values in the entities it works wi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alyze the results to see if the mechanic is performing the way you expe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ten you can do this in a spreadshe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49C88-9D1F-46CA-85F6-488CAD76439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828E74-DE87-4CFE-83F1-7BC647D181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resources, entities, and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affect game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vert your early design into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generate 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use of Monte Carlo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9D265-0946-4521-8F3D-586F188130D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7B338E3-5722-495D-9BE6-56DC00403A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the core mechanics implement both challenges and player actions to manag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design the core mechanics of a game by writing specifications to document the entities and the functioning of the mechanic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random numbers in a game, and test with Monte Carlo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A1A6A-802F-4307-8D93-9D8C5404824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6B0A62-B93B-48FE-B186-EFAA628B79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consist of algorithms and data that precisely define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ation of mechanics varies as project goes through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does not experience core mechanics direc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ame engine is the part of the software that implements the game’s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80E8C-4961-47FA-8EA4-FEE4C9C60ED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679979-7291-4D32-9834-3F42A4154A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s of the core mechanics in ope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 activ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pt player’s actions and determine their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ct victory, loss, and the termination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AI of  nonplayer character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witch the game from mode to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mit triggers to the storytelling eng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C20F8-B051-4910-9094-CC489CE4369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CC9B26-BD48-4082-AB19-E57099DBBE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games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real-time game, many mechanics are processes that operate continuous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turn-based game, mechanics compute the effects of the player’s actions after each tu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level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should specify how challenges work in general but not which challenges each level will con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DB447-ECB6-4BE0-B9B3-B08246093C0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06AC19-3FF7-4471-9F76-BC804A1FB3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resource is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yp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of object or material that can move or exchange within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ources are handled as numeric qua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define how resources are used or traded and how they enter and le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e: resources are not objects but types of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cils” are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pencil” or “these 3 pencils” ar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entiti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63113-7931-4ABC-AA12-C7366A04DF8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A5CB05-32AE-4523-98D0-58786570F3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entity is an instance of a resource or the state of some element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simple entity is defined by one dat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.g. Points scored in a basketball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ompound entity is defined by multiple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character in a role-playing game has many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unique entity occurs when the game world contains only one entity of a specific 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football in a football game is a unique entity – there is only ever one in play. It is compound because it has several attributes: position, velocity, and sp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3CB14-F924-4CFB-8D58-498A7E6BF0D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C8E881-FAC7-41ED-BD52-289AFF862D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chanics document how the game world and everything in it beha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es the relationships among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lobal mechanic operates throughout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ies the events and processes that take place among the resources and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ck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condi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at trigger events and process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EBA56-778E-45CB-8F6B-BEE93DC75D4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06981AF-86B7-4405-B3B6-449FCC2C45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8:33Z</dcterms:modified>
  <cp:revision>197</cp:revision>
  <dc:subject/>
  <dc:title>Fundamentals of Game Design, 2nd Edition - Ch 10</dc:title>
</cp:coreProperties>
</file>