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6EA3B-4B77-40D3-A239-DDA37C5DAD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orytelling engine works with the core mechanics to create the complete storylike experi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vatar’s death is usually regarded as a temporary setback rather than death in the real se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matic tension is based in the story. Gameplay tension is based in the interaction. For this reason, they are not analogo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mechanics and storytelling engine constantly intera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789ED-FAFC-430B-BA0D-00847C428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95452-1A1B-408D-9616-4601CF731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2E241-512D-4CEA-B640-8AE937519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4789D-A634-4FB7-8743-B8B572C9D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DECC0-9D6C-4A99-A846-BB4F3048D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5D7A2-6221-4CB3-A039-4E2D51443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79524-D444-4C38-880D-5A6746245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0D5AF-B373-4691-9B27-F358005D3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978D5-BBDE-4FEF-AE7F-6E2036CA4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EEF93-7B7D-432E-B244-9A96273AD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A2594-0258-4760-B6CD-3827C7C0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9721D-68BF-4D3A-B848-7DD05ABD7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E87D4-E31C-4F53-B23E-04E9DA06B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F6BCC-F5EB-4A6D-9EFD-17801C9D4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EF9F0-1162-484E-BB7F-639C1710A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58DCC-070D-4807-BA82-9F6CAC845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6ACBE-8C62-4EEB-9000-48B450112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04137-E1FC-4351-86D5-04AA87128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A56A6-3B8D-4AAF-8449-602FB3486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69A82-F575-43E9-846F-D1E8149A6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8F6ED-C84E-46F1-AD19-E5A7F8C7F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CCB07-0FF1-42CF-9BBF-9804FF2D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BA8E7-0879-4C72-94AC-67F792CD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2F858-5089-4414-86FB-C3518C41C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146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7 Storytelling and Narr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D32E6-F922-48D4-8EFB-CA03A1EED962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1EB88-6A2C-43A6-BC2C-6E96FE1F2CF3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34F5F-2FAD-427E-AD28-0F42E33DE12B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7: Storytelling and Narrative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Storytelling Engine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81000" y="1600200"/>
            <a:ext cx="7182000" cy="453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8DB97-E0D4-4D45-8F72-3380F86D8E3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CF072D0-18F4-4A85-A5E3-C3F37AC9A79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inear Stori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3301920"/>
            <a:ext cx="4038480" cy="30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require less content than nonlinear o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storytelling engine is simpl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are less prone to bugs and absurdit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are capable of greater emotional power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8320" y="3298320"/>
            <a:ext cx="4038480" cy="28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deny the player dramatic freedo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reduce the replay-value of the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160020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an’t change the story – no agency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are part of the story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s and cons of linear stories: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996AB-F319-4DB5-AE12-144735D3DA7B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418CD3B-279A-4E09-B855-283B4E5313B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ranching stories – a lot of agenc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 different experience when different choices are ma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has an immediate, deferred, or cumulative effect on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expensive and complicated to build than linear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must play repeatedly to see all the cont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848CA-893F-4752-BCC3-D5DEFB2376F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8864F83-C594-42E9-969E-0AEBC50BAA2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ldback stories – limited agenc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romise between branching and linear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ot branches, but the branches fold back into a single inevitable ev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fer players some agency without the cost and complexity of a branching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siest nonlinear story type to devise and most commercially successfu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7BC63-8809-486A-90E5-35D846D8EBA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CA4D6E3-2408-4205-A80F-F57F684FB4B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ergent narrati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telling produced entirely by player actions and in-game event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tory emerges from act of play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More agency because the sequence of events is not fixed by a story struc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ts a perhaps impossible burden on the core mechanics to produce credible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 present, no commercial games use purely emergent narra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E9797-3C96-400A-87B1-F8B6E0D44C8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6CC2E0C-E828-46C3-B6E9-3A1500B4F98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nd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multiple endings to provide an outcome that reflects the player’s dramatic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ould provide an emotionally satisfying conclu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multiple endings if each one will wrap up the story in a way consistent with player’s choices and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include them just because you can. Have a reason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530DE-78D1-4B89-A82B-A4D90341A42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A7AF01D-A056-4D2B-A664-870C8243EE1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ranulari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requency of presenting narrative to the play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arge granularity reflects less frequent narrative block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mall granularity reflects more frequent narrative block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49DFE-A8EE-42DA-9D13-37A7088AE87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D1406F2-22AF-44AF-8506-1F8276DA52F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Mechanisms for Advancing the Plot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as a series of challenges or choi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ot advances as the player meets challenges or makes cho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method of plot advanc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as a journe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riving at a location triggers plot mov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s nove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ontrols the 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ED7FD-E69F-4256-9122-A04FE338806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1CAC2A0-07DF-4FDF-831D-24411B7CFDA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Mechanisms for Advancing the Plot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as a drama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telling engine advances the plo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annot control the 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a common meth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62033-EC70-4655-8FA1-614F1F7C146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E0151C4-785A-4DE1-BF33-9F1D9E97662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Emotional Limits of Interactive Storie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needed to arouse complex emo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al limits of nonlinear sto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ternate endings might not be the most powerfu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ers often create a single ending so players experience emotionally satisfying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al limits of avatar-base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should surv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anions can di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C30F0-A73B-408C-8598-977450F7884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6DD4E63-539B-4031-81B6-BAC75281CAE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why stories are important to video games and know the definitions of story and narrative i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ces in player actions, in-game events, and narrative. Understand how to use story, character, and narrative to engage the play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A7FAB-DE77-42AF-AB40-8D576EE5F76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A8B3F77-DA1A-4147-8494-33D96F2384F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Scripted Conversations and Dialog Tree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a dialog tree to design scripted convers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ing from several possible responses injects the player’s persona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’s choices can affect the core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and character attributes can affect what happens in the dialo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E1511-412B-404F-A119-E53FA739259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EB63FEE-B126-479F-8BE4-22F36A21938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en to Write the Sto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ke a list of episodes or levels during the concept sta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rite the story during the elaboration sta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8806D-4406-4471-BBA8-CD9EB68C058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0F2B85A-4DA8-4FE2-84DD-826FC307E52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Consider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member that you are creating an interactive game, not writing a no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quels are a vital source of inco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ing episodes and delivery systems could provide more income in the fu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14D95-B9A6-46BA-B1C8-6C464337799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5A77A21-CE74-482C-BC52-E2FA31AB98B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y stories are important i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story, character, and narrative to immerse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istinguish between linear and nonlinear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foldback, nonlinear story with multiple endin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episodic storytelling to encourage player subscrip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8A627-7DBA-4B26-88DD-5CA68C8D297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9551383-BA24-468B-972E-174721A0FB9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difference between linear and nonlinear storytel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a foldback, nonlinear story with multiple ending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you can use episodic storytelling to encourage players to subscribe to additional versions of your franchis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BD49D-D4AA-4070-9104-6DC403D6AD4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B3FDAC7-6C7B-46FD-973C-C2C24B3F4C9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y Put Stories in Games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add entertain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attract a wider audie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maintain players’ interest in long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help sell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0EA32-49EF-452C-8CB4-16EA5E00DEF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06652AF-C77F-42F0-A1F6-05FE99E9BEA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y Put Stories in Games?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should not be more important than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ors when considering how much story to include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ngth of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cus on individual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gree of real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motional richn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99042-FE14-4E88-8735-7AAE2A21887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D8B893B-0361-4D79-B831-53B55D76F2B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story is an account of a series of ev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quirements of good stori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good story must be credible, coherent, and dramatically meaningfu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 interactive story includes three kinds of event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-game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rrative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FC0EF-E5D6-4969-9BE8-85AC4B19204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8F63C27-6E21-467C-9B94-4A9CD24B9E7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rrative is the part of the story told to the player by the design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imary function of narrative is to present events over which the player has no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arrative may be in the form of a movie, cut-scenes, scrolling text, or voiceov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arrative must be interruptib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alance narrative with action to keep players interest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Agency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the player’s power to change the future of the story. Also called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dramatic freedom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51E95-F0B8-4133-A404-B05EB208B17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4780F7B-FB1D-4ED4-84CF-17A4F70C22C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amatic tension and gameplay tensio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matic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hing important is at stake. What will happen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ramatic tension comes from the plo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ades in the presence of randomness and repet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hing important is at stake. What will happen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ameplay tension comes from the challenges (gameplay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lerates randomness and repetition for much long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7A13D-91E2-4A39-B9B9-74ADFE0B704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CB141B5-5071-4B3E-A48D-35382A191E7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Storytelling Engin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eaves together the gameplay and the sto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ow does it work?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eives triggers from the core mechanics to track the player’s prog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sents each narrative block at the correct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nds triggers to the core mechanics when the current narrative block is d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177D6-0AE8-43EC-B3A7-EF37DDA63F8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45E6219-8C91-4A9D-A58C-F91534AF843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6:38Z</dcterms:modified>
  <cp:revision>162</cp:revision>
  <dc:subject/>
  <dc:title>Fundamentals of Game Design, 2nd Edition - Ch 7</dc:title>
</cp:coreProperties>
</file>