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E33CC-E991-4C2C-B8DA-2F16C46781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vatar can be a mix of the two types. Some characteristics are known, but the details are not fully fleshed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66598-8DF6-4372-831C-E25C9BEEC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A0796-4E46-4E38-93DA-7DCABCA1E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76D23-9D60-4E64-A6CE-C673BEE52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6BDE6-3AD2-41E7-88F7-821E5730F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C00F7-D153-4894-BA88-68E9B2AF2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2F521-AE60-4648-83D8-1605EABEE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8CEC4-CA17-44AC-9229-6D979EFBF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5848B-8E04-4D62-9C04-252EB6D96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E09AF-CD00-467A-B1FF-F62D2E082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DAC7C-90E0-427C-B09A-2A1446D38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386B1-AF3C-4672-A9F7-71F30D1ED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E761F-2F0E-452B-B441-07577EF4B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74441-4950-4BAC-9D09-ECC21929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64642-CF0B-4E9F-8AC2-0E0D7407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FA3E1-7587-4516-846D-5521F41A1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52EC6-18E0-4703-A567-618C75391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30B29-F1C3-4109-9DF6-722154851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751E2-19B1-435E-9AAE-725F38E00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DE790-B0B3-488C-924D-E86D91828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3B4AE-63E9-4638-BDDE-6B04E50E2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D68FB-2263-42F7-8FFF-D53943D7F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C853E-E12C-486B-9FCE-1F7CC8C17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8D3C9-F62F-45CA-A642-949307C01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5B6E6-3A88-41F3-8C8E-3F74CBD4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07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6  Character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1B829-23DD-45B9-9B80-9B3F5CEFBDED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E41DD-5380-4AAD-ACDB-CCF312D305CC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CBEE8-2973-499F-AD64-720FA6843A76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6: Character Development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168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Your Avatar Character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ow do you want the player to relate to the avatar?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lect the control metho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lect the appearance and personality (unless the player designs the avatar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details create more independ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lect qualities the player will find appeal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59FA9-CCF7-4C40-B59F-2FF49D2C2F9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3B9B761-85E5-414D-BC0F-FBFC111C0AA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Appearances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-driven 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st method for simple characters who don’t change during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-driven 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st method for complex characters or characters who change during the gam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06223-6046-4DBC-AFB9-2D56A28E876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573E502-A748-4AED-8932-D6F8DEBCF49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Physical Typ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s fall into three general categori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umanoi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hysical features like a human’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nhumanoi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haped like vehicles or machines, animals, or mons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ybri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beings such as mermaids or human/machine combin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-driven characters are usually stereotyp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common character stereotypes are cool, tough, cute, and goof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0C171-EC23-4CC2-BA3D-72F1FB98AEF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B3920B2-9939-44DF-92EB-C308A37419F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Physical Typ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ypersexualization is exaggerating sexual attributes of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hypersexualized characters because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are cliché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appeal only to a puerile audi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may turn off part of your target audienc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31B5D-1801-4A24-9CEB-8893375BEC4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7EFFE38-91D5-416C-98B8-E39C0430FEA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Clothing, Weapons, Symbolic Objects, and Name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cessories reveal personal sty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ice of weapons can also be revea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ransferring an object can symbolically transfer a power or rewar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ames can reveal a character’s personality or ethnic backgrou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you overuse this technique it will feel cartoon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EEDA3-C655-4EBF-9CAC-FFE60CF914E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97FE9CF-F882-472C-8D79-4CD94B50C92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lor Palette and Sidekick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a signature color for the main charact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e a color palette to reflect character’s attitudes and emotional tempera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dekicks offer several benefit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allow you to give the player additional moves and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extend the emotional ra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can be used to give the player information he wouldn’t get any other w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9489E-4DAE-4252-AEF0-B6B161F1C97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21D4281-3EC9-430F-B1DF-7D57F73B5A7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reating Character Depth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can convey a lot about a character through appearance, but not everyth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you begin character design with the character’s role, personality, and behavior, you are doing story-driven 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decide these things first and then let artists develop a visual appeara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BDBBB-7D86-4EEC-8A4C-44A3F43988E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4346E81-7351-4629-94B5-A3A4C0CAB21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Role, Attitude, and Valu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very character in a game plays a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design characters, you have to envision them and answer many questions about the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a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backgrounder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, or character background paper, for major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ow character personality through appearance, language, and behavio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051C4-9FD3-42B9-AAFF-F49E6281180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A851974-1C91-4DF3-85A6-41FFB696648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ttribut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ttributes are the data values that show a character’s location, health, property, etc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ttributes can be divided into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us attributes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that change frequent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Characterization attributes that change infrequent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Attributes a character needs depend on the genre and nature of the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F3A04-C9DC-4A08-882F-D4293B61C25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D99F106-F0C0-4C03-8F00-0E912E091E6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Dimensionali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s can be classified into four group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Zero-dimensional characters display only discrete emotional sta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-dimensional characters have only a single variable to characterize a changing attitu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wo-dimensional characters are described by multiple variables that express their impulses, but those impulses don’t confli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ree-dimensional characters have multiple emotional states that can produce confli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23627-034A-4ECC-8C2D-7606A0E9D7C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0469827-D147-4132-9C2C-C5D9D396C01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basic goals of character design in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the difference between a </a:t>
            </a:r>
            <a:br>
              <a:rPr sz="3000"/>
            </a:b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-defined avatar and a specific or nonspecific avata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issues involved in making non-gender-specific charact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CDDE1-7EBB-4762-9435-8F794B571CE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64C517D-304D-46D8-B006-1E8A3B14D60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Growth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that aspires to be more than a simple adventure must include character grow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build character growth into a game, decide which characters will grow and h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often use physical growth because it is easy to show and impl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ow personality growth through changes in language and behavi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0DEDD-C6DF-4099-AD89-55BDAB22954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63D1B84-F6B3-4F9E-81B9-6FFCDBC6137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Archetyp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y stories that follow the Hero’s Journey pattern include archetypal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s fundamental to storytell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und in stories from all cul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y be fundamental to the human psych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d the works of Joseph Campbell and Carl Jung for more ide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implement them slavishl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30EEB-B2D2-4EA5-B6A6-31FAB3C1531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2A20B8E-A6BD-4B7A-9C5C-884350BC54C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udio Desig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ounds reveal the charact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nd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ical the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ocabula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ammar and sentence construc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live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ocal quir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8922B-625C-45E5-91A7-5ADC0F433E9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5B16EC2-0BD1-4BFA-B58B-403AC9CBB22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istinguish among a player-defined, specific, and nonspecific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make non-gender-specific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visual and behavioral attributes to create a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rt-driven or story-driven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sound to define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B16C3-0C4E-45F0-BAEA-71B4762319E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AA57A46-3DFB-4E74-8BD0-5593B210298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visual and behavioral attributes used to help create characters in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the techniques of either art-driven or </a:t>
            </a:r>
            <a:br>
              <a:rPr sz="3000"/>
            </a:b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-driven character design to create your own game charact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AA36C-5E0D-4BC5-BB1D-5A0D5C5C45B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B60D31A-5BA0-444E-9285-F564A8287D0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oals of Character Design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s in many genres structure gameplay around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s should be distinctive and credib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ultimate goal of character design is to create characters th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ople find appeal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ople can believe 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can identify wi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615EF-21C1-4F15-A5EA-2052771FDF3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93C94A5-D15C-4AD3-B774-D263F03D094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The Relationship Between Player and Avatar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lationship varies from game to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ors that affect the relationship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d the player design the avatar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the avatar visible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is the avatar controlled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36C01-C303-4CE1-B278-2852D203AF3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C1DFBBE-EB34-41E5-8DB7-5C0497E41CD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Player-Designed Avatar Character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reates the physical attribu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reates the persona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750B8-12E7-4D42-834A-FBA66537BE4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E61E80C-F906-4B8D-8D7C-4BCBE6E9CB0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pecific and Nonspecific Avatars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nspecific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is assumed to “be” the player, so appearance, personality, etc., are undefin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ry limiting to the design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in early text-based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ecific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tailed characters with histories and personaliti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in games with graphics and strong storyli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54E8A-5DC5-44B0-9944-91BE051DFE4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8C1C8D5-B722-4D46-8107-35EB29B2889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The Effects of Different Control Mechanism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direct contro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licks where the avatar should g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s a guide to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rect contro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steers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i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7A536-A6FF-47B8-903C-B4C03F8698A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E5BD9CA-4E33-4D2B-A821-767D2EB466A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Male and Female Players and Character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le players do not identify strongly with their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n tend to treat avatars as puppets and often use default avatar without customiz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omen identify with their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omen tend to treat avatars as extensions of themselves and an opportunity for self-expres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make a game more attractive to women, allow them to customiz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9B294-E49C-4680-91A1-710548044D3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5161367-7C38-4012-955B-B2432B90274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6:10Z</dcterms:modified>
  <cp:revision>152</cp:revision>
  <dc:subject/>
  <dc:title>Fundamentals of Game Design, 2nd Edition - Ch 6</dc:title>
</cp:coreProperties>
</file>