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D85D-881F-49E3-A8B0-00584303A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D9A7-0B4D-47C9-97C5-6052E4172EAD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10D6-A896-46B7-A5E6-D486A97824B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095E0-9FA6-4CA0-82C3-5B485B65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A7689-0B90-479E-A626-ECC7DE34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F6784-900B-4D99-A9E4-035562E8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F0136-CF6D-4F79-B4D2-0FAE01B30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4A2C-4551-4ECC-A09C-F07DC58A9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6B66-1450-44C8-B9CF-03E6E49C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9B15-E9F0-4E73-8AE2-DE857432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444F-81A4-4E6C-A77A-AF2BC452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AE63-A38B-46EA-8228-C3493A31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CBB1-1B6D-448C-BF16-79C84B6F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6161-3CF2-4E1C-A0AB-F53582B6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47912-58B2-4140-B335-6C894AE5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EE0E-C399-4BA1-905A-BF3960CE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5011-8D8F-4353-8D26-403E7023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9FD3-4D87-4BD4-B31E-7E5FCB78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444D-51C8-4909-B17A-DA415D40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A12E-C8A8-4C0C-9BC9-1682CB218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B7A9B-D364-4715-B58C-21D44E25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827E6-8FE0-429C-85E9-F0D28B43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AFCEE-C9F4-46CD-B78A-A8BD94BE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C7DCC-D80B-4756-A56C-F9AB1FE5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118FF-A07D-447C-BC42-22A568CA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45820-772A-4536-A7E9-10D6C592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C6ECF-0310-4C0C-8684-C0D1D73E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6 Sports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B339-616D-4D0A-BD44-38EF65AA243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4F80-40CC-461C-9D77-932BCE0AD46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8016-829D-4FD3-A15E-AA65023DADF9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6: Sports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pportunities for creative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cre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reate their own te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create their own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ing field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edit the shape of the playing field if sport allows this op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9349E-B92B-48BB-8E1C-64A5D9D92EE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623EFF-221A-44CE-AF25-C72B273FC73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venting a sport is a risky option that is hard to s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can invoke special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stant replay is an essential fea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ll usual video forward/reverse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move camera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locking the camera to an athlete or the ba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3CBFC-0A39-4FB0-9C6C-A7E7C7BC882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0E57D1-2446-419A-A17A-A2479D5032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s for sports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engine determines the behavior of moving bodies in the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should not be perfectly realistic becau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does not have precise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not a professional athle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9DBF6-45A9-4000-B409-020E2E66A6A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22BBE8-32CC-4EEB-ABD4-4528DDD806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ting the athle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ing ratings is a big ta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ings provide data for the physics engine to simulate the athletes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ratings are provided for all athletes—speed, agility, weight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ized ratings apply to specific positions—passing strength, passing accuracy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FC8CE-3C09-423D-B16E-42641A4013F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729FF4-23EA-44DC-8D13-69A78B123B4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hlete AI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state s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in a match is broken into states defined by rules and strategy (e.g., fly ball, foul ball, grounder, strikeout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flowchart to map the game’s sta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collective and individual goals in each st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dividual goals are what each athlete tries to achieve in the course of playing his pos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llective goal is what the team is trying to achieve as a whole; the collective goal determines individual go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BF9D6-AB47-49CE-9659-8E9883F7285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75CE1A-3FC1-41CF-A426-788ED1B6D8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ju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juries introduce som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inju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cade mode versus simulation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cade mode increases action and decreases realism; produces higher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on mode increases realism but probably decreases 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5F5A3-1A56-40DD-93B2-5287731BA0F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B6ACCE-C84A-4585-8D4B-8362E5D6E5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matches automat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plays out matches and records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fake results quickly, roll dice to generate game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ores must be restricted to a credible 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generate other stat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a home field advantage is not recommen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ABA47-C8FE-45DD-BAE6-23860AFFDA3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DF1E87-9A69-42F0-A62D-9EA7F5E85E9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copies of real stadiums and aren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significantly affects games played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wd noises contribute to set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88A02-78E2-4AE6-B2DA-412C94319D2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035C72-243D-46DC-B0E2-800D0FA44F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censes, trademarks, and publicity righ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and league tradema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merica, the league holds the license to use the team and league names, logos, uniform designs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variety of governing bodies manage individual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nts are owned by the organization producing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diums are now asserting trademark rights to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 publicity rights owned by the athlete or an organ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3BA78-2A9F-41D2-A8DE-1114D4B4601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8420D7-AA67-48F3-8749-8C96FFA6CC5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dio commenta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ed to feel like you’re watching the match on tele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-by-play and color comment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e the events that should trigger a specific com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893FE-5493-4206-87E3-FCC676A9CF6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30E0F9-8056-4821-ADF2-ED4F3F1AA8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hape 1331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6DBB-1F4F-4FE5-B950-9E68F9D6DA21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efinition of athletic sports games and be familiar with the types of challenges that these types of sports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challenges of meeting players’ expectations about a real-world game in a video game implement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05A87-9AEB-42C9-9476-0EE4172DFB2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840963-8011-493A-BDD1-880E3433AE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usually controls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ich athlete is being controlled can change as the play progresses (in team sport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use first-person; players watch the athle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hea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dividual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d view or side vie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-in-pic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ports with more than one focal point, e.g. baseball or crick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B35D3-6C02-42DE-87DB-D64307F0D77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3A93D4-713F-4302-8B51-F77CFF580A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tion-sensitive (e.g. Wii controller) best for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eam games, let the player press a button to switch control to the most appropriate defending athle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r interface can change every second, depending on conditions in the mat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requires a set of op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rk the controlled athlete with a lab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overlays rather than pull-down men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176EE-82D4-4805-AD72-D7C7F979305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E647F3-DAB0-49E8-9DD5-35803ED49C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player’s expectations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dapt a sport for a video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at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flowchart states in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cense teams and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user interface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B8E16-817F-4F65-9A70-9FBEBA22339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241564-1F14-4E49-82E9-6DC21A887F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hape 1433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7F9F-03B1-449A-9FE2-75A02D4FAAC4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basics of adapting a physical sports game mechanic to a virtual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design complexities for physics, AI, and player skill ratings required for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se flowcharting to help define AI states within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FEF4F-68F8-4B40-81B7-BDA82B77400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46582A-25EF-4795-A44D-20253DBAB5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hape 1536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5CD2-8EDE-4518-8A7E-B5DABE8137F5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issues involved in licensing sports organizations, teams, and players, including the use of names and im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mapping known physical game play mechanics to computer-human interface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AF88C-D1C4-486F-8362-6CAC251CD1F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97E51D-A975-4EF1-9122-41A964FB29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ports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ports game simulates some aspect of a real or imaginary athletic sport, whether it is playing in matches, managing a team or career, or both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tch play makes use of physical and strateg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nagement challenges are chiefly econom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D3169-F664-4E93-9EF6-CAFEC29AF9D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21529B-3086-4E72-B374-CD748D108C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gameplay mode is match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utside of match play, game’s modes relate to other aspects of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the game for coaching tas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hlete is most common ro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 follows the action rather than a single athlete in t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ay also take role of coach or manag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D8EC9-7857-4410-8315-857FE05C07E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21A0A5-A8E9-4017-876F-17A926AECC2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and actions match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hlete—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ach—Strategic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might have to be relaxed because controlling athletes onscreen does not correspond exactly to real-life sports experi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to decide what to do about athlete mistakes outside of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set referee parame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89417-B361-4337-B7C2-D129A5F9D0B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831E88-3860-4E57-9E7B-C21609E43C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 competition modes are allow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s are more popular on consoles to permit multiplayer 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mode should include computer versus itself so players can watch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DE3E7-6318-48A5-8181-DB3948CB939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84461B-0589-4FEF-A670-44EC289FDD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ch real sport’s victory and loss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as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hibiti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dden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nd rob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rnament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anchise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ED9DC-BD4E-492E-8FBE-3A16A4448A6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0F446B-18A7-462C-B5E4-FC94245F4D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43:47Z</dcterms:modified>
  <cp:revision>327</cp:revision>
  <dc:subject/>
  <dc:title>Fundamentals of Game Design, 2nd Edition - Ch 16</dc:title>
</cp:coreProperties>
</file>