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53C08-FB67-4E4E-859A-C61486ABAC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57BA4-30CF-4BD3-8C28-D7F94442FF3B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8F3ED-3004-40CA-965A-A8BF83CCA87E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46A628-CDB7-4AEE-A54D-380DDE5F4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E271E6-6CAD-49FF-8B2F-1910935E7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4F22D6-2D63-4B2C-A04B-E5BBA8B08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9985D0-5CEB-4839-ADE2-492E06270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D68CD-A8F5-4C63-A01C-4994F8D40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1AD28-19AC-4085-B103-98C59BF59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DC1EA-9C4D-4627-B72C-0A1D58B70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1ADFA-B63C-4CF1-AD1E-A6567CAAC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258FF-2DC7-4625-B518-6F4D9AA89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10864-1CDF-4BC4-BD61-2429B2356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C9586-48D5-4A04-B652-78E123BA6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69A731-D731-4F7C-A551-46BFBB00B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E757F-A66C-4B5E-A7EB-A23EFF37D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644E1-8DA8-41B1-8F2C-FAAFE3186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C29F4-52AB-441E-BE4F-BBEBE1918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B03B6-9243-4DE8-AA0D-D1FD36FF1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100B5-002A-434E-B401-EEA1AFCFC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29FED9-D953-4492-8EE8-B99CC6112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8E6C44-1F56-4E47-BBF2-28546F11C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690775-A141-473D-8461-7E7176BCD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73EDF6-E713-40FC-885B-FD66BC9AC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96F01-3E5F-48B6-B1BA-9BA6016E9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CA7544-0BB3-41D4-8806-1733A65ED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2BA2E3-6D6D-44A7-BB54-B88FF431A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097080" y="6248520"/>
            <a:ext cx="3308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21  Online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CEE09-2ADD-4DC5-B0B7-4E365A6F18AC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BD7E6-CDF6-4724-B256-DA1A427D25E0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A4559-7D1F-4F12-91A6-F07EA668D3BD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TextBox 12290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21: Online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isadvantages of Onlin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t’s harder to suspend disbelief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isbehavior can ruin the game for oth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need to produce cont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line games earn money through advertising revenue or subscrip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keep players interested, you must produce new content on an ongoing basi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nline games require more customer servi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expect different things from onlin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904326-7803-4F9D-A787-DBB2BB978FE0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3E92FE6-F54B-44B4-9AB5-59537E22D31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Issues for Online Gaming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riving play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art new matches at frequent interva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 a lounge for waiting play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ght need a matchmaking service to form grou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persistent worlds, late arrivals are at a disadvantage. To assist them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on’t have a victory condi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scourage competition between experienced players and newcom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e sure that direct competition is consensua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DB7D4B-DA57-4A9B-9CFB-9B0C9A03766A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4368EE8-BF75-4C00-BA46-D612736E4FD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Issues for Online Gaming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appearing players—choose a fair way to deal with disconnections when they occur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nishing player forfe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nalty less severe than forfeitu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ward victory to leader at time of disconne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cord as a ti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cord as a “disconnected game”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bandon game entire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refere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ach approach has weakness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2F814D-5FF2-41C5-9C29-1CA6E10F5AFB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53DC307-5D1C-4AAA-A8B4-8D51917FB3D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Issues for Online Gaming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al-time versus turn-based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al-time provides more freedom for the player and it’s more immers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urn-based is less immersive and requires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imited number of players in one ga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ime limit on each tur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fault action occurs if player runs out of ti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can do other things while waiting for tur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some games all players plan action simultaneously, then server computes the results for each tur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8A7136-3EE6-4D41-BBF2-33111E7C7C1F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ECD83A2-5905-4F72-9CA5-41B82297057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Issues for Online Gaming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t is a mechanism that enables players to send messages to one anoth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t lev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rivate message to one play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essage to your tea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essage to the players nearby (in the game world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essage to all players in the game at the ti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busive behavior is a big proble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UST have a strong system to protect childre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EE5EE6-DD1F-400A-AD2D-7456AC3ADE36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FC8F54C-77BD-4A61-9487-EFDD4E801E3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Design Issues for Online Gaming 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2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echanisms to prevent/reduce abusive chat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imit chat to certain words/phras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rofanity filters (don’t work very well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mplaint and warning system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omplaint button reports offending player to authoriti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Offender can be warned, disconnected, or banned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gnoring other play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Ignoring enables player to stop receiving messages from a specific player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layer sets ignore, so there’s no staff cost involved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se live human moderato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Expensive, and moderator must be impartial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Only real solution in spaces designed for children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478742-5EF2-414B-AA98-28F648CA90C8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9735649-D36D-4E83-B80D-D8364530E51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Issues for Online Gaming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llu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orm of cheating in which players who are supposed to be opponents work together in violation of the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uter enforces rules but software can’t detect certain kinds of collusion such as instant messaging or physical communication outside the game softwa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146E67-464A-4BA0-8E2A-BB9B3D253CE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1910745-713D-459C-AA64-91483C7D0F6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Issues for Online Gaming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llusion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ing to reduce collu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You can’t prevent collusion complete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You can only try to reduce the effec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sider these questions as you design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What will happen if players share knowledge supposed to be secret?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s there any mechanism to transfer assets between players that they can abuse?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What can happen if a player deliberately plays to lose?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88E1F7-C687-47D8-86C6-37A961FE7A64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219C971-DE61-4EC1-9A57-E27851ED913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Issues for Online Gaming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echnical secur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a secure telecommunications protoco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ncrypt dat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se a heartbeat mechanis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clude unique sequenced serial number in packe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n’t store sensitive data on the player’s comput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n’t send the player data he isn’t supposed to ha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n’t let the client perform sensitive opera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C8DA68-7319-49F9-9657-0D869375E156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C0327B2-0D7F-4442-93B9-1AE51434F22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origins of persistent-world gam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nce 1978, developers have played text-based persistent worlds called MU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 commercial market for MUDs tod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ow persistent worlds differ from ordinary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ory doesn’t e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can change their ro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play is expressive and active, not reac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125DED-F2CD-4982-8758-18BF0DDB37AD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422F6DD-0003-4C1C-AC53-F024151210C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Understand the advantages and disadvantages of online play as compared with single-player 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Understand key design issues for online games, including handling arriving and disappearing players, real-time and turn-based play, chat mechanisms, and designing to prevent player collu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EA0B7D-D171-4CE2-A744-E6757F9A567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5057950-CCA5-4C28-9B09-C494753E20A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ichard Bartle’s four types of play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Killers enjoy acting on other play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cializers enjoy interacting with other play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hievers enjoy acting on the worl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xplorers enjoy interacting with the worl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790640" y="3346560"/>
            <a:ext cx="5562720" cy="2935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D3DCAC-F522-40FA-9018-62B617C2BBCA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33E4C56-D207-4062-BD37-3C63A69901F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eating an avata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first thing a player does in a persistent world is create an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maintain profiles that include information such a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nique name or handl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hysical appearan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istory or experien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put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autobiograph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CE8C1C-A7B8-4D7C-A111-925B932F333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25CAE14-554A-444C-80BB-1DAEE786C11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aph Koster’s world mode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five classic world models are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cavenger mod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cial mod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99"/>
                </a:solidFill>
                <a:latin typeface="Arial"/>
              </a:rPr>
              <a:t>Dungeons &amp; Dragons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mod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-versus-Player (PvP) mod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uilder mod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7E014B-689D-412F-AAA2-F4C7AA54949A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4DB86DD-AAFF-4F84-8681-BAB52CE0EFE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atar deat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 death must be accompanied by a disincen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ays to deal with avatar death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ermanent deat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surrection with reduced attribut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surrection with some property miss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F0FD2B-B991-4E91-B21B-9EA7C88B2458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E403974-1DF7-43C4-AEA3-60DB570CC28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player-killer (PK) problem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t’s more interesting to fight another player than an NPC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carry better loot than NP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t’s a social experien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fight better than AI opponen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Ultima Onlin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experience—without imposed limitations, players preyed on each oth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5E45AE-7517-4572-9D6E-F9470647CA95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DC4EAB4-A8B0-4C09-A40B-27EF10BC4C5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player-killer (PK) problem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rious justice mechanisms to regulate PvP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o automated regul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lagging of criminal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putation system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vP switch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nly consensual fights allow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afe games; no PvP allow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action-based PvP enables players to attack members of enemy factions but not members of their own fa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DD3183-587A-483B-9625-FBBD6EE21364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00241A7-2AC4-4E87-9262-9ACD0AAE049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player-killer (PK) problem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bottom line on player killing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t’s a fantasy world, it needs to be fun for everyon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eople pay to play—their cash expenditure matt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nature of ti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single-player games, time can be paused, sped up, or skipp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online games, time must run at the same pace for everyo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B3A927-FE53-4B6D-AF81-955EEE4E4028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932B841-604D-4A8A-A068-839728A87B9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ersistent world economi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ing and tuning the economy in an online game is difficul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should not be able to create something for noth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s with all other games with an economy, do not create any system that allows players to generate runaway prof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C27581-B821-457E-9778-BC25269E251F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A6E5683-209F-4D44-ACDC-1F2E6A8345C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ompare advantages and disadvantages of online play and single-player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handle key design issues for onlin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solutions to some technical security problems faced by onlin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istinguish between persistent worlds and conventional gam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online PvP combat issu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11056E-8436-4197-A7BE-1E6A3079AAF9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89E11E5-4CE2-478F-88C4-E08B69B51B5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e familiar with some of the technical security problems of online games and some solu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how persistent worlds differ from conventional games and what this implies for storytelling, avatar creation and death, and the internal economics of the game worl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e familiar with the issues surrounding player-versus-player combat in onlin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A4A455-BE38-4CA5-A921-4155B2936CB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5D450D5-4464-403A-B433-E22823C48B9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Online Games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ultiplayer distributed games in which the players’ machines are connected by a network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network can be the Internet or a local area network (LAN)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9FE260-31B3-4015-B24E-D6F7AD0ABFE8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F6026F3-0E08-4A89-B51C-852CE9F5C3C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dvantages of Online Gam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socializ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line games offer opportunities for social intera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games offer chatting (conversation restricted to typing text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re games are including voice communic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s the creator of an online game, you are a social architec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D72BDD-A862-4749-A240-00C71C5BA277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FEEAAAC-15C0-413F-ABC3-5B5E0EF2814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dvantages of Onlin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uman intelligence instead of artificial intelligen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f players compete against each other, less AI is need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NPCs when necessary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I-controlled enemies can fight a team of online play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BAB595-CC9C-4DBD-8AE3-429103CFBE09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C0DE71D-C80D-48E3-8594-1339F5839AD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dvantages of Onlin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nline gameplay versus local multiplayer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racterist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ultiplayer gameplay can be purely competitive, purely cooperative, or team-bas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online play, players are usually in separate pla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ocal play can be two typ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Local area network (LAN)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  <a:ea typeface="Arial"/>
              </a:rPr>
              <a:t>—s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imilar to online play, each has her own screen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Local play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  <a:ea typeface="Arial"/>
              </a:rPr>
              <a:t>—p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layers in the same room using the same equipment, all looking at one screen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5E8A3A-282A-4097-9FC8-264A265D1A72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7B1A676-6422-4899-84B9-70894F66146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dvantages of Onlin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nline gameplay versus local multiplayer gameplay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blems with local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ust display UI elements for each play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an’t hide information from other play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imits the number of simultaneous play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line play solves the local play proble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ach player has own screen, information, UI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ervers can handle thousands of play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2218B8-3067-4F34-AF9A-F2CA502951B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B3675D9-C19B-437E-B376-B2BCBC63AE1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isadvantages of Online Gam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echnical issu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munication mod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lient/server—player runs client and game company runs serv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eer-to-peer—players’ computers communicate direct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atency, also known as transmission delay time—players with a faster connection could have an advanta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ropped and garbled packets cause err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7A9E48-E3FB-44A9-AEEC-72684460F8A3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CF5D8FC-4C42-4120-B35D-05DFFB18551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12T14:02:41Z</dcterms:modified>
  <cp:revision>582</cp:revision>
  <dc:subject/>
  <dc:title>Fundamentals of Game Design, 2nd Edition - Ch 21</dc:title>
</cp:coreProperties>
</file>