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1CA4-045A-47AC-93FA-124EE29EE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deo game will not respond to player actions that it has not been programmed to recogn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layers compete, there is often a winner and a lo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, the behavior simulations are very simple. The goal of AI research is to create ever more realistic sim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mC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layers learn how to attract a larger population and meet their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ultiplayer games have a communication method built into the software. However, players often use communication software such a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eamSpea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entril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s and puzzles can be used to play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that can be made while playing are limited by the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39A88-0DE3-46FA-B5D7-23A033858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BC3C9-7D03-49AB-AD04-66CDC300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AA39F-7025-4B3E-9BF1-7D0E721D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18C39-3769-4643-865C-09EBE0CD4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E258-0240-4B1F-ACA2-19CDC123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FBD9-B9E9-413F-827E-99798570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8899-968A-4751-93E2-753B9A03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285A-F004-4E90-BC34-387AD415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BA4F-670F-4E3E-93E9-3076D303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7118-4695-47AD-8629-23514E9F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0DBF-F914-43A1-8E40-6B11E138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01AF2-4C9E-4131-A000-ADDC6969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742B-A097-47D7-99F7-53D83AD7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FD86-5C4D-4613-B9B2-1BE6C09E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4E71-B611-4A3B-9816-95BE1357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A9EE-E29E-4B6A-B557-879A72DBE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AFED-B939-4550-A3F4-92E5A321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349EB-E71D-4A38-A834-B73EBECD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86660-672E-49E7-ADEE-13F5AC21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3030C-7AB7-4F8B-9F3F-FFAA7B7D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BC57B-4F84-412B-B687-5371DB7D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1A8D9-C0FA-426C-BA95-9383BCEF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5AF68-E9E6-410B-AC02-4541CF15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ACB42-5459-4CA6-BB6F-A98CA591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  Games and Video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F852-53C1-427C-B373-AE66BA2CE70C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C0ED-D454-485B-9D9A-329315BDD809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AF5D-2A63-47DF-9782-94DE8E36DBE5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: Games and Video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must overcome a nontrivial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require mental or physical eff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hallenge can be composed of several smaller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can be required to reach the goal or optional to add gam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DCE05-9DFE-4CE5-840B-17CE06D302C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2F262E-4A06-4030-AC3E-C58FF8B53E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rules determine what actions are available to the player(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fferent actions may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mitted by the rules, o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d by the rules, 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hibited by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permit only actions that are programmed into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11364-09BA-4454-912E-77C99D24373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589827-1B7D-4A4D-9D2A-76CE64346E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therefore consists of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allenges that a player must face to arrive at the object of the game, a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actions that the player is permitted to take to address those challenges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plu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possible actions that are enjoy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5077F-9B80-4DFE-A489-D9DEAD13128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DA959F-C85A-4A6D-BC94-71B3FC4FA9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airn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expect that the rules will guarantee that the game is fai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irness is not an essential element of a game, but a quality of go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often change rules of a game if they perceive it as un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irness is particularly important in video games because video games seldom allow rule cha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C6863-7329-4C19-828C-6475BB1ACA9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AB8051-BF07-4115-8C92-2BB473A4D9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ymmetry and Asymmet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symmetric game, all players use the same rules to accomplish the same 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n asymmetric game, different players follow different rules to accomplish different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CEA2C-C0B9-4574-84B9-7CAF0E45D08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6C76CC-68E5-4146-9324-C70E95494A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etition and Cooper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mpete, they try to accomplish mutually exclusi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operate, they work together to accomplish goals that are the same or simil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 are ways to build cooperation and competition int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BF14B-8B24-4488-87F5-8AA627972CA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E395F4-2A1C-4AB1-B984-2C7262E5C1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Hiding the Ru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do not require written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enforces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’t chang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adequate clues for players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ing trial and error to overcome a challenge frustrates many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C8FF5-4B66-4D55-AE10-B8BFECD582B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A58D90-8AA9-4EC2-BF45-D5C2E56BB3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tting the Pa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software determines the speed of the events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can’t affect the speed of the game unless the software has to wait for player inp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mputer allows for modulation of the pace, so players can rest between periods of intense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F3157-ECF9-4EB2-92CD-6FA5A8BB992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6E19AC-A536-4FC7-890E-235773E61A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resenting a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present a game world, video games can u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i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xt and subti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568AC-C1E9-4362-8DA0-C3A351E8357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B0A37D-F3F0-49F0-B5DB-91676ED01B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Intellige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day, artificial intelligence is used f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fi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ng the behavior of people and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rtificial intelligence advances, games will add more uses for i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par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gene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tern recogn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04017-5B43-4093-864B-12CCD5DD46C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D081B6-6998-4A93-AB88-208328E017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essential elements of a game—rules, goals, play, and pretending—and what they do in the context of playing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formal definition of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nature of challenges and actions, as well as the formal definition of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6A3A7-4FDB-4AB1-B548-D75D8DD20FD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A6709D-D937-4DE1-944F-C7274F1ECF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esthet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 elements should be high in quality and present a harmonious look and fe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look includes the quality and appearance of the graphics, movie clips, animation, buttons, and fo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eel includes the music, dialog, user interface, and objecti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armony is the feeling that all game elements are part of a coherent wh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16456-B8F9-40A3-948C-42E849FA035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C2A4C1-B6A4-48D1-98EE-AE025B313A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games incorporate some kind of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mix storylike and gamelike entertainment almost seamless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make player feel he is inside a story and affecting flow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is one reason why video games are considered a new medi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7482A-7EAA-4D80-B650-C62AC2004A1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C1767D-B120-49EC-B39F-62D416DCA2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isks and Rewar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isk is created by uncertain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the player overcomes the risk, a reward should be give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size of the reward should match the size of the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7D8DE-CDC1-4164-A7AB-4540B197C4A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12F0A2-D36A-4CEA-A656-85BC169D16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velty and Learn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offer more variety and content than any traditional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velty alone is not enough to sustain player interest, howev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enjoy learning when it takes place in an enjoyable context or provides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should supply both enjoyable context and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A5DF2-B9AA-4F9A-A805-ABF66C7AAEF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039067-60BC-44F3-8848-F0912E9883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and Express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love to select, design, and customiz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s activity can have a direct effect o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video games reach a wider audience, creative and expressive play become increasingly import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36D74-74A4-44D3-99D6-0E26A62B117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518C85-5979-4F76-BAE8-17E7F2C334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mmer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ed players lose track of the real world outside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ion can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sense of being “in the groov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bserving, calculating,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feeling of being inside a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BDA33-D46B-4779-8B65-1F0F28FA740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951037-0623-4038-BD58-76523714CF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ocializ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traditional games are played with other people, making it a social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ral methods allow people to play video games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layer loc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tworked play (multiplayer distributed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N pa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E86FC-850A-4B73-BCAD-F85E1E350C9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42ED79-D7CB-454F-8337-58F41E8594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lements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interaction of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ole of the computer in video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rious ways that games enter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B8A43-A812-47A4-9D0A-EEF1C3DDF7C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9BAA53-3216-4493-9EB8-1BFDA83064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concepts of symmetry and asymmetry, fairness, and competition and cooper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arn the various benefits that computers bring to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ways in which video games entertain peopl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DC4B0-BAB0-40AB-B64A-625656E1C8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CFF2E7-A20F-40E3-B799-AC39C11AB3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ys do not have rules or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s ha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have rules and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D6306-8E38-46FA-B450-0E11B4D0A2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08CA8E-170C-4876-B894-549728A119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must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tended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ontrivial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4EE80-8D23-42FB-A6A2-FC552870D46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4F9300-7DA2-43C3-A58F-466F4815EE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requires particip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ing different choices while playing the game a second time affects the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tend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s an artificial reality known a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importance is assigned to events within the 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leave the magic circle, stop play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4FB2A-54C2-45E4-A797-0C91D06A55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DB48DA-EF34-46C9-AAE4-24ADA173D5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ery game must have a nontrivial goal or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ules defin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designer sets the rules, thus defining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overcome one or more challenges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achiev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oal is often a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ctory condition, but victory or defeat is not required in all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C713F-F7CE-4E3E-B861-57968DC7CB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0A8C01-B456-4695-9F49-C83F58A96C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are definitions and instructions that players accept for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define the actions the players may select that will help them achieve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designers must make the rules understandable to the playe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E482D-1637-48DD-96A0-1E2C48BA084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96FC93-231B-418B-9FD2-16B417D778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ings That a Game Is No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does not have to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tertai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se are qualities of some games, but not essential to the defin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rious games are not necessarily made for entertainment or fu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18B2A-F15C-4413-B700-6C1457BFEDA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28E4C9-97A5-4734-BC65-4E1EBC7D18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3:54Z</dcterms:modified>
  <cp:revision>96</cp:revision>
  <dc:subject/>
  <dc:title>Fundamentals of Game Design, 2nd Edition - Ch 1</dc:title>
</cp:coreProperties>
</file>