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D77B3-8C1D-4FFD-BB20-363EE3982A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9B2F7-6750-4B9F-949E-573B1C2A864C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FE5CF-5BC0-4B5C-A663-600DD62609D3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77F47-E8A0-4634-8E1F-626F1A343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8AC0C-4B7B-478F-B942-FB04007E1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3A334-92D8-4ABE-B047-61C0D3277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43AA7-B616-4B10-9A23-F801289CF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72530-B6F4-4EBA-8CA4-473A9041F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41C59-8F1E-442D-B04F-6BFF7041E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E7518-ED66-4625-8564-6C1D30F97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B2F5D-CEE0-46AD-87C3-128EB7578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D6052-0E2C-4B06-B375-EEE9C9B04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E9761-E8FC-48D8-8F7C-05B96F731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64C40-2416-4629-A709-30A5770B1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986D2-A42F-4BD6-AB70-93F0D6AB2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1940B-3389-45D3-8908-24349E9E8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D7D1D-17E8-4B65-B710-B1F8AABDA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D8EF5-C35B-4354-82E8-7FC3609FD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341B5-2A39-4B8D-8DFB-20DC73D54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2820A-5797-4808-8862-DA0D2B34D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97ED8-2B96-4DC0-87E0-A8A3E6807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7E04A-0B1F-4AD8-A8B7-6933CD93F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629EA-A523-4D81-8197-A84AE15E9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7E221-6833-426F-A941-60ACF4DB1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4D70C-5CB6-4315-A208-B31B4200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C7CB5-5238-4789-A7EB-F698E83DF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52E55-DFAA-4852-BF5C-02BDE0D5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6 Sports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1E1BF-99FA-4B52-84A6-05A40A29031B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B1752-AAAD-4A05-AAB8-83323E9E68DF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213EB-F2C0-4409-A4AD-98795C28D5A0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6: Sports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pportunities for creative 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am cre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s create their own te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 desig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s can create their own strateg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ing field desig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s can edit the shape of the playing field if sport allows this op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B483A-DBC0-4914-96C0-7A94D34250F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5902B6C-4FC3-4CF9-B770-58A2699C700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venting a sport is a risky option that is hard to sel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eath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can invoke special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affects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stant replay is an essential fea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all usual video forward/reverse f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move camera arou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locking the camera to an athlete or the ba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FCDCC-6493-43F4-BE3E-CBD394A2116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17FE978-D9B6-42FD-A0D6-122F4613B8C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s for sports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hysics engine determines the behavior of moving bodies in the mat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hysics should not be perfectly realistic becaus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does not have precise contr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is not a professional athle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886FA-FB11-4D60-B85C-030C73BD24F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02FEBBB-DA84-41AB-AB7A-ED337BD6F3C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ating the athle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eloping ratings is a big ta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tings provide data for the physics engine to simulate the athletes accurate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ratings are provided for all athletes—speed, agility, weight, etc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ized ratings apply to specific positions—passing strength, passing accuracy, etc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BB3C9-DE81-4BA3-9A97-2261A86FA0D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121B834-AA4C-4383-AD5D-E6CFC617E1C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thlete AI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he state s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 in a match is broken into states defined by rules and strategy (e.g., fly ball, foul ball, grounder, strikeout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a flowchart to map the game’s sta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collective and individual goals in each st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dividual goals are what each athlete tries to achieve in the course of playing his pos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llective goal is what the team is trying to achieve as a whole; the collective goal determines individual go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377D4-2366-405D-916E-F2847EEB9FF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DC63E69-2B2D-4886-92F9-F73E9F5B729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ju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juries introduce some cha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s to turn off inju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cade mode versus simulation mo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cade mode increases action and decreases realism; produces higher sco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ion mode increases realism but probably decreases 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CD27D-8CF0-4D20-A465-B27A6A9C6EE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01D48E1-5915-4BBA-8968-C89C07F9AF2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ing matches automaticall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uter plays out matches and records resul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fake results quickly, roll dice to generate game sco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ores must be restricted to a credible ran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esn’t generate other statis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ing a home field advantage is not recommend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BDF94-BD98-4534-B428-4AD195480C6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8341767-6DB8-4063-8143-8E6D48686E9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urate copies of real stadiums and aren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significantly affects games played outdo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owd noises contribute to set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7E559-6E0D-46A9-A227-DF01A5E994B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0DB2561-63DC-4FA7-8E7A-336750C4758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censes, trademarks, and publicity righ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am and league trademar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America, the league holds the license to use the team and league names, logos, uniform designs, etc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variety of governing bodies manage individual spor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vents are owned by the organization producing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diums are now asserting trademark rights too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sonal publicity rights owned by the athlete or an organiza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AF249-4154-4F43-AE0C-5B4434AA05D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EEA8353-2B53-450D-B4FD-4E390FD2E0E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udio commenta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ed to feel like you’re watching the match on televi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-by-play and color commenta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e the events that should trigger a specific com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6D207-07EF-4A9A-BFF5-3DC4A004F9A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37A95ED-711E-46E2-9F2B-9B2E8F5D70A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hape 1331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2D5E2-6B3E-4EDF-B0FD-67E16ED4F9EC}" type="slidenum">
              <a:rPr b="0" lang="en-US" sz="1200" spc="-1" strike="noStrike">
                <a:solidFill>
                  <a:srgbClr val="3366c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definition of athletic sports games and be familiar with the types of challenges that these types of sports games off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the challenges of meeting players’ expectations about a real-world game in a video game implement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FDD62-181F-425A-997E-ED4EC893FF9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2DCE1E8-F8DC-4C8B-9D56-4AD49A7A395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usually controls an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ich athlete is being controlled can change as the play progresses (in team sport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use first-person; players watch the athle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verhea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i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dividual spor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d view or side view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m spor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icture-in-pictur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ports with more than one focal point, e.g. baseball or cricke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5EDD4-6224-4194-AF0D-236721FE210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DED94A7-8735-4358-9703-7362B242DD1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tion-sensitive (e.g. Wii controller) best for spor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team games, let the player press a button to switch control to the most appropriate defending athlet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play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r interface can change every second, depending on conditions in the matc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tate requires a set of op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rk the controlled athlete with a lab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overlays rather than pull-down menu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9EA92-4F30-43AA-9F1E-A4F2475F201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ED8DA00-C99A-49F1-A716-C7CD757AC59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sports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player’s expectations for a sports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dapt a sport for a video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rate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flowchart states in a mat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license teams and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 user interface for a sports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AA0F3-6CBB-4CEA-8ACE-E1BDFC7CC43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F2952F5-9349-4424-8904-969CC4FB629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hape 1433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A4CDF-1F3F-4D02-8990-E18E14738FCE}" type="slidenum">
              <a:rPr b="0" lang="en-US" sz="1200" spc="-1" strike="noStrike">
                <a:solidFill>
                  <a:srgbClr val="3366c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basics of adapting a physical sports game mechanic to a virtual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the design complexities for physics, AI, and player skill ratings required for a sports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se flowcharting to help define AI states within a sports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CC52E-141C-4E5B-8197-6DF9D2A591D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01DB765-633D-4906-9FF4-F3B645EEB4B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hape 1536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58B93-3052-4D7D-9EBA-B59EF1900322}" type="slidenum">
              <a:rPr b="0" lang="en-US" sz="1200" spc="-1" strike="noStrike">
                <a:solidFill>
                  <a:srgbClr val="3366c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issues involved in licensing sports organizations, teams, and players, including the use of names and imag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mapping known physical game play mechanics to computer-human interface devi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2E96B-22EC-4E1F-A609-DBEE0910E68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CD0EEB7-6160-492A-A5FC-B23373125B1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Sports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sports game simulates some aspect of a real or imaginary athletic sport, whether it is playing in matches, managing a team or career, or both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tch play makes use of physical and strategic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management challenges are chiefly economic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C69C9-BD4A-405C-BC2E-A9CDC33BA3C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394FBAE-3E3B-42BE-B17C-3324F1034B0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 struc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 gameplay mode is match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utside of match play, game’s modes relate to other aspects of the spo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use the game for coaching tas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ro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hlete is most common rol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yer follows the action rather than a single athlete in team spor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may also take role of coach or manag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A4ED5-DDED-4D8B-978F-695A15D905A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458CBDE-81A6-4961-9EA6-FD463D4C94A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and 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and actions match the spo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thlete—Physical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ach—Strategic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 might have to be relaxed because controlling athletes onscreen does not correspond exactly to real-life sports experien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 to decide what to do about athlete mistakes outside of player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s to set referee parame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4B532-4047-4307-B251-408FC5F4944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43FC378-3402-4ED9-A8D7-2A47EAE657D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 competition modes are allow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orts games are more popular on consoles to permit multiplayer compet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 mode should include computer versus itself so players can watch a mat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F1FC0-3489-474C-8507-07ECDDAC86D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E247646-D46A-46D8-9F40-E3D7CFEC165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and loss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tch real sport’s victory and loss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ason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hibition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udden dea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und robi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urnament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ranchise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706FD-6B6A-4D54-9610-D53844C4E2F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CE6AF34-91A5-41C1-86BC-904F52345CA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3:43:47Z</dcterms:modified>
  <cp:revision>327</cp:revision>
  <dc:subject/>
  <dc:title>Fundamentals of Game Design, 2nd Edition - Ch 16</dc:title>
</cp:coreProperties>
</file>