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F580-649C-4354-ADDA-7B221D3F8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on sequitur is something that does not follow log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similitude means having the appearance of truth. Sports games must be reali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DEE41-3B62-4F0A-985F-0A5FB194C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6F871-1A13-428E-812D-D4C821E7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8FBE7-46E4-4F2D-84BC-3FB2AF004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BF36D-6F2A-42F7-B714-F1A18FA49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1BB4-48AC-404F-8773-C97FAA3B5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D432-E080-47BC-B606-A158D928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BADD-4BF3-4A91-9220-AECCBCD1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FB7B-0442-42F6-AC18-3AEDE866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8785-1D82-4818-8015-33344649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5DDD-1012-4E9E-B8E6-74E112B3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1A66-0212-4B70-A9AA-712B0912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2BAA4-1A29-4DC7-B2D1-B50DBF70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5F331-B835-4791-93F9-4462619E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36F0-E32C-4CA1-863F-1DF9CBBD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B770-878F-4245-9290-44999119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6F2E-671E-4D5E-8CA6-55C561DBB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ED2C-C5A1-4BCD-A25F-5E97057A5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9E0EA-A854-4A73-9B4F-50040B2D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77C1E-A59F-442E-964F-478B23B6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B1CBB-EF48-4BAB-B4C9-9522D163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599B8-D4F6-4DD9-B71F-A72E8C22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4D65E-0FD1-4575-9455-886C04C6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86249-B764-4D56-937C-5BBA6D36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B5F78-EDB1-4693-9A1B-1BF31775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37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2 General Principles of Level Desig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C223-CC06-44C1-99F6-BAFFD9BA7682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C038-3FF8-40C3-A227-0B201682A86D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492B-39D8-4E27-A0E3-65FB19F8AB22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2: General Principles of Level Design</a:t>
            </a:r>
            <a:r>
              <a:rPr b="0" i="1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allel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odern variant of linear layou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Variety of paths can go through th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n reflect a foldback story structur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ing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ath returns to its starting poin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val tracks or twisting road-racing tracks are ring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for rac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49520" y="4191120"/>
            <a:ext cx="1457280" cy="2158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7913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8C2AA-0986-48D2-98C3-F39D7478B78F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3481DC-12B2-427F-97AB-CA7F79C8C6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twork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paces connect to other spaces in different way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ive the player freedom to take any path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ories must be able to tolerate player experiencing events in any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b-and-spoke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ntral hub is usually a safe zon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rovides some choice of where to g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k off some areas to control sequence a litt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00200" y="4419720"/>
            <a:ext cx="1905120" cy="1857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638680" y="4343400"/>
            <a:ext cx="2286000" cy="1901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88F00-1242-4396-AC7F-77CAF49B0EC4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8F13B0-A046-4E82-B953-F584EC09F0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ations of layou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bines aspects of several layout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-playing games and adventure games often use combinatio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68760" y="3429000"/>
            <a:ext cx="3605040" cy="267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4E930-F3E4-46C3-9E8F-50E07E5265E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DA381A-FEEE-4D75-A874-DCF2A20104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 assembles components to create the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gh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 palet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nd atmospheric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visual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bient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audio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BBA74-EB49-4EA0-8AD1-67B4B58C67B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9A6FB8-B6E2-4221-B91A-D1B9EFBB46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 refers to change o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esigning progression, consider these facto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505320"/>
            <a:ext cx="3886200" cy="23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c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durat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cillary rewards and environmental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actical gameplay reward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3505320"/>
            <a:ext cx="38862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fficulty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ons available to the player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ory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growth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0EAEA-EFE9-47D9-B56D-9AD4BF68018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C29B95-5F44-4223-B46C-32167DD574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cing refers to the frequency of individu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nre affects pac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deathmatch shooters use the fast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use the slow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with fast and slow peri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all pacing should remain steady or become more rapid near the end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3B775-8313-4F89-8D89-AE5669923C4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E3B9DA-38C2-4E43-93A1-11B8EE5C54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utorial levels teach the player how to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what scripted experience that explains the game’s user interface, challenges, and ac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oduce features in an orderly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witch off features not yet introduc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game is complex, use more than one tutorial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ight screen elements when you introduce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 player go back and try things again conveni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iceover narration or text can expla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rule: Make tutorial levels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op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177DA-5C43-48F3-B94B-7340CB976C6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425E66-1334-4A22-AF57-7728AB5D2B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to level design handoff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st features in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rough overview map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pha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level in detai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sequence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cument the gameplay, art, performance, and code requir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A5508-EA47-4D7A-AEC5-455D0779979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1B62FE-75B9-4911-83A4-4E1A82677A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toty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emporary models of the landscape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s serve as blueprints for the art tea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the proto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edback from the design, art, programming, audio, and testing tea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016B1-CBB0-410B-94E9-3511C2C722A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FDE630-5CA7-49AC-9560-4DDAAD5CD0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finement and lock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corrections based on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and correct until the level is flawl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 to art handof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all files to the arti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l artists how the level should look and 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act the audio team for any needed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1FEA8-E66D-4F6F-B772-9D30CD79F38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2DBCA7-82E8-4B09-901A-8A3D557AE3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level design can enhance or undermine a game’s story and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 between universal and 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possible level layouts and understand when to use each and how to combine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95BA3-9DE3-4299-8CC7-00363D12C09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3F59C5-CFA6-4E51-865F-C31A89A17A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 art and rigging pa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 team builds the real artwork and rigg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might need to incorporate the new content into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 to level design handoff and review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 final art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duct a re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5C81F-BD8C-4CA5-A1EF-16C14653AEA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86958DB-20E8-4300-9F17-B38CD06D57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nt integ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semble all the assets into the complet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just any rigging as necess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g fix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for bugs and mistakes and hand off to Q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testing and tun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A creates a test plan and begins alph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oroughly alpha tested, hand off to bet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371D1-04B7-4F98-A679-07B51745171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F5E884-0301-4DEF-99FA-8447145F68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t the scope righ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within your available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common to design something that’s too bi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events in a game make it harder to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rewarded, not punished, for using their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B71F7-FEBF-40A0-B481-97124AE4646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FC54FF-C013-42E7-A8F1-E74E40BA80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typical levels optiona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break the player’s suspension of disbelie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could prevent some players from complet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n’t show the player everything at o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w features gradu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ain the player’s inter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71BC4-C8C5-47D7-A638-21142538CFD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8A027F-5460-4A9D-9D55-C9CE2CCAAD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ver lose sight of your aud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-centric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derstand your target audience and deliver what they w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d the “Bad Game Designer, No Twinkie” articles for more examples of design err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ww.designersnotebook.com/Design_Resources/</a:t>
            </a:r>
            <a:br>
              <a:rPr sz="2600"/>
            </a:b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_Twinkie_Databa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93CAE-BB64-44C6-A534-D3B931E0F12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1BD00B-1719-4836-B4D2-F8B542DBB4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pply key design princip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variety of layo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tmosphere, set a pace, and build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lete the level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common pitfalls of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EF4E5-3F77-4797-8D5C-E7AF1138917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6DB8D1-6234-41EA-9E97-1B08650EC9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atmosphere, pacing, and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aspects of the level design proce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some of the pitfalls of level design, such as inappropriate scope an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26AE3-D5A8-48D3-B540-0F5D6B26D30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1F51E7-C18F-43D6-9811-534867D455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Level Design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403848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pace in which the game takes plac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itial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t of challenges within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0" y="34290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ermination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terplay between gameplay and stor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esthetics and mood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: constructing the experience for the player using components from the game designer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s create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85D7A-A8B1-45CB-881A-AB96D7B3EC1B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8F4014-815B-4E1B-B079-6BE971785D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the early levels of a game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e player surmounts a challenge that consumes his resources, provide more resourc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early inform the player of his short-term go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F939A-2B04-42BA-8328-592CE1494CF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12393C-7F3E-4B2D-BF25-8F3555AC5C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lear about risks, rewards, and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the player for skill, imagination, intelligence, and dedic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in a large way, punish in a small w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nd more resources (polygons, memory, CPU time) on the foreground than on the backg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rpose of an artificial opponent is to put up a good fight and then lo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multiple difficulty setting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1F22D-E3A9-471F-8946-DAA5775F2D6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C49050-2781-4B85-89FC-9D0CB12FF2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y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-playing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opportunities for character growth and player self-express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risimilitude is vit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hicle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skillful maneuver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D0C2D-52B8-4EAF-89F1-15DD912C603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CD1C6D-DB7C-4DFA-B55E-C66D4B338A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 and management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an interesting variety of initial conditions and goa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struct challenges that harmonize with their locations and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lif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te many interaction opportunities for the creatures in their environmen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ve the player time to think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CAD4E-DD42-4A3B-A672-9509A7E5A5F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538558-BC0B-457C-B80C-B6CA65B7AC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ow unconstrained move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rrespond to the outdoo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in war games and role-play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near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quire player to move in a fixed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 move only to next or previous are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traditionally in side-scrolling action games and 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1320" y="4398840"/>
            <a:ext cx="2361960" cy="1928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62021-4F4C-4826-B2F9-A2E8CBB8B106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117606-CCF0-4466-A72D-5F18936844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45Z</dcterms:modified>
  <cp:revision>242</cp:revision>
  <dc:subject/>
  <dc:title>Fundamentals of Game Design, 2nd Edition - Ch 12</dc:title>
</cp:coreProperties>
</file>