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818BD-E913-4057-8AF4-6E7BA2E8E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yers must lose arcade games to keep putting in mon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2FCAB-DF31-4C63-B5F2-FEC0DD0B9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4D6EC-E320-4AE9-A283-15485E0C2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7B57E-8DFF-4278-812D-67FF4767D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C473A-8E35-47D5-BDB5-A3D44F50D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9B1A8-2D17-4767-95A6-9E88B910A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5DE2E-885D-442E-8B36-2B1AAA879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D07A2-B3B9-4352-9948-824F7C489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FB2ED-FFC7-4900-BED5-2BEBF9D5A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7617B-19A2-4D33-833E-0658D433A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51ECE-E002-43E4-874B-3B0AC4B21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04153-3129-43AF-BEE3-BDBB36BF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47088-2003-4066-B341-90810BE15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69A0E-542A-410F-AA85-2931E4FB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D0F1A-04E5-453D-807C-0907BD1A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87570-B6DB-4948-AB49-0516F135F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58D0A-2E0F-421F-A40A-845C422EF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9443D-056F-4B25-8F42-31289A7C8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2830C-4484-4740-B34D-76B21B10A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358E5-1129-42CE-A95A-DB3CD6D7F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741BA-4972-4957-AAC8-37E3B649F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19BB1-03C0-421C-8231-66E116F8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361F5-AA01-45FA-B8D4-7E60740D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4CD23-8394-433C-B2C3-1670F8B2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5D919-02A5-4363-AE42-1B1B8A3A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3 Action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F0FE7-111D-4835-92AB-523E50306C6A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C69F-88D7-434C-9D13-F9BE8018C44E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9A79D-26F3-44AA-863A-58E246CAC5BB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3: Action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ac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shooting, hand-to-hand fighting, or abstract puzzle-solving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skills such as maneuvering and path planning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74355-736B-4242-8650-FF98B5807CC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7E7409C-C3C1-4C88-9C01-49E707FA9B6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s usually completed in linear sequ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s often grouped by theme and end with a bo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ixed challenges are easier to build, but repetitiou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killed, avatars reappear at a checkpoi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 exits, level warps, and telepor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 exits lead to the next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 warps exit the level and jump ahead several leve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leporter jumps within the sam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A6B48-49C6-4A4A-901F-FAFF8A5ABEB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CF97797-1423-4E5F-AF06-D8E2F544A24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nning your pacing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rainstorm ideas for moments of excit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der ideas by prior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story frame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e key events for intensity, and sequence th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e and sequence story plot poi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the time between high-intensity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aluate the tre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gin constructing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eratively test, review, and adju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F0BE8-CB15-44F1-97F0-169A76CB832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90364AD-2552-4CBF-9FE3-DAAD1762196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s typically faced by three kinds of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ssive obstacle impedes movement without threat (wall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tionary danger attacks approaching avatar (electric fence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tive dangers attack and move aroun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7F5C6-14B7-439B-AA24-154BF549444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6681FCF-0A02-4385-B929-DF8F054E931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v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mies attack in gro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ig boss guards the end of the themed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ildcard enemies break up the predictabi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ed doors partition levels and control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nster generators or spawn points cause new enemies to appe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F6E04-A92C-4EB1-91CF-A07F2505923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2A100F6-1ED3-41A7-A4E6-C7CEFEF72F6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a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utine actions include maneuvering an avatar, aiming and shooting, collecting and selecting, manipulating objects, and fighting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mart bomb clears enemies from the immediate are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perspace escape immediately moves the player at the risk of unexpectedly entering a dangerous are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5E230-0A4D-4D0B-8CBA-402A7AF5149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F0D408A-2CCF-48CF-90FE-4BBA903CDEE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re simple and obvio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ves provide several reprieves from dea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ergy is replenished by collectibles or power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werups increase streng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lectibles are common but not requir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rease the sco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lock secret levels or cause special bonus even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1E1CD-6974-4013-837D-F225B2A9CC1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EC979E9-6FB7-4961-BAFB-8288F191E1C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imer counts down time to events and catastrophes or the amount of time left to finish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core indicates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79C4F-FCCE-4FEE-A0CA-08C35EDC1FF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DE320C0-4CA3-4517-9BD0-DCA09E85FB0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y arcade (or arcade-like) games don’t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ing a structured story means the game will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is most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manipulation model (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etr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) or omnipresent model (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Lemmin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) also us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1727D-231F-43E3-9562-A784044A9FC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3E710FA-C313-49E1-8C23-7075EE36436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 camera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s side-scrolling and top-scrolling perspectiv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inuous, variable, and parallax scroll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first person is tied to the avatar with a limited field of vie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third person lets the player see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ny offer both, switchable at player op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Resident Evil 4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ines these somewhat, moving camera to just behind avatar’s should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780E3-A3DF-47C7-9E54-6710C2CEBC6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3DB80C6-4E1A-4544-B05A-2CD2EBAA91E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dentify the qualities that set action games apart from other gen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the distinct subgenres of action games and their particular featu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the characteristic features of action games, such as levels, lives, and powerups, to design games of your 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sign limitations imposed by placing the player under time pressu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0479F-402D-471F-9FB4-3F6C78FC16B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4F402BF-5F37-45C8-B78E-2C0A016F2F5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mplications of 2D and 3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3D, it is difficult to tell the speed or distance of objects that come directly toward the player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3D games use the environment to present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3D, enemies can hide and sneak up on the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mera moves depending on the circumstan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t a good model for fast action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26240" indent="-31284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udden changes of camera position are disorienting during high-speed act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7EFA6-E800-4C85-9D35-0DB2EDD95F1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D8E957E-BC13-4BAD-9010-D8863AE2DF6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featu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 only as much as the player needs to kn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t on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indicators rather than numbers or tex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w attention to critical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ps and mini-maps can be shown as transparent overlays; keep them sim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olor to identify characters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rols should be as simple as possi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F199C-DA1B-4F48-B1D2-87F87B2D8AA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0443BED-1967-44D8-AF0D-29637F52322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c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recognize action game subgen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d use characteristics of an ac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design limitations of ac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FC0F6-BA87-4AA2-828A-FE9F79C9B9B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39685CE-80F9-42B1-960A-8C39D8AB109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Action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action game is one in which the majority of challenges presented are tests of the player’s physical skil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-solving, tactical conflict, and exploration challenges are often present as wel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stest action games are called twitch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626A7-7ECA-40EF-93BD-72290EF6BDF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E595593-0F2C-4764-A15A-020DAECE3D6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o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familiar and popular sub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use a ranged weap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p-down or side-view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are under constant attack so shoot everyth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limited ammun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realistic phys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24638-6279-4286-9CBD-D15C7C95B58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7DAC8DC-1FF4-49C7-BCF0-387FA8B0A19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oter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utting edge of game hardwa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s are more realistic than 2D shoo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 be first-person or third-person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urther subgenres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ail-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actical 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urvival horro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rena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24319-755E-4586-82F3-AAA525B0C2F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D068DEF-0803-4D87-AC3B-843052470A1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tform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rtoonish games in which an avatar moves through a vertically exaggerated environment, jumping on and off platform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are jum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ghly unrealistic phys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2D side-scrolling games with humanoid avatar are platform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Super Mario Bros.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the classic exam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CE66F-0D84-4AC3-A550-C75D9E0F154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7F44AEA-AEAE-4654-8C3E-4BA5E844E90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ghting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al challenges test reaction time and tim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e hand-to-hand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y use a few ranged weap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wo major categories: one-on-one and mêlée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ious boxing games usually classed as sports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include maneuvering, attacking, and defe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o moves are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is largely 2D in the plane of the video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2C7E0-1D3E-4188-AD91-8095946D534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579B426-6659-44D1-B16E-820C02FD070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st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 player to solve problems quick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e, abstract, limited control s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etr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the archetypal fast puzzl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sual gamers enjoy this sub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al for handheld devices and cell pho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8D595-C999-4B0D-9D7A-FE43E50CBA9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6B60905-7D6E-4E0A-B866-777E58A84EE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-adven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brid combines action and adven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include physical challenge, story, inventory, and dialo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ance and rhythm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player’s sense of rhyth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s buttons to make the avatar d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pecialized hardware common: dance mat, conga drums, maraca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with girl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ss pointless viol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12A7F-13A5-489D-B17A-8D261F5A724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076C60C-7C63-4815-9B7D-2EDC9950CA1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5:17:29Z</dcterms:modified>
  <cp:revision>247</cp:revision>
  <dc:subject/>
  <dc:title>Fundamentals of Game Design, 2nd Edition - Ch 13</dc:title>
</cp:coreProperties>
</file>