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185C-E125-40FA-8E9B-DA7CB3197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ing errors, tuning, and polishing are the same practices any professional uses when crafting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play is the heart of a fun game. The player is the so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74721-77D5-4DA2-ABA2-E9B8A4E69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864EB-E038-4DE7-9C7F-EAFA9DC0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46C29-A746-4CCF-98AA-589B46BE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D22ED-5481-45A1-80DF-C404C4044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B815-1800-426B-9B67-73334E50E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CD5E-12F2-492F-95DC-939DAAAF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7302-FC29-4169-A313-27AA0988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9374-5B7F-49AF-991C-1C73A4DC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BC3C-4E9A-4576-9B6C-8DB7AFD9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B223-D2C9-41F0-9D5C-5A83D753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70D2-8FB5-4D5D-AF36-341BDFF5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37E64-988A-4C8B-91C5-FCF842C3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4E87-6BA8-41D2-BE64-85621F7A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59D0-01AA-4C0E-BB00-EB6AD95A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9A3C-C567-4B9C-AD19-5D45FB0B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3C14-F55E-4BD7-BB86-2611BA8EE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D7F8-FCE5-4F31-B2D6-2E05A154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666A9-BEC5-4F96-B312-55E440BD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F4C0B-5EDC-478D-AEEF-F9AD7323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8FA95-04F3-4213-8C40-B5B0F978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FE1F4-34D0-4D60-8653-1D8E9DF9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A5E60-6A0A-4DAC-9187-5700A23A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8DF33-CF7B-4F17-9D18-5950B910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4DCFB-7C0E-4C21-9888-266352CC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9 Game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C7D8-B5A8-4671-90A6-2DEA864F4E97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9E38-C5DE-4B99-8FD1-DA85303F711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5B27-988E-47D4-A17A-C376C3B693AC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9: Game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coordin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speed and reaction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ccuracy and prec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intuitive understanding of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timing and rhyth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make combination mo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 time available to increas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019FF-5077-486A-BCD5-4D1E797F38E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333249-AE98-4214-A0E6-963138AD7F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c and mathematic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al logic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outside knowledge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increase difficulty, increase the number of objects and the ways they can be manipula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normally get all the time they need to sol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puzzles that can only be solved by trial-and-err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hematical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s require players to reason about probabil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educated guesses with imperfect knowled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8CD1C-E910-4C34-BF6E-FBB6DDA1B3C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BBF006-F945-491C-AA91-7619FE8D14D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ces and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first to accomplish a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combined with other types of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 pressure increases stress o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ual knowledge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rect tests of factual knowledge usually occur only in trivia and quiz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ther kinds of games, all facts must be present in the game or you must make it clear in advance that outside knowledge is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5EF99-27F6-42C9-98C9-99CC80196A5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67F2F2-A57F-4AAE-92C9-89942B9523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mory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all things seen or heard i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it easier, give players longer to memorize and test them soon after they have done s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ognize visible, audible, changing, or behavioral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increase difficulty, make the pattern longer, more intricate, or more subt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82DA8-0165-4CAB-BD4A-428FFD50EED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57B159-361F-4F4B-BAD0-0973EE5C12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atial awarenes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learn and navig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decrease difficulty, provide a m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obstacle that prevents the player from proceeding until he disabl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unmarked switches far from the do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663C9-6139-44E8-AAAA-2C201C1E9E9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858D3F-7483-4096-A3D5-ABEB3551D7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ice that harms the avatar when trigge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n comes from outwitting the tr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zes and 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ry place looks alike and player must discover relationships between the are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implemented as logic or pattern-recognition puzzl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E44B2-9625-4626-B777-83747FCB778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E860E5-FFCF-433D-92D9-D07CE0CC1BD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sm that transports player to a new lo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make the challenge easier, make the teleporter predictable and revers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ing hidden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reasonable places player can deduce from clu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obscure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Easter eg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are special rewards in particularly obscure loc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781A6-3ECB-4805-A6AD-AFEA738B72C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3C151E-E5F5-4174-964F-37A646B42F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direct opposition of forces, some of which are under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 challenges can be broken down into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c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rvival and reduction of enemy fo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ding vulnerable items or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8244A-9B06-4757-BAD4-52827CC99E2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8E3617-EEAC-4FCE-A9F1-35D5070EC4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ehavior of resources creates 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mulating resourc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wealth, points, or anything valua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ing balanc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a more interesting challenge than simply accumulating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ring for living thin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hallenges the player to meet the needs of each individ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F08EF-147C-458C-BB05-3A6F399E2D1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0EA45F-B57D-43D4-9184-F5B738FBFCC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ual reasoning and lateral thinking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reasoning puzzles require reasoning and knowledge to solve a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ral thinking uses extrinsic knowledge in unexpected w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84778-B161-43DB-BA2D-98FC9B1C6C8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66D553-A230-46CD-AD4F-047A97F3B4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basic principles that a designer should follow to make games fu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hierarchy of challenges requires players to complete atomic challenges, sub-missions, and missions to accomplish the ultimate goal of winning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quired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nd discuss how these factors contribute to the difficulty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6CE56-618A-4904-9CFB-5B1BDA0124A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D6D113-A581-4F1B-B634-B144A75420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fo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intended to mee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fer fewer actions than challenges to limit size of user interface and animation co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can address more than one type of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ased on player’s role and actions to overcom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E9110-6FA6-4F63-9AE5-04EC2362657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F2203B-735B-4CE0-835D-061A2EB575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that serve other fun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not related to challenges include actions for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structured 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ion and self-expres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ticipating in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ing the game soft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B20D2-B904-4CD8-BC50-FF8E53F0E50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93D385-4647-4957-BF33-21AD9EB109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son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leave and return la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player recover from mistak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courage player to try alternate 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equences for immersion and storytell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rm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s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3B9C5-7074-472F-940C-5BBB58058AB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FEE716-9B84-429D-B509-2A17956986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ays of saving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word to restart a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e to a file or save s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uick s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ic save and checkpoi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ways allow players some way to save and rel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D4F9A-13A7-4B09-9FE4-C7552E794EE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28AA42-A32E-48BC-AF7F-80845E576F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the heart of a game’s 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can be organized into a hierarch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and stress determine absolut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ly used challenges test different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w actions can be used to overcome many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allowed to save and reloa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5398F-AB17-4D51-BCDD-2CEE302738C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141CB7-2E27-4F43-844D-8DFB4337A76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challenges commonly used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 in the context of the game world and describe how actions are selected to meet specific challenges or serve other function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arguments in favor of and opposed to supplying a saving mechanism and explain the most widely used method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021C8-7DDF-4B18-BFEC-C37F247429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71D29C-3582-4C62-8D9A-F3C3B617667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ecution matters more than innov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ief reason a game is not fun is that it contains elementary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pects of game development that contribute to fu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ing errors; basic craftsmanship is most import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ning and polishing is seco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Imaginative variations on the game’s premise is thir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True design innovation is only 5% of the source of fu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13B43-82B1-42A3-AE70-96AFB13305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FF6EF5-26E7-4F44-A819-C17B943EA4F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nding the fun facto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mes fir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t a feature right or leave it ou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around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now your target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or automate parts of the game that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ren’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true to your 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ive for harmony, elegance, and beau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ED964-68DF-4ACD-BBD9-CA7F12D6EF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F68F7A-EFFC-42DD-AA60-BC407C739E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y from lowest to high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omic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-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13725-36CC-4C2E-AE4D-7C5C82016D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022095-40E6-4545-AF7A-F9B03ED0875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forming the player about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tell the player about explici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discover implicit challenges on their ow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icit instructions are given about the victory condition and lowest-level atomic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mediate-leve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st interesting games offer multiple ways to w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gnize and reward victory achieved no matt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h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achieves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95076-5418-4E42-9D5F-D4EE9BE040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59F355-885B-4C48-BA5F-303EF8DE89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taneous at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coming several atomic challenges at the same time increases th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way of doing this is to bombard the player with enem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games (such as management games) present more complex interrelated simultaneou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re simultaneous atomic challenges a player faces under time pressure, the greater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t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BBD31-FA2D-49F2-97D9-E71AFF12943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26BC2C-FDE8-40E5-A9D8-88F4C3F0677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kill, Stress, and Absolute Difficulty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 required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skill needed to overcome a challenge in an unlimited amount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effect of time pressure on the player’s ability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skill required plus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43CBF-016F-41BD-A7D5-5EAF73896BE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49847E-5451-4DA8-9018-70E6FC2A82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7:59Z</dcterms:modified>
  <cp:revision>185</cp:revision>
  <dc:subject/>
  <dc:title>Fundamentals of Game Design, 2nd Edition - Ch 9</dc:title>
</cp:coreProperties>
</file>