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9027F-32CC-4C67-B404-9DB5A4C65C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of anomalous time: In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heme Par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visitors to the park appear to stay there for months according to the game clo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details create a rich game world. However, the player can’t micromanage everything. Make sure that the player’s role doesn’t become bogged down in managing unimportant detai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BE07EC-873F-4D32-BABF-3879C1A13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D075A4-A060-4AA9-A6DF-6CC0688C2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966FA7-D28E-4DF9-911C-9F837A8B7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A15383-6EF0-4AAE-A4C5-47ECFA7F2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E76C0-D051-493D-8B59-70574241C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925E5-8332-4D86-B334-8F8ED1478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93B46-708F-4DD3-934F-728960939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09C03-2655-491B-8306-B3D2FB526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25236-3483-4A17-9031-F6436B6DE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04234-C1B6-4B7B-AC9C-70B3C6179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A0975-BF5D-437F-A09C-E49D767CB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ACE9EC-0F6B-4EC2-A18B-9AE9759D6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EF3DC-C296-47F6-88F5-6A28E78D5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2B69E-B884-4E38-96FF-20F7B1D3F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81F8A-069A-465B-8042-901180CFF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5D001-2EB1-4EC4-AABD-D1D09B1AB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FD9A4-BF70-4BA7-AC38-285C288DD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46A454-1347-4A6F-84EF-A9AD843E9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8D2285-29CA-4C96-840B-374BA865E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61D3D8-9094-43C6-B6F9-86C424BB6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681C1A-1CF6-4EF2-8A46-A46B52111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9585FA-BC51-470D-845A-1F82CFF17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6B878E-55A2-49EC-AFAF-CCD7E145A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0AA847-1B80-457B-87D5-BE323B71F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097080" y="6248520"/>
            <a:ext cx="3308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4  Game Worl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8C04D-85E4-4768-B1BA-2ACD8007C9C2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FCF11-5193-47AE-AFB9-8D55FB95935F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0E8F6-CB31-45FB-ABF7-3B77CA0221A7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4: Game World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emporal Dimens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s the way that time is treated in the game world and how it differs from time in the real world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riable ti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g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me time usually runs faster than real time, and jumps or changes ra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nomalous ti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t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me can move at different speeds simultaneously in different parts of the gam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some games, the player can adjust the speed of time in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0D273B-3D8B-47FC-814C-2379A204D33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A455377-D6C6-4580-9AC0-4BD436FE363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nvironmental Dimens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s the world’s appearance and its atmosphe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rms the basis for creating art and audio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cludes cultural context and physical surrounding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F7D25-1CB0-4BA2-BBC6-30EB9646E81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832F3A0-12E2-48FD-B2B8-D3D1E0CAA7C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nvironmental Dimension (Cont.)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ultural contex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liefs, attitudes, values, political and religious institutions, and social organization of people in the game world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fluences every manmade item in the wor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r interface and backstory should harmonize with the cultu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482C58-E24B-43B2-B710-B0D3DF532D5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2495746-723B-457B-A1B9-1B085F45BDC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nvironmental Dimension (Cont.)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hysical surrounding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lude every manmade object, natural object, and sound in the game wor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t the tone and moo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y to make surroundings uniqu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clude as much detail as possible until it hurts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yle includes both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ent of the world itself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hat content is presented to the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95DFD4-039B-409B-92C6-0637FF3C3C1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A2D62FA-FB03-4DA3-836E-74ED5777F23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motional Dimens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motions created in the play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motions can be caused in several way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acing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teracting with the charac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ore sophisticated games move beyond “fun” to richer emo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oid “paint-by-numbers” emotional cont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C38153-206B-4122-BBFD-2D3450705F8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22EC3E6-3CFC-4A29-AF3C-52D82C82FA7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thical Dimens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s right and wrong in the game world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art of the culture and history in the game worl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uild richer, more involving games by giving players tough moral choices to mak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oid violence for its own sake; give it a purpose and contex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f game world ethics are unrealistic, make visuals unrealistic also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39AA40-3CF2-41E2-842D-2DE550487B5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E3E4388-6341-41DC-9FA4-124700A6120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Realism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ll games, no matter how realistic, require some simplific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gree of realism of any aspect of a game can be found on a continuum from highly representational to highly abstrac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vel of realism differs in individual game component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n have realistic physics but cartoon graphics, or vice vers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D0D7AE-7F3B-461A-BD44-63C4EDF4D8DF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EF6C789-F504-482A-9F94-C874A975FE7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ing the purpose of a game wor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ing the physical dimen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ing the passage of ti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stablishing the environ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ing emotions in the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termining ethics in the game wor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stablishing levels of realis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91AD72-2E6B-4C36-9C9C-7E7F24037DC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CEC2CE4-CBA0-46F3-91AC-7A66E77EFC3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various dimensions of a game world and understand how they affect the player’s experience of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a physical model for your game world, including its dimensionality, scale, and what happens at the boundari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ain the relationship between game time and real time and decide how time will behave in your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595012-85D2-4FFA-B67D-65A5834C405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9FC9CD8-029F-4E83-982E-05D4A6B217A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eate the culture and environment of a game world, set the level of detail, and define a visual and auditory sty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some of the techniques for influencing the player’s emotion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B72CD2-26B9-46C1-9E75-08AB34CC23D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D9E5E8C-213D-4F20-A4C1-32E5BFE8549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e aware of how the ethics of a game world can differ from the ethics of the real world and the implications for public acceptance of your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multidimensional nature of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realism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as it applies to games and how it affects the player’s expectations about the experience the game will give he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53FCE3-E6B5-4130-A616-1B5D9C4130E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5D205C8-803B-48B3-A528-3E8D105B340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a Game World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maginary place in which the events of the game occu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esented by images and sound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ot all games have a game world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game world can have a culture, an aesthetic, a set of moral values, and other dimens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C2DDC9-84A1-4169-8CB4-11BF0B5243F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31E23CC-E053-4C7F-8DCD-374B04DB825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urposes of a Game World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ntertai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eate and sustain interes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ll the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5867CE-572B-4B29-9588-213AEC7FF49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BA2F50C-8BDD-4C1B-A232-EBA7B03AF4D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Dimensions of a Game World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hysic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empor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nvironment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motion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thic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71ED31-FEE7-4955-801C-7FD7071F914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4A355B8-892E-4D67-B166-4A925DC0A96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hysical Dimens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mulated physical spa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ized by dimensionality, scale, and boundari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21C52D-7247-4D4C-8F96-589DE5AC9F1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08BD531-1AD9-4471-B3C6-1600739E26C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hysical Dimension (Cont.)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patial dimensional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2D, 2.5D, 3D, 4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3D is now standard on PC and consol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ca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bsolute size of the space and relative size of objects and peop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ffected by choice of camera mod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oundari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establish a credible “edge of the world”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8A807F-6DEC-454A-8E2A-3FDC903C16F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95D097B-F0D7-4DB6-A1F9-B7F32715C31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5:02Z</dcterms:modified>
  <cp:revision>133</cp:revision>
  <dc:subject/>
  <dc:title>Fundamentals of Game Design, 2nd Edition - Ch 4</dc:title>
</cp:coreProperties>
</file>