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C4B64-423B-4B8B-902C-8DBDDC7E80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B0171-87F6-4A61-A9EF-EB526F758AC4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37EB1-B075-4AF2-B3A2-B268D0728D8C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DA0C0C-CAA1-4D9B-8527-2549E434D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6F94F6-A7B1-44FB-A898-27A0FF9AA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2C89E6-1DC9-4593-8A3D-7440F96D2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29D7FB-B8E3-4547-90C3-71B908291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8D0D8-48C7-4998-8963-6E595E316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694F9-CACE-42F7-9C5D-837346AC5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81D1C-0633-4133-94F9-F5A41B2D5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92FD7-24EF-478C-9CC3-ED1D2864E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597AB-7A7B-47DE-8BA5-94F7535AB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2783A-F35C-447D-B555-A5DB50EBF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5FF78-1491-4CEA-90D5-E73E8C20B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3B11CC-E712-43EF-93E6-77B5E51AB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4D935-81E0-4C35-A639-F5ACD6547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CCF71-787C-446F-A0F2-254F25CC7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A291E-54FF-4ADE-9DBC-2B0647462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C99D3-D54A-4814-84A2-7EB2A67AB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1B117-B269-4F34-90E1-AEBEFFAB6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4F8F7E-7AFF-435C-A435-97A649CD1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7E468C-1109-4911-93FE-C0ADE1407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BFCA59-0DEF-454B-AE61-52AE3F313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0F9F21-21FF-419B-87CC-953DABFAE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B92772-EAD2-4B21-8F8F-2C8140AE1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FBD4F6-C0E0-4B39-99A3-0A74D74A5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E6B39F-9062-41D3-B0CD-59BFE88BF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098880" y="6248520"/>
            <a:ext cx="3759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20  Artificial Life and Puzzle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6A08F-6FDE-4342-B178-D09BD9AB7684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7200" y="6244920"/>
            <a:ext cx="26416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</a:t>
            </a:r>
            <a:r>
              <a:rPr b="0" lang="en-US" sz="1400" spc="-1" strike="noStrike">
                <a:solidFill>
                  <a:srgbClr val="6699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582CC-AD32-4C9E-8D46-55A47C122B16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2BEC8-6337-426D-A9B8-D905C02A6FCB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TextBox 12290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20: Artificial Life and Puzzle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od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racterist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is a god with limited powers who gets more power from simulated worshipp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mnipresent interaction model and an aerial perspectiv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y often share qualities with CMS (indirect control of population) and real-time strategy (compete directly against a rival god)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6FC018-E5C3-4F7A-99F8-71B0E8091D8A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0EF458C-F569-4652-8A50-22DCF9802CD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od gam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economy of god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’s power (mana) grows with the number and prosperity of his worshipp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ize of the population influences the maximum amount of mana the player may have and the rate at which mana is restored when it is below maximu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ositive feedback can be limited in various ways: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eople do not reproduce instantaneously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Making land suitable for population growth costs mana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Mana cost of using higher-level powers rises exponentially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CDA105-090B-43C0-972A-EF153CA51ADE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974676C-754D-48E2-B3E1-4B9423627F1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od gam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play in god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rimary challenge is to produce population growt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e must also damage the other god’s worshippers and repair the damage the rival god does to the player’s peopl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design a god game, start with the question of what powers you would like the god to ha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god game needs a lot of interesting animations for the peop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86F2BE-39F6-48D3-8727-2C8DEFE3F860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5EF84C5-7387-4CB1-8EF7-0EC4C294944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etic A-lif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racterist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y are about managing a population over ti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tries to achieve goals for the whole popul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an’t concentrate too much on individual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ing a geno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enome defines the creatures’ inheritable characteristics such as eye color, hair color, height, etc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lleles are traits inherited from each paren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26240" indent="-31284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If parents have different traits, usually one wins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brown eye allele dominates blue eye allel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1DBBF1-35DC-43A1-821D-D979CF8F3FBB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77700BC-EE5E-4EF5-B0B7-A808DCA1B8C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etic A-life gam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t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hange to the gene caused by an environmental facto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utations may benefit the population by introducing random new values into the gene poo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ife span, maturity, and natural sele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ach creature needs a natural life spa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 evolve through natural selection, creatures must have a time of immaturity before they can reprodu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Genetic mutations that cause death in children do not get passed on because children do not reproduc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A3D638-2845-45CB-9304-60752EBC44E5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243DB73-17FB-4483-A5FA-612B4CD8A11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etic A-life gam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at does the player do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reate new individuals and add them to the population to see how their genes influence the popul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dd and remove environmental hazards that would weed out certain gen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 with the rate and nature of mutation by adding or modifying mutagenic objects or areas of the environmen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te individuals to select for particular characterist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84A06E-EFA0-45B8-BC17-9479B9F46C1C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54C0FE3-A06E-46B4-8E53-05C5C3131CE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uzzle Gam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ist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puzzle games, puzzle solving is the primary activ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zzle games usually provide related challenges, variations on a the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types of puzzles offered include pattern recognition, logic, or understanding a proc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uzzles give the player clues that have to be solved to meet the victory condi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EE45C5-2A73-4B7C-9A5D-8DCB5CAC96DA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E23F7D5-28F6-45A4-B2A4-C22706387BF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uzzl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631960"/>
            <a:ext cx="4038480" cy="36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nd inspir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plif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 a construction se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e the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48320" y="2631960"/>
            <a:ext cx="4038480" cy="36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struct the puzz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s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vise a sequ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y attention to present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" y="159876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cott Kim’s eight steps in puzzle game design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38BBCD-F6C8-404D-891A-00447FAFC4F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669A280-5375-4120-8248-521F7EC3217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uzzl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hat computers bring to puzz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nable nonphysical or awkward mov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lude computation featu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nforce the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cord player moves and undo the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ucture the experi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a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bells and whist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nable online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73A476-A39B-46AA-AD81-A420412ED57B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28F4D45-FBD7-400F-B3D3-D05157CD2A5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uzzl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ecking the victory condi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th to the solution might be different than you plann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eck the solution, not the way it was reach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2F22E-8FDD-4AAD-A8DE-0F5CBBC6F368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2E09A88-26DB-4ECD-867B-D9D517B887A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ifferent forms of artificial life games and simula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 basic artificial life system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steps to designing puzzl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player’s needs for puzzl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651D51-0AEB-4EA6-B53F-B94AE7BAF4A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5B2475D-DB0A-4C3F-9323-B38E1A67C99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n artificial life game and simul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basic artificial life syste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the steps to designing puzzl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explain the player’s needs for puzzl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F1CD8A-30C9-42E8-BEF8-80AD6A0463EA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C001E26-E78D-4906-8B74-72C9C18F72B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tificial life is a branch of computer science researc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-life involves modeling biological process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-life is the study of emergent propertie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  <a:ea typeface="Arial"/>
              </a:rPr>
              <a:t>—unanticipated qualities or behaviors that arise out of the interactions of complex system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  <a:ea typeface="Arial"/>
              </a:rPr>
              <a:t>A-life games typically focus on maintaining and growing a manageable population of organism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EFCA6A-FE0E-4BE5-A64E-2B88DBC9280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25D305D-C943-473C-A464-A4D9CFB8DE6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tificial pe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can be simulations or fantasy pe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most always cute; seldom reproduce or di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play concentrates on training, maintenance, and watching the creatu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t needs a lot of AI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Variety of triggers and behavio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how the pet's emotions through behavio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AE2979-5DE4-4761-AA05-2400DF6539DC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B78E576-401C-42A7-B16E-668678A5A5D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tificial pet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influences pet's emotions through intera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t should interact meaningfully with other pe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t must be able to lear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ich AI distinguishes artificial pets from other A-lif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tificial pet is a software toy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 victory condi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E3378E-6118-4C14-A738-4DCD64CFEA3B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5F1591C-02D8-4644-8252-FA2E99215D6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The Sim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controls the sims physically and indirectly affects their relationshi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ach sim has a personal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oss between an artificial pet and a CM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g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me has an econom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83B20A-6766-4243-A04B-76943B727D5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5C4A69C-1DA4-45E9-8B3B-1B9C97DE9F8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The Sim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ee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ach sim has six needs that must be met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eeds drive the sims' behavio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eed-based AI is the heart of most simple behavior simulati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kil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ims (in the first edition) have six skills they can improv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ims teach themselves skill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ime management is critica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D34B65-706A-4B57-B6DA-7761B25B3F3D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FCB7724-2A80-40D7-87BF-5D995AA78D9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The Sim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rsonali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ame tries to simulate relationships among individual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Variables define each sim's personality and how they react to each oth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uccess of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The Sim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is based on the unprecedented scope for creativity it offers and its emphasis on interpersonal relationshi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144F6C-7B9B-4328-B505-FDE5AEFA418F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9B09CA5-7EA0-43D6-B321-23AA89C3573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ing affinity between two character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“I Can’t Stand” Rule – A character cannot stand another character who has an attribute above a certain thresho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irds of a Feather” Rule – Characters with high levels of one attribute are attracted to others with a high level of the same attribu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pposite Attract” Rule – Characters with high levels of one attribute are attracted to others with a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low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lue for the same attribu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307BE8-CCCB-44F6-8A8C-AC9DD14F59D5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F8706C5-1125-4C2E-AE76-F4AD1C6F28D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12T13:24:51Z</dcterms:modified>
  <cp:revision>528</cp:revision>
  <dc:subject/>
  <dc:title>Fundamentals of Game Design, 2nd Edition - Ch 20</dc:title>
</cp:coreProperties>
</file>