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7A0F-E232-4A84-A765-445A51F621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ities resemble data structures in programming, but designers should not concern themselves with coding deta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F20BD-2E5D-4077-8B1B-7322332AE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34149-44D4-4F5D-89B7-630F36ADE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EC57C-29E7-43FD-A85D-ABB4EAA8A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A6A22-5FB9-4E61-B393-F7F2A95E6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AEDC8-0E8A-418C-A239-A3B9EE429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90D29-23B8-4B04-843D-A143718AD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659D9-8ECC-4386-B07B-DCBA20B7A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F4A4C-C6B7-4443-9982-913B31597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66755-8616-406F-A4E0-AAA317CED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4268E-F496-4408-B1DF-84D35BDB6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78996-DED5-431D-95C1-363809FB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4BD46-C8D9-40C5-B11C-F8D73BDBF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D8675-0988-4F99-AA75-24641BBF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37884-7FFD-48F6-AD47-4044E87A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AAE7B-59E7-4637-BF82-99674390A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6F48C-2899-4CAD-82C3-7D24F1D7F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3F99B-F3D3-4049-A03C-B4579BB6D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BFA0A-0136-4F5A-A068-75C515851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52D78-F9A2-4BE0-B906-2D5C50751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48199-097E-4BF0-9B09-66B77BD27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C3227-6681-455F-90A1-B51085A44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DEB22-E55C-449F-B677-53D5C8BE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8D360-C1D2-4FAB-AEDD-AAFCA219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FA088-8EC8-4835-9980-4EC17CF3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0 Core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FC40B-6449-4718-9BE2-22B60290F7A2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BC30-9F29-4EC7-8A28-37F20517B20F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F6626-E137-41C4-9D77-0A28C5448F9A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0: Core Mechanic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umeric and symbolic relationship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numeric relationship between entities is defined in terms of numbers and arithmetic operation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values of symbolic entities can’t be added or manipulated mathematical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must define how symbolic entities change st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ymbolic entities can control mathematical operations on other numeric ent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A9A48-F7DD-464C-962A-4BEF4BF7A92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8273CF4-11CE-4E77-B441-883FD7D7F3F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tity Exam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09480" y="1450800"/>
            <a:ext cx="7925040" cy="464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3C54E-A37E-41EA-B618-D3ADBD84812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1A3DE33-257C-4358-9C25-ADC0EA2A0AC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ourc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a mechanic that defines the way that a resource or entity comes into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“Go” square in Monopoly is a source that produces money according to certain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produce resources automatically or when started by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be globa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be limited or unlimi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7B9FA-3FB2-43A0-A5AF-96C1C4B9E34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B34496E-D77C-40DB-BB54-65B417395A5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ins remove resources from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verters turn a resource into a different type of resour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ders change the ownership of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duction mechanisms make a resource available to play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C747E-6C2D-45EA-8B0D-A4B2EC2761C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250BDC6-5808-4CBC-8940-3EAB8E6DF08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sources can be tangible or intang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ngible resources possess physical proper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angible resources do not occupy space or require transpor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 feedback loop, a production mechanism requires some of the resource that the mechanism itself produc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a problem unless the system runs out of the resourc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is produces deadlo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591DF-251F-41EF-AE5C-038D5A058DF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1A772E5-31F0-4E22-B4A0-65AE4127754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wo production mechanisms that require each other’s output as inputs are mutually depend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static equilibrium, the amount of resources produced and consumed remains the s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dynamic equilibrium, the amount of resources produced and consumed fluctuates cyclical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97781-D58C-4C82-A6CF-2C3CF68C5E4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1E368C9-54A5-4A5B-A2D1-D17FFD2AE86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and Gamepla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present challenges to the player and accept actions from the play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implement the mechanisms to operat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perform tests to see if a challenge has been surmounted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ssive challenges (such as static obstacles) do not require mechanics to oper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ve challenges require mechanics that implement their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72E38-69DE-4FF0-B37E-810A22B974C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4145B87-285B-42C0-84CA-4EC3EACA608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and 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and the cor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available to a player normally do not change much from level to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ions trigger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licated actions may involve manipulation or storage of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this case you must create both an event mechanic that implements the action and an entity that stores the dat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490A7-CA8F-42D8-9269-FDF1AAC46A5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F23A542-0F27-48D5-AD69-9543E46CCE6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als of core mechanics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t simple and elega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generalized systems from patter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iterative refin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try to get everything perfect on pap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a prototype, test it, and refine the resul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cuss with programmers the level of detail they need in your documen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DD32D-F9E4-492E-93AC-A18F7D33AC9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FF86217-F94D-4A68-964F-D1A897C9E16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visit earlier design work on the project to identify entities and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uns in design documents will probably be implemented as entities or resources or bo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bs are actions that will be implemented as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” and “when” statements identify conditions that trigger and contro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C2C65-FFAB-4D44-8BEF-ADAAA5CDB2B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0FA3C83-B58B-4204-92B0-529DA41B772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the functions of the core mechanics in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key components—resources, entities, attributes, and mechanics—that define how a game wor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a game’s internal economy controls the way resources and entities are produced, consumed, and exchanged by sources, drains, converters, and trad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27D3E-6540-41BF-AF2E-38845652F53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58BF903-36D3-4B98-85EB-379CC9B2C5D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entities and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es a noun describe a resource or an entity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an entity, is the entity simple or compound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a compound entity, what attributes describe it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7A4CF-D889-412F-B138-E4DDECD88BB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86C6323-9CF5-4CCA-8993-939A8832F14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 th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member that mechanics consist of relationships, events, processes, and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nk about your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udy your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alyze challeng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ok for globa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F9C40-8B5F-4B6A-937A-DF47D8C8D4C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E6B11F5-37D0-4148-83F4-BA73D888561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Random Numbers and the Gaussian Curve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 pseudo-random numbers, a seed generates the sequence of random numbers produced by the algorith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uniform distribution, the chance of getting any number equals the chance of getting any other numb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metimes you want certain events to be rare and others to be common – for this use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non-uniform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tributions of random numb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22D0C-9975-4FE8-AF91-D8906B6132F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40002C9-7999-4919-A58C-C1DC69504AB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Random Numbers and the Gaussian Curv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generate non-uniform random numbers, generate multiple uniform ones and add them toge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ding 3 six-sided dice produces non-uniform values between 3 and 18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10 and 11 are common, but 3 and 18 are very r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ing nonuniform distribution creates a Gaussian cur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A7E1B-8175-4D7D-996B-5A845F5C414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5232721-79F4-4CE4-BF8F-D81376A87F7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onte Carlo Simul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means of testing a complex mechanic to see how it performs in different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e your mechanic hundreds or thousands of times with different random values in the entities it works wi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alyze the results to see if the mechanic is performing the way you expe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ften you can do this in a spreadshee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778F5-9A0C-47E4-9502-0A799A3AD21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8DCBEE7-D719-4D5A-92C4-C770916284E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core mechanics fun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resources, entities, and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nage the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core mechanics affect game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nvert your early design into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generate random numb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use of Monte Carlo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B2963-1742-463B-8803-4B1FCBE4CFF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22BA43F-D2EB-46FE-B324-51BDE975FED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how the core mechanics implement both challenges and player actions to manage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to design the core mechanics of a game by writing specifications to document the entities and the functioning of the mechanic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to use random numbers in a game, and test with Monte Carlo simul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14C94-234B-430B-8331-14C20EDA968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46106E7-F1D3-4859-AE83-5ACC28805F9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consist of algorithms and data that precisely define the rul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ation of mechanics varies as project goes through desig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does not experience core mechanics direc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game engine is the part of the software that implements the game’s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138E5-A8BD-43AB-959D-2C5FC765D02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83B603B-E04B-45D2-9D40-9BAB4AB7B4B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nctions of the core mechanics in ope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erate the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ent activ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ept player’s actions and determine their consequ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ect victory, loss, and the termination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erate the AI of  nonplayer character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witch the game from mode to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nsmit triggers to the storytelling eng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85AFE-FD8C-45BC-9BF4-D5E4635F74C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D1744CD-8A6E-479C-B3A2-37F9F5B7849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l-time games versus turn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a real-time game, many mechanics are processes that operate continuous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a turn-based game, mechanics compute the effects of the player’s actions after each tur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nd level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should specify how challenges work in general but not which challenges each level will cont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C6F45-318E-4595-B421-ECD8AA1938D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E08EE64-D0E1-430D-B05A-58E7ADFC63B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resource is 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yp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of object or material that can move or exchange within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sources are handled as numeric qua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define how resources are used or traded and how they enter and leav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te: resources are not objects but types of obj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ncils” are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pencil” or “these 3 pencils” ar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entiti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501B1-5E8F-40C0-9033-3A5F97D79DF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A85CB57-664C-4297-AD44-AD68E4707B4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entity is an instance of a resource or the state of some element of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simple entity is defined by one datu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.g. Points scored in a basketball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compound entity is defined by multiple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character in a role-playing game has many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unique entity occurs when the game world contains only one entity of a specific typ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football in a football game is a unique entity – there is only ever one in play. It is compound because it has several attributes: position, velocity, and sp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F1E5B-39B3-4BB7-BA2F-DDB90C657D1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E0096D5-E63A-4BE0-BEBF-ED5C9FC385E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chanics document how the game world and everything in it behav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es the relationships among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lobal mechanic operates throughout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ntifies the events and processes that take place among the resources and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cks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condi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that trigger events and process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2210F-2837-4013-9BC1-9A0D04D69D1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52350FA-2E2B-4C28-8583-E8CA25DFAF6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8:33Z</dcterms:modified>
  <cp:revision>197</cp:revision>
  <dc:subject/>
  <dc:title>Fundamentals of Game Design, 2nd Edition - Ch 10</dc:title>
</cp:coreProperties>
</file>