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658BB-FD3F-48F0-A693-43F54CE20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AFE53-31F1-496F-9D1C-3F733792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873BB-8648-4D89-B9F2-CBDBC52BA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31331-6ADC-42DE-AEE4-B0FCC3374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64E9-2721-4A46-B87D-413CAD97C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A360-9A10-4C17-BBE9-9597129D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1211-9FBE-429C-855D-4C8218EB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FBE3-D3E6-48CC-8630-C826B245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AC2E-418C-43C0-99DA-B2764712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CB95-A7BA-4F75-AB8D-910CA5D5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EBA2-61CF-40F7-AE12-711A5986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73EC1-4990-4C70-8FA2-2DAEB6F4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F9D1-8C6D-4072-9570-8D9ADC7B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8DF4-53C6-4D0B-9D48-4332040D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06A8-3E9A-4FE6-999D-24167553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84E0-B39D-494B-BDF9-8E3304528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9B5F-9E5C-4D94-87B5-B9279790A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770F5-A26D-4259-8C80-9313FC7E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B7685-61F6-4FEA-A034-6D71FE42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47384-D2EE-4F9D-8B2C-120B19C6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7CCFC-FDC7-4254-8401-8921FF3E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67E85-6804-4044-AF1B-43CB7212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9D3DE-1AC9-447A-A984-62374C25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372FE-151B-46FA-9B91-748B08A3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5 Role-Playing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27F1-995E-4C4A-8F70-38C882772BC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B570-6BDF-4A84-B5A7-0691E467DD7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70BD-2D50-4874-97B5-FC9E6958298D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5: Role-Playing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and comba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tions include setting a destination, designating an NPC to attack, and using special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vers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u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s dialog tr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d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y and sell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vento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ge carrie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A6BB5-529B-4281-8AFF-9578F3F2588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733FB5-04B9-4ACB-8886-5C2CA78D88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olling di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k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w the probabilities to get the result you w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termine general abilities and qualities; change infrequent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x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cla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, mental, moral, and social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0AF6A-D9D7-44EB-AF62-C38EB373CAC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EA9FEE-D9F4-41E4-8A87-E828ED074F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, experience,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ributes that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points and character level  measure the character’s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smetic attributes add richness to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9653F-CA5F-40BE-9502-70EACB23A48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75C18F-B2D2-450D-A23A-098EFBB1D4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gic and its equival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 that allows characters to influence the world by means not available to us in real lif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ience fiction implements magic as “advanced technology”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of magic restricted by character cla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magic, how it’s invoked, how it’s 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often spend magic points,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n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ana system is more convenient and flexible than the D&amp;D “memorization” syst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192E1-32CC-4D9F-831C-F9AAD979BA4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A2195C-C9D6-4AC3-9105-EB9FAC3B70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kills and special capabi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taining new skills for a character is similar to upgrading a unit in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trees provide a growth path similar to a tech tree in wa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RPGs allow the player to create the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l dice to generate points to distribute among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66C68-E389-43D7-8D75-1DD0313AA06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7A3BCE-3325-46B0-9DEB-28D1E2D707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nd to be fantasy and science fiction sett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appealing to explo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RPGs provide an editor to enable players to create scripted adventure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85FDD-8027-42EF-8150-EB8F2A2261D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D04CD7-4776-467F-9AFD-F079462AA8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, determine the game’s overall ques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, design the episodes that the player experiences from the beginning to the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e an enticing ope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99B6A-5DE1-47F7-9544-342DDA56346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D4C775-9146-4101-A406-4104F2D59D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 in single-player CRP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-based is becoming more common, howe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 in multiplaye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person or third person for avatar-based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allows player to see all members of the party at once as well as surrounding ter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E65AE-9011-4026-87D1-ABAAC4D9670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409E71-2FA5-4F93-AF97-BF98EBE1D9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de range of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terface can be complex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de the mechanics to aid the player’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ve task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nstead of making the player try repeatedly, automate the repetition and sho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progress b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character has low skill at the task, it will take a long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the player to interrupt and abandon the attemp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FE595-5C6D-4FF8-8BB9-739BA190750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E061BB-F445-4A38-A5BB-A35C963B3B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role-playing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evelopment of the role-playing game from tabletop to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a world and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xperience points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gameplay modes for 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95C73-64A4-401F-8F37-0DECF53D6D5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1C8749-76E3-48E7-A487-71B1C5CCDA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role-playing games and the game mechanics common to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history and evolution of role-playing games from tabletop to comput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character attributes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E42D3-5018-42DB-B60A-D0970B262E5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A2B9DD-904E-4510-83E5-F2BAE406AE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world and setting suitable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use of experience points and character level for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gameplay modes within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AF73B-591F-4081-AD71-86F1CA4347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B1EBC1-D9F3-4908-A267-07DD4EC515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jective is to experience a series of adventures in an imaginary world, through an avatar or a small group of characters whose skills and powers grow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sential parts are the quest or story and character growt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ctory consists of completing th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just enjoy exploring and interacting, even without trying to w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8CAC0-289A-4F3C-94ED-6916898606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69D445-AE23-453E-A6D4-CB8FDCF085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types of challeng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gistics (managing supplie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grow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sol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FE6CA-90BB-493D-9D17-8F6888F4E3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C7D8DF-A757-428F-AEF8-8C95E1245A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war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include combat governed by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ll group of characters who exhibit growth; no factories to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r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ge group of identical units; factories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4A6C2-9A9D-484B-B542-8BBD0EA460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921AC3-DB9B-4681-A320-B5F1BB0ABB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 becoming more common in hybri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such as buying and selling as well as conversations with other charac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zzles more sophisticated than in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are rar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C34D8-552C-472F-9693-46AF655D0E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180B15-38F9-4E1B-A899-F0A7CD0AE6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br>
              <a:rPr sz="4200"/>
            </a:b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have rich storylines, highly detailed characters, and 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-defined character; characters defined by numeric attributes that improve over time; complex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tar provided by the game; concentrate on a single character; puzzle challenges; no numeric attributes; personal growth; simple internal economy (or none at all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2C90F-1C34-4368-9893-272F0B2D012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DAF706-B184-44E2-97F5-C8C2E6FC6A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and combat make up a big part of most CRP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ing the world is an overused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find an alternativ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ng quest broken into epis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 challenge at the end of each epis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tional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8394A-18EC-4DBC-9CDE-093021E6BD9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D30B82-8D39-4F64-8D3C-02F78DC01A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9:38:35Z</dcterms:modified>
  <cp:revision>280</cp:revision>
  <dc:subject/>
  <dc:title>Fundamentals of Game Design, 2nd Edition - Ch 15</dc:title>
</cp:coreProperties>
</file>