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2355-C90A-416E-92DF-8620A42DF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505C-CB54-4B52-90FE-D3086E214BB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5D37-32B5-4B64-995A-1CA8CA8367B9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C339-0768-4999-A0D0-C8868466F0A0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E14A-1107-4976-9CE4-BE511F45074F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460C0-72BE-4829-92CC-03ACC727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ED294-3F34-4D0D-9DF5-CA0FD68C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9B2FE-650E-4AA7-B042-99EC2977C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85C17-85D3-4991-AE02-0EAAC1F73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C538-893F-40B5-9ABC-D209E408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C65E-6940-413D-A9FB-7A455999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058D-697D-48B0-86D7-6BCA3C00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8058-DFDF-4FBB-835A-DC4E3482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34E8-79F4-4309-8D1A-42BF21A4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7616-DDA9-4F1A-9DFE-6CC7AAED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7689-4BEB-416E-8664-934A8F0F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EC19B-A388-4AD0-9C4E-35FD1D5A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261E-15E2-484F-9764-32A04943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9EC6-1322-4032-8040-8BE8FCE5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D8E0-DB9B-4108-BC44-F01EB815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81C5-83D2-47B5-9C93-A6C26380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30D9-E50F-4AE7-A981-FC02918EF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F574F-D9AB-47F3-AD80-6AD85781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04922-075C-4791-8405-FB15E971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6819E-E0D4-4E83-BCE4-2E4D0224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2FBF4-C745-49B0-A17A-AB032EE2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EF297-FCF2-4A35-B6AB-69266046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A3D67-5E66-426B-AF85-4365070C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820DE-A22F-41D0-A424-3BA5860C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9 Adventur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D7B9-80E9-4BCA-BDDE-22752D57A04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2638-B731-4665-8F52-DB53C0CA5B2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315C-81DD-4BCA-9A0A-943386CD6A1F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9: Adventur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eeps the avatar 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mon in action-adventure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st games allow the player to move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8B8E2-25D4-4B71-97A3-96D25904AC7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F4C966-2292-4E53-884E-C29320844F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 of the player comes from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dventure games treat the story as a journe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relationship between locations in the world and parts of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became more linear in action-adven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550C8-CB3C-4AD7-B65C-3046B9587E8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F9CE52-EE0A-4E16-92B8-D889B2F655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rises from an unresolved situation or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dramatic tension, start by presenting the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resolution of dramatic tension occurs at the dramatic climax, usually near the end of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can have several different dramatic climaxes for intermediate problems until the final climax solves the final problem and ends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11962-5C14-401C-98E1-FEFABB5EA14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3FAF96-8A6B-4128-824F-0584916979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heroic qu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majority of adventure games are heroic quests: a mission by an individual to accomplish a great fe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iggest climax should be the last major climax in the game because anything that follows seem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uld be periods of quiet to rest and he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9ED7E-FE05-4A6D-B369-31A86D6A2B6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922E9C-9E28-438E-BC3A-916CCB43C3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roblem of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genres (RPGs, combat flight simulators) death is accepted and players know what is likely to cause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dventure games it is less cle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adventure games adopt a fair warning approach, making it clear when something is dangerous and usually offering a way to neutralize the da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n autosave feature to save the game at intervals so the player can restore it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71102-912B-4C94-9E03-614021EB74C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45AD44-50D7-44E0-B457-7FCE36D90D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Shape 26630"/>
          <p:cNvSpPr/>
          <p:nvPr/>
        </p:nvSpPr>
        <p:spPr>
          <a:xfrm>
            <a:off x="45720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nding keys to locked door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guring out mysterious machin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taining inaccessible object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ipulating people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avigating maz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Shape 26631"/>
          <p:cNvSpPr/>
          <p:nvPr/>
        </p:nvSpPr>
        <p:spPr>
          <a:xfrm>
            <a:off x="464832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coding cryptic messag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lving memorization puzzl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llecting thing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oing detective work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nderstanding social problem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Rectangle 26632"/>
          <p:cNvSpPr/>
          <p:nvPr/>
        </p:nvSpPr>
        <p:spPr>
          <a:xfrm>
            <a:off x="457200" y="1600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hallenges are conceptual: puzzles that can only be solved by lateral thinking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include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F0FCB-5212-4C18-92E8-E28DBDBAE39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38F3C9-010C-452A-90D8-E781C926EB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sations with nonplayer characters (NPC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 NPC’s conversation is defined by the NPC’s role, such as blacksmith or tra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games try to sidestep the problem of conversation by setting games in underpopulate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ripted conversations became stand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C50AC-4B27-4958-8BE8-64BB6B14AFA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CDF86C-126B-45D6-A063-018DD77A0E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p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ics provide cues to location and how that location relates to other areas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pp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p fills in as the player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see the map at any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compass as well if appropri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tomatic journal keeping is comm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DFDA9-BB3D-42A5-ABDE-54083467A99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F44642-FCDA-4C7B-879A-ACDCFC773C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ew things to avo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solvable only by trial and err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requiring outside knowled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-the-right-pixel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backward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FedEx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656CB-B571-4E3F-BCF9-2AF175D20F3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8EAD7B-E999-47B9-BD08-023ECCE8CC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mov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ment interface depends on the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perspective uses point-and-click or direct control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int-and-click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 contro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yer steers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both walk and run 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650ED-B5C3-4A5D-A3BF-2A3F52BEB64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1803E2-A883-4892-8662-222941E247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n adventure game and the common game features of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character and story in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t interaction models and perspectives common to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puzzles and inventory in designing an adventur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61F60-79C8-47B3-B031-38EF44875D3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5216A0-15CC-49DA-9AB1-FE3E4934DA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ying activ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nt and cli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ynamical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cus-of-attention highlight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8324A-8674-49F5-844B-D32B6F2621D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80CD52-D573-415D-BAB2-10A61F59CB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button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troller button or mouse click correctly manipulates the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u-driven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nu gives player the available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right-click an object to see a pop-up menu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4AEE9-5FEE-4E10-BC5F-A752330693A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88BC32-D777-42D7-8DEE-04CCDC4960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ing inven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games limit the amount that can be carri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isible inventory mechanism like a backpack or box is comm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inventory management eas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and close inventory with a single click or shortcut ke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AD5AD-9758-449C-887A-942B1F1083F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D258EA-A28D-4C3E-A685-F1F59F969A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importance of character and story in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t interaction models and perspectives common to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puzzles and inventory in designing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F0D61-FDD7-441C-A0D8-104E025E85B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2045A7-0035-429F-8A89-58F3992FAB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dventur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ve story about a protagoni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and exploration are essentia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 and conceptual challenges form the majority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bat, economic management, and action challenges are reduced or nonexis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9D2CF-E5F1-4052-B2AD-341CE3F77D7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B838AA-426A-4222-A763-88E84E17A3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al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dven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was a text-onl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o give the player a credible illusion of freedo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hat spoke to players like a person rather than a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1766C-2D26-4D2E-89AD-BCC217D66DC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22C321-4EBB-44E1-9771-905D1F8060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rowth of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popular in the early days of personal compu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ving no graphics made games inexpensive to develop and allowed scope for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ers added graphics when the technology became avail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D18E4-0E96-4623-B0EE-AB5B9D2D5D8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4BC9C7-905C-40FF-9DC9-C94E50FB7B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enture games tod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rket for adventure games has grown less steadily than the market for other 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ment of 3D hardware improved graphics in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-adventure games develo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s hybrid is now more popular than action or adventu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ive solutions improves replay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never 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C6680-9F87-41D2-9237-C6C1BB3FE71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22B527-D9CE-423D-8F1E-51485033E7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 and emotional ton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ting contributes more to the entertainment value of an adventure game than settings in any other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move slowly, which gives designers the chance to create a world with a distinct emotional t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F3454-91C7-4E62-B2AF-F4F584DA005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F5CC62-651E-4526-A037-7B7495A345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ways uses an avatar-based interaction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rly games used nonspecific avatar, but now avatar possesses his own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approach is tradition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 and first-person games are becoming increasingly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E9CDE-1873-4EC6-AACF-36A268CD679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4D87D0-7E3B-4F6C-A66A-E08B9D31BD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 is shown from the camera angle most appropriate for her current location in the gam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s the designer play cinematographer, using camera angles, composition, and lighting to enhance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ourages a more action-oriented approach to play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ewer opportunities for visual dram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5E0FB-0EA5-4671-A27C-13BB31C8C1B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B32653-008D-415E-A5B2-B28685BBB3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9:40:29Z</dcterms:modified>
  <cp:revision>423</cp:revision>
  <dc:subject/>
  <dc:title>Fundamentals of Game Design, 2nd Edition - Ch 19</dc:title>
</cp:coreProperties>
</file>