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A9C4F-D152-4946-9825-A6CDCCBA46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82E80-D4C6-4025-BFCE-CA0A0E8F8095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-value variabl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rack a character’s degree of happiness or unhappiness and a set of needs that the simulated character desires to fulfi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hap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BEC1D-3CD9-402E-AB92-23FE719ECAAA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29A52-E530-4C6A-886E-9CC92AD92076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DDD1D-483D-4927-A638-9E2637489982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8C029-253C-4174-8581-C37FC28E0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061CE-9993-4B1E-B9F4-2DACD53B5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4D615-99EE-482F-BD69-119BCE53F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BB0E7-7309-48A0-9BC3-96DC9927A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90F4D-684F-4951-9807-24FB8DA3A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33125-52A2-4B4E-A933-1E5C97F9F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FA990-D4D5-4DA7-9CA0-1C5D6976D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1FE12-C98E-48D7-88DB-D0C4D1201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050D2-43A9-4471-BDF6-398F36B1C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2A807-9379-4FAB-AF29-9E79C67A3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3A059-5424-4451-8428-87283A96B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3208C-118B-420F-B981-09B7B9B19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463C8-91D4-4BC4-AFD5-3F8A3E3C1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4E7C3-B3B9-4649-BB2A-FE11E6205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B82F7-00C8-4368-81A6-C747BF719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D61B8-35DF-46D5-8E65-FA56E50B9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64BEA-D6DF-48C3-809C-BF1766D15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52E45-D30B-4B0F-A4E3-4C5A5CF8D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6F12E-17AA-488F-BD63-7B591BCF3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83D8F-2600-4DC9-A135-FA4D5E791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AA769-8A56-43C5-869C-FEB31CA3C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47243-7D41-4327-AD6A-8837270BB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1406B-A218-4500-8AFB-4AADC91B5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DAE0A-DD56-43D8-ACBE-A1CE5E6AF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984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8 Construction and Management Sim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85DF8-125A-4455-8314-73320305D34F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56151-01EB-4851-8F1E-A8A12AFC244C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8B113-A264-4BCD-8207-2A83C8C6DE85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8: Construction and Management Simulation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gle-player unless it’s a hybri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ing individual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CMSs model behavior statistically for the whole group and do not simulate individu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ling individuals is more difficul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a behavioral model for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a variable to track their happine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ase happiness on player’s skill at meeting their nee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tistics can be computed from all the individu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A4915-D1A2-4B69-AF14-27F8D13154C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DC1E214-8E55-4417-B4E5-A961713DF40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ind reading enables the player to see an individual’s needs and fulfillment statu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vis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lerts about local probl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ify the player of general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a threshold level at which the advisor will appe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s to turn off the advisor to add to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AD9FF-5DA6-41B8-8337-7CB3E4AE9F18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4D0A591-05CB-423F-9151-7CE5F36249A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re business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construct financial fortunes, not visible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vise an economy and mechanisms for manipulating 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l challenge is to make the subject visually interes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runaway profits by controlling when and how a player can buy and se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C83A9-5E39-47A3-AFE1-836773C7CE4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D45857E-5B21-42D3-8854-2B7281DD926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ybri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fer economic, exploration, and conflict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the economic aspects before adding other elem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ther elements usually depend on the econom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mistake in the economy can ruin other parts of the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3A6A5-B699-496A-B507-27E1A924018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8900159-7DC1-42D2-87F2-779C5D7EC96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imary resou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Usually m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ey and peop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uilding materi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angible entities in plan-and-build mechan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tangible or not a resource in purchase-and-place mechan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1EFB8-6E4E-422A-9FE3-84660354D0C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5B43595-1550-438F-B23E-2B98168820A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construction converter changes labor, money, and materials into build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ains and maintena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in permanently removes a resour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cay is the usual dr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tenance can be automa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asters force players to a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BA925-5770-4330-A310-2CD921EA297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39C19A5-211C-478C-AAF7-4B0C3160BF3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ed physical space, usually outdo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erial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ten set in 2D or 2.5D worl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re business simulations might not require a physical sett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24DB4-32BF-44C0-8F0E-59E4AED92B8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0D1C617-C8B7-4225-8026-882B19D263D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s usually multipres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lkthrough mode allows players to see the world in first-person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ometric perspective is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environments allow players to zoom in and out, see a broad overview, or focus on a local probl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B1A14-58A2-4EC2-9E59-1608EF2A40B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5DED648-9B7E-4124-A71B-245DD06A99F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erface can be more like standard computer softw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play important scalar variab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aph can show values over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ctor variables describe related data, such as the amount of water available in different loc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1AA95-55E2-42DE-B649-BD3C8C4551E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C3C0D1D-5141-4419-B8EA-938E914A149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construction and management simulatio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differences between plan-and-build and purchase-and-place gameplay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the basic gameplay modes and artificial behaviors common to this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52E3D-1ED2-4CB1-863A-C93F65699D4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09AE987-A6D6-4877-94B0-47C78C4518A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a construction and management simul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ces between plan-and-build and purchase-and-place gameplay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basic gameplay modes and artificial behaviors common to this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99413-5425-4341-9CBD-D12DE8AF94F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101D802-A385-4C55-B30E-A30880336B0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issues facing a designer for user interface for this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the core mechanics of economies, construction, and manag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D6148-3B96-42EA-ABBC-8FC198CDCB3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0D574A1-67F4-4731-BC78-27B4A0F1A17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issues facing a designer for user interface for this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core mechanics of economies, construction, and manage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6DA8E-664C-4855-B4B3-A064C6F8F0C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9CEF864-B477-4421-B660-1E19A040E96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Construction and Management Simulations?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majority of challenges are economic, concerned with grow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truction activity is an essential element of any CM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ttern recognition and exploration challenges may also be pres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MSs avoid physical challenges, as well as conflict challenges, unless they are hybrids with another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977A6-4C0D-47B5-9DDE-268FEFADA01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93D8F0D-0F48-4A32-A817-75B94C2EC06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’s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’s not easy to define the player’s role because that role seldom corresponds to an actual activity in real lif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desire to create is in the heart of a CMS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53B55-CA23-4A7A-B2BF-F106F8583BD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263E9DF-F7E8-4C89-BBB4-3287BCB8CD4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 levels or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begin with an empty space for players to start in from scratch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ten have no victory condition, only lo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also offer different scenarios for player to t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enarios are partially built when player starts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enarios may have victory conditions as well as loss condi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29222-0322-48F2-8A31-43937E7FDF5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2F94395-EEF3-44A5-A36B-375A1562F4A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ity of CMSs are games of indirect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game simulates a process that the player can alter only in limited way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owever, some actions, such as changing prices, use direct contr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most CMSs, actual act of construction is not a challen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llenge is in obtaining resources needed for constru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C2FA8-C335-4564-BDA9-0F9D83F6291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11497B3-0F5F-4472-940D-698A399BB64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rchase-and-place construction mechan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buys an object and places 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t is immediately ready for us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can build objects quick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sources used immediate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n-and-build construction mechan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alternates between building and manag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plans where to build, the computer then buil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bject not ready for use until construction is complet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builds objects slow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must manage the resource flo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81CED-06BB-49C0-85DF-0FDD3F5A6A4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4AF90C6-804E-4C61-ABDF-23B600F1318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mol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s to demolish constructed ite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t the cost for demol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and loss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CMSs do not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ss condition is bankruptc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scenarios can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385BE-8369-433C-B809-B25E3CCCA36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DE35F8C-AA25-430C-B3E4-2ED1001248E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4:10:02Z</dcterms:modified>
  <cp:revision>420</cp:revision>
  <dc:subject/>
  <dc:title>Fundamentals of Game Design, 2nd Edition - Ch 18</dc:title>
</cp:coreProperties>
</file>