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F2FE-57B2-48AD-B406-7036D8487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7242-E3A9-4976-B82D-E6F84BB228CE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E388-4E7C-4828-BE72-FAF332E4A66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76079-9B39-4AE2-9675-DC62E02D5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AE80D-F52A-4EDC-9B8C-48B77E11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DAD3B-3CE8-45AE-B40A-464930E4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19AA5-2A11-499A-9867-96DD5E49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1232-BC8E-4530-BB8D-B8ED657C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FDD1-BC43-40F2-984C-F3A1074F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46BF-01E7-4CC8-83BD-20C8695F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44FB-E67E-467A-8728-DF13EF0C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ADD8-E2A9-4EBB-8C48-16BDB911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8746-0BDF-4C70-B2B9-9C201B31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EFE9-C3E5-4B4E-9F0C-DFFDBF40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381B5-42C1-4858-8DE3-A2D85F11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BD9C-C66B-43E0-8E63-185A6556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BD7C-D2F5-4069-92FE-F9DD30E1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5585-D142-458B-B881-2CC6641E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B5D8-09A2-4462-8E66-BFF0A417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C352-BC8D-4266-8913-5545E2DFF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D88B6-0B87-4DFA-86AF-65F26972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43B60-8789-493B-A33B-535791DF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CF031-5512-40B7-81B1-0535C20B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8C8C4-77E3-465A-8208-DB869349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BBAE1-761E-418D-9101-05B3EC68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68852-7974-40B9-8BB2-C7346D23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F8F74-2CA6-4610-87E2-8733A4D4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375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0  Artificial Life and Puzzl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E850-B422-4AF0-BB36-171D2DD1F790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4161-6341-4E35-91E9-F9F14DC76EF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7854-36A0-42F7-87FB-642AA29C495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0: Artificial Life and Puzzl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a god with limited powers who gets more power from simulated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mnipresent interaction model and an aerial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often share qualities with CMS (indirect control of population) and real-time strategy (compete directly against a rival god)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1DE2E-D0B3-4144-BF34-0A179886246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87A96C-D68F-4ADB-8A92-79A34429EB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conomy of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’s power (mana) grows with the number and prosperity of his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ze of the population influences the maximum amount of mana the player may have and the rate at which mana is restored when it is below maximu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sitive feedback can be limited in various way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eople do not reproduce instantaneous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king land suitable for population growth costs man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a cost of using higher-level powers rises exponential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8F318-8E83-4F19-B11A-562B9093A20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044B33-E880-446C-BDD2-BE66527CCC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n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mary challenge is to produce population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 must also damage the other god’s worshippers and repair the damage the rival god does to the player’s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design a god game, start with the question of what powers you would like the go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d game needs a lot of interesting animations for the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6132F-9D83-4854-A22C-104DABAD483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6DADE2-EE8B-49A8-B96E-EAF80E0D4B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about managing a population over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tries to achieve goals for the whol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concentrate too much on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 geno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enome defines the creatures’ inheritable characteristics such as eye color, hair color, height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eles are traits inherited from each pa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f parents have different traits, usually one win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rown eye allele dominates blue eye alle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94F3F-D5B9-4E04-95A4-660D265D87D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3916AE-B804-4661-B02F-0FEE685EEF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nge to the gene caused by an environmental fact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tations may benefit the population by introducing random new values into the gene po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fe span, maturity, and natural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creature needs a natural life spa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evolve through natural selection, creatures must have a time of immaturity before they can reprodu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enetic mutations that cause death in children do not get passed on because children do not reprodu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FCD77-F6FB-4239-9B62-4444062F37C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EA796C-3AB8-4399-AC4B-BF85047F05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does the player do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new individuals and add them to the population to see how their genes influence th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d and remove environmental hazards that would weed out certain ge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with the rate and nature of mutation by adding or modifying mutagenic objects or areas of the environm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te individuals to select for particular character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DC6ED-7A2C-4F90-A67F-9234392C03F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428B48-F29E-4FE4-B01C-413B701905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uzzle games, puzzle solving is the primar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s usually provide related challenges, variations on a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types of puzzles offered include pattern recognition, logic, or understanding a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zzles give the player clues that have to be solved to meet the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EB2E0-504C-47FA-A9BF-534A55F4B72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D9D1EC-F793-4D77-B27A-B2E6AEE845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inspi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construction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he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ise a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y attention to pres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59876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ott Kim’s eight steps in puzzle game design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4A3D7-4015-489D-91E7-1E498C81C28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BB581B-F449-418F-A576-9DC2F15587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at computers bring to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nonphysical or awkward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omputation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forc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player moves and undo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ucture the exper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bells and whis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onlin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41943-8359-4D1A-B1A1-8B9212F5F97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34DC34-2EC8-4981-8C9E-99ECF78097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ecking the victory cond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 to the solution might be different than you plan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eck the solution, not the way it was reach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38669-CDA7-4E36-8817-97D3744D94E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22655F-9F34-4C82-AF39-398D7AE1D8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forms of artificial life games and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basic artificial life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steps to designing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player’s needs for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1D5F9-236E-454C-9EAA-DEA5B929733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7261E2-81CB-41B8-A4C3-D65AC3778E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rtificial life game and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basic artificial life sys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steps to designing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player’s needs for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A5600-AECA-4C66-8736-0C7815C93AE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E1926D-1831-4036-A422-F8EE443AF3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life is a branch of computer science re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nvolves modeling biological proc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s the study of emergent properti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unanticipated qualities or behaviors that arise out of the interactions of complex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-life games typically focus on maintaining and growing a manageable population of organis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C1E63-2D01-4997-9AF1-2612295CAC0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A8F2B0-1671-4084-9935-5512267761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simulations or fantasy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cute; seldom reproduce or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ncentrates on training, maintenance, and watching the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needs a lot of AI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ety of triggers and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w the pet's emotions through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EF813-FBA6-4F11-B225-6B19F72AFA4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E442FB-4CC6-411C-99B9-51474B9966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fluences pet's emotions through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should interact meaningfully with other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must be able to lea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 AI distinguishes artificial pets from other A-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pet is a software to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93E1E-6596-49B2-BDD4-E32C9128CC6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69A38B-4A2D-4481-AEE9-591DD950C0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sims physically and indirectly affects their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sim has a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ss between an artificial pet and a C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has an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4D79D-04D9-415B-85F1-562652F3030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AD6E3C-56F4-4D93-9173-91573878624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im has six needs that must be met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s drive the sims'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-based AI is the heart of most simple behavior simul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(in the first edition) have six skills they can impro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teach themselves skil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management is critic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79538-8CD3-4FE2-A42F-C91150A67E5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512DC6-0A35-4FA3-B426-9CD673D2992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 tries to simulate relationships among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ables define each sim's personality and how they react to each oth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ccess of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based on the unprecedented scope for creativity it offers and its emphasis on interpersonal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70FCE-C188-4733-996B-153666FD4A8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555FCC-7087-4711-811F-9226C1BD1E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ing affinity between two characte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I Can’t Stand” Rule – A character cannot stand another character who has an attribute above a certain thresho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rds of a Feather” Rule – Characters with high levels of one attribute are attracted to others with a high level of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posite Attract” Rule – Characters with high levels of one attribute are attracted to others with a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lue for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9DC8C-DE66-45DA-B43D-A6B159C77DA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EAC5C0-C2BB-4F0E-9CD4-9E04D084F0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3:24:51Z</dcterms:modified>
  <cp:revision>528</cp:revision>
  <dc:subject/>
  <dc:title>Fundamentals of Game Design, 2nd Edition - Ch 20</dc:title>
</cp:coreProperties>
</file>