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C9AE-8146-4ACB-A73B-FC7936DAC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ities resemble data structures in programming, but designers should not concern themselves with coding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FC339-08B3-477E-B0DC-0B6074943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D7526-34FD-437D-88FE-814E05D5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0A52C-4577-4B60-9A36-E2D389E4B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70536-3E5A-465D-A8B2-6E09B9FEC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3841-AEE9-40DB-8BE9-08722290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1864-B92A-4A15-BC2B-7232B0D2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646F-1354-472C-996C-EE40BEED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4FE5-F742-45E5-902C-64E3E779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AE58-0D38-4C37-9C1C-FFF04199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453A-C787-49BB-8068-5CD9FC58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F323-7763-4085-8C7B-9EC35461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7237C-0F82-4D97-B8D3-0158AEA8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1F25-CCB0-4018-A141-47C3393B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6AAA-92D5-4A32-A05A-7C84CBC0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1236-DC17-404F-81E4-146C5A69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C60F-5111-4929-A67A-077C01DD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42F2-74D1-4A26-80ED-7CD429B0E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320DE-D01D-4C89-A3A8-3C1D6A3F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F9AC0-8849-4A44-AC0A-131480D7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649B5-B29E-41F8-AD40-EBA7F179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15D3B-2375-44AC-9E11-09D72A0A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D9C83-7119-4225-8DB4-718E12E8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FC75D-922E-411B-8CE5-68E65D74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C6C18-AEF2-4727-9D00-0A17A2F4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0 Core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4A47-A7FD-460F-BA6F-32667B985FEE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1145-8AB4-4587-AA23-6DC746E5A846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AB8A-1E6E-48EE-8476-2E1097F1B4C7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0: Core Mechanic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umeric and symbolic relationship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umeric relationship between entities is defined in terms of numbers and arithmetic opera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lues of symbolic entities can’t be added or manipulated mathematical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must define how symbolic entities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ymbolic entities can control mathematical operations on other numeric ent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C9A4C-33B5-4EFE-B02E-1743635B052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D7CF02-124B-4157-BDA2-A10AD954D9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tity Exam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7925040" cy="46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F721D-4052-4F1D-A3F1-B814E194F29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781093-35EF-4506-BCA3-F4C2F7B5ED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our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a mechanic that defines the way that a resource or entity comes into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Go” square in Monopoly is a source that produces money according to certain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produce resources automatically or when started by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limited or un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67B6C-B14D-43A5-B681-E6556B49A99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C61315-019C-4318-B08E-47BC52A8B1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remove resources from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ters turn a resource into a different type of resour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ers change the ownership of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duction mechanisms make a resource available to play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D1D67-60F6-4A76-A760-BE20BFD97A9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1F297D-300B-4C65-8FCF-852EA9A98A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 can be tangible or intang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ngible resources possess physical prope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angible resources do not occupy space or require transpor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feedback loop, a production mechanism requires some of the resource that the mechanism itself produ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problem unless the system runs out of the resourc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is produces deadlo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2130F-0533-4A46-B636-F6FBFC78046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9B01B9-630C-4CC1-98E2-A5BCA4F449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production mechanisms that require each other’s output as inputs are mutually depend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static equilibrium, the amount of resources produced and consumed remains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ynamic equilibrium, the amount of resources produced and consumed fluctuates cycl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FABAA-EFFD-462D-84CC-D328C107D5F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E5E974-8ABA-4D8A-84C5-255A971013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present challenges to the player and accept actions from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implement the mechanisms to operat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perform tests to see if a challenge has been surmounte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ive challenges (such as static obstacles) do not require mechanics to ope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ve challenges require mechanics that implement their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D5157-0991-481C-BE20-0A0E39E5C10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51C770-3EDC-43B9-AF15-004E16EDBB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and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available to a player normally do not change much from level to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ions trigger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icated actions may involve manipulation or storage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his case you must create both an event mechanic that implements the action and an entity that stores the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7CDE4-D972-4137-813B-47A5DFB3F93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4F32A6-666D-4AA4-8448-6EDB2F007D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s of core mechanics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simple and eleg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generalized systems from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terative refin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y to get everything perfect on pap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, test it, and refine the resul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cuss with programmers the level of detail they need in your docum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F9880-9DDB-4E7B-932D-194468A08F8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7768A7-275B-4313-8C9E-FC4FFBD6AA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visit earlier design work on the project to identify entities and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uns in design documents will probably be implemented as entities or resources or bo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bs are actions that will be implemented as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” and “when” statements identify conditions that trigger and contro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AD9E6-296C-4663-81C7-8EFF7F236F4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425D4C-04BC-4033-A565-F39FEBBF4D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functions of the core mechanics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components—resources, entities, attributes, and mechanics—that define how a game wor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 game’s internal economy controls the way resources and entities are produced, consumed, and exchanged by sources, drains, converters, and trad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E954C-1B82-4D80-8FC2-D3DA8CE434F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77E774-0E4A-4CF4-8165-6D9F7182B6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entities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es a noun describe a resource or an entity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n entity, is the entity simple or compoun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 compound entity, what attributes describe i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8D70A-D5F8-46EE-8D6F-8218BEC382D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7D1979-7870-47E7-B882-A814653E16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 th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member that mechanics consist of relationships, events, processes, and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nk about your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udy your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lyze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for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EA3D0-2C54-402C-9413-BD907D9CCE5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AA9152-5785-46CE-B1E1-10C4E0D1CB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pseudo-random numbers, a seed generates the sequence of random numbers produced by the algorith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uniform distribution, the chance of getting any number equals the chance of getting any other numb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metimes you want certain events to be rare and others to be common – for this us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non-uniform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tributions of random numb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82194-B572-4938-93B3-D2680933DAC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2AD87D-270C-47E2-8185-540BDB228A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generate non-uniform random numbers, generate multiple uniform ones and add them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ing 3 six-sided dice produces non-uniform values between 3 and 18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10 and 11 are common, but 3 and 18 are very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ing nonuniform distribution creates a Gaussian cur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128AE-AA18-4A5E-B1DF-E33DB8BB598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100CE3-E1A6-4BE2-8CE1-0F9F3B329E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onte Carlo Simul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means of testing a complex mechanic to see how it performs in different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 your mechanic hundreds or thousands of times with different random values in the entities it works wi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alyze the results to see if the mechanic is performing the way you expe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ten you can do this in a spreadshe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6A74F-5B94-43D5-971F-6011EE1D127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80D2E9-04F4-40CC-A9A8-091C91D578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resources, entities, and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affect game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vert your early design into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generate 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use of Monte Carlo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D7C2C-B57D-4DE0-935D-373A65BD622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5774E4-2069-46A7-9DFC-34EB1D4BF2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the core mechanics implement both challenges and player actions to manag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design the core mechanics of a game by writing specifications to document the entities and the functioning of the mechanic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random numbers in a game, and test with Monte Carlo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9E01E-75D9-432E-AEB0-F597B3FF7FC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17E528-3504-47C8-BF7D-11AC5BA1C9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consist of algorithms and data that precisely define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ation of mechanics varies as project goes through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does not experience core mechanics direc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ame engine is the part of the software that implements the game’s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12BA7-6139-4C72-9008-6AF11D55C7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29C92F-A850-4F2F-B418-4A4DF0C986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s of the core mechanics in ope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 activ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pt player’s actions and determine their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ct victory, loss, and the termination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AI of  nonplayer character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witch the game from mode to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mit triggers to the storytelling eng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CD481-DB5E-4138-9274-13884340BE8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5751D7-ADBC-43CE-B86B-E9F4CBA7EB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games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real-time game, many mechanics are processes that operate continuous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turn-based game, mechanics compute the effects of the player’s actions after each tu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level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should specify how challenges work in general but not which challenges each level will con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0456F-AE00-41FE-A96E-2788CC52E1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B85E98-D6E6-4967-9D96-38F0C1FDAA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resource is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yp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of object or material that can move or exchange within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ources are handled as numeric qua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define how resources are used or traded and how they enter and le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e: resources are not objects but types of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cils” are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pencil” or “these 3 pencils” ar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entiti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7506F-D188-4797-B064-538AE7EEA74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336E11-085E-46D0-87E4-DE9073BEC1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entity is an instance of a resource or the state of some element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simple entity is defined by one dat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.g. Points scored in a basketball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ompound entity is defined by multiple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character in a role-playing game has many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unique entity occurs when the game world contains only one entity of a specific 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football in a football game is a unique entity – there is only ever one in play. It is compound because it has several attributes: position, velocity, and sp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FC4CE-0A6B-48B0-9778-DC528C90EBE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6B2C37-5770-4708-8995-3E6D746ED0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chanics document how the game world and everything in it beha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es the relationships among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lobal mechanic operates throughout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ies the events and processes that take place among the resources and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ck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condi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at trigger events and process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21775-E0A7-4763-8162-9F1D5770C42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EAE424-A731-4B37-ACA2-7F450FB8CC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8:33Z</dcterms:modified>
  <cp:revision>197</cp:revision>
  <dc:subject/>
  <dc:title>Fundamentals of Game Design, 2nd Edition - Ch 10</dc:title>
</cp:coreProperties>
</file>