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46E8-356C-4B33-89FA-C81F140D4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ccurs when the player’s abilities balance the challe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 from Chapter 9: Intrinsic skill needed to overcome challenge + stress = absolute difficul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graphs in Figure 11.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C7252-56E5-4601-9B38-007EB0926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25F24-CA76-4D40-BC50-D057C3CA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5FF70-B5FA-4326-A406-E2909552B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3993F-97DD-4CB2-8B12-A56D14714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1688-9488-4601-B673-10DC77F7F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DC83-50D4-4076-9C94-CD651993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78F1-714B-45ED-8C51-20FBBE7B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10A7-7FB3-467A-9344-F0C85404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927A-A700-4AFE-BB3D-AE5737D4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F663-45C8-414E-85F5-8A2FF219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2F86-3517-4736-9E47-C17626B9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1D5FC-F7F3-4FB7-B456-F975A19F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A9AA-E8B3-4103-9018-6B75AAC1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1FC8-B663-4E75-97C8-94D1EB00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0FC4-0B78-4930-8CD5-F8AE2309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016D-2620-422C-90A3-C319FA7F1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19F5-6018-4BC9-A26B-32CF449D7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2E764-68F3-45C6-9139-1E10A4CA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F278B-C15B-4356-B63C-848865F7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254C0-6AE9-49D1-9265-5F06621E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99431-CF5B-4D45-AB47-268BCFAC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780A4-5FA2-43E8-897B-7AE716FA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E499B-514E-45B5-BFB1-3FA213FB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AFF08-6FC7-4922-8A81-DB536A98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1 Game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ED4C-01F5-463D-BD4E-9C91C0FD00D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0058-160B-46DD-8159-147C46A7C62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6D34-A0B4-46DC-94E2-7331772A3011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1: Game Balancing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ansitive relationships (rock-paper-scissor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beats B and B beats C, you can’t assume A beats C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ther, A beats B, B beats C, and C beats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PS model is simple but can be adjusted by modifying cor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thogonal unit differenti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kind of unit should be unlike the others in some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simply more or less powerful, but uniquely diffe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uarantees each kind of unit has a unique fun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FB35D-E5B8-4D36-924B-50983409905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9746A8-A731-418F-82E7-A3FC368B91B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PvE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ing fewer actions in a game risks creating exploi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that can beat any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oroughly to eliminate explo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37675-6FA6-465F-998B-E6CB313F1AC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203209-00DC-43B8-82E0-4CACBF450B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Role of Cha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chance plays a role, how to ensure the more skillful player wins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sparing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in frequent challenges with small risks and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how much to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11463-1EAF-421F-8097-F7DEC0F444F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6FD582-80DD-4407-89A1-2BD0B4183A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alance symmetric games, treat every player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me rules, resources,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ymmetric games are harder to bal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approach: give players identical quantities of materials or points when they sta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ints to build units as they wi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nts to adjust unit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udy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arcraft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 great asymmetric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4EA24-EE00-4796-A5D7-A2FFDF7C8C5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2B1132-022D-40C1-88FC-CA803AE541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e issues for persistent worl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istent worlds are never symmetric and always intrinsically unbalanc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w players need prot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rebalanced on the fly by patc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C717A-527A-4CAB-8DFE-330CBAF1755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1C699C-9318-4166-BE55-A22261C8C7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E Games Fai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air PvE game shou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challenges at a consistent level of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learn-by-dying desig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talem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information for critical deci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equiring extrinsic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hallenges appropriate for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220EA-DB55-4AA3-84D8-739C567EA35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CC7E24-7D64-433B-B3F0-75BCF977D7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ing a game includes managing the difficulty of its challenges to keep players within a flow stat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outside the designer’s contro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vious experience facing challenges similar to thos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ive talent such as hand-eye coordination and reasoning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requires cheats to be winnable is badly balanc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348E6-F18D-4748-8A71-8CB59972E90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377833-8EE1-4B30-8EFF-AFD2D989CB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es of difficul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re amounts of skill required and stress to that of a similar trivial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– difficulty relative to player’s power provided by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91440" indent="-3402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wer provided measures player’s strength by means appropriate to situation (e.g., weapon strength in shooters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= absolute difficulty </a:t>
            </a:r>
            <a:r>
              <a:rPr b="0" lang="en-US" sz="2600" spc="-1" strike="noStrike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(power provided + in-game experience)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650CB-59B8-4FD6-BBE8-0E434239541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869E89-4582-4270-880C-E2870BF725D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4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4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51160" y="1835280"/>
            <a:ext cx="4440240" cy="405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07749-B97C-448E-90CB-A6A3872E9E0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A47578-0D3E-463B-BA62-76EF9EDC9D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 difficulty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of challenges should stay the same or ri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games for casual players and young children, it should remain almost fl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must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rease over time to counteract the player’s growing in-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406A5-2D61-4894-9307-356CD02511F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D177AD-9EF2-4C2C-ABFE-6AAB07080A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qualities that characterize 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dominant strategy and discuss ways to avoid dominant strategies in player-versus-player and player-versus-environment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use the element of chance in a game so that player skill still ultimately determines the outcome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287F0-6CC3-4E2D-B5AD-86F2A9BCB52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89B26F-6CC8-4D21-BFAC-8D7731A773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stablishing difficulty mod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allow player to choose a difficult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difficulty mode is selected, challenges must stay within that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can’t adjust the difficulty of a challenge, provide a way around it for the easy mode and block the go-around route for the hard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EE4AC-9F6C-43FB-8917-14F75CA6F10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B20840-9925-4BDD-A502-0514505FCC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sitive feedback occurs when a player’s achievement changes the game state, making future achievements eas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nefits of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s a stalem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wards succ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3776760" cy="26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D2B44-AD59-4269-8402-D912AF8DA17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DC342F-DBA7-4DBB-8E4D-F9AA62B1AA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rolling positive feedback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give too much power as a rew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ga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ments have a cost as well as a benef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ise the absolute difficulty level of challenges as the player proc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collusion against the leader in PvP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victory as unrelated to the feedback cy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to reduce the size of the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D9E12-70CB-4BE6-9AC3-388C94308A8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4EDF89-62CC-4F95-ADF3-498BE6004B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Balance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stagn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gnation occurs when the player does not know what to do n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de clues in plain sight about how to proc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ave the game detect when the player is wandering aimlessly and provide nudges in the right dire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trivia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the computer handle uninteresting details of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6552B-DA15-4E80-A4B3-DEF1DDF63E8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9C2F70-0FED-4B61-81BE-F64C2AC8D8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to Make Tuning Eas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ize mechanics when poss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avoid creating special cas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parate code and dat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uggestions for efficient fine-tun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only one parameter at a ti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modifying parameters, make big adjustm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onsequences are easier to s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co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pseudo-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62231-A9EC-41E1-B22E-EB982B6AC72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E71324-AE45-41E8-BC1B-B786DA6227C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ai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dominant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trol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076FF-38F4-4C18-A4CF-71C5A65D823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BE824B-172E-45D7-ABC5-2E7F7A8AA1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symmetric and asymmetric player-versus-player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player-versus-environment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ypes of difficulty and explain ways to manage difficulty to maximize the player’s enjoyment of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02191-EE3D-4E1E-B5A1-D07D895707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89951F-0D3C-4CD1-B8F3-7F329CD4EC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phenomenon of positive feedback and discuss ways to control positive feedback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qualities of unbalanced games such as stagnation and triviality and explain how they can be avoid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design methods that can make fine-tuning easi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5D29C-CBDB-4623-BC76-7FF338508D7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D8A0A9-142F-40C7-B1A3-DEBCDBF73E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fair to the player(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neither too easy nor too h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s the skill of the player the most important factor in determining his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 of balance differs between PvP and Pv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8C2C7-EEF7-4B9D-A8A1-F8BC274EB9B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73EE32-B1EE-4C03-8BF8-BCB1737F5E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well-balanced PvP or PvE game has the following characteristic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 provides meaningful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 avoids dominant strateg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They will be explained later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rategy must have a reasonable chance of producing vic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’s skill must affect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 of chance should not be so great that player skill become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EB710-A4E7-46B1-9AF2-8EFBB86666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6665FB-20F3-4B58-A760-FD1D543BD6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perceive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player who falls behind should have opportunities to catch u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rarely ends in a stalem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perceives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tion of fairness is different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ussed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of difficulty must be consistent, without spikes or sharp dro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B42E3-3F0E-48EF-9A78-595EFCC607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610731-4432-403E-9105-320B7738FE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y is a strategy that reliably produces the best outcome a player may achieve, no matter what his opponent do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are undesirable because a player has no reason to use any other strategy once she has discovered the dominant strateg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A0EE9-1A48-4B4F-8342-B5DBB611A4C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3BFB45-B1F1-472C-ADA4-0692B736F39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itive relationships among three or more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&gt; B and B &gt; C, then A &gt; C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ver any reason to choose B or C if A is bes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orrect the imbalance, assign costs to each choi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a more interesting choice, impose shadow costs for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hadow costs are costs that are not immediately appar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itive relationships often used to create upgrades for a player’s abiliti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rt with C, then earn B, then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57F8C-CAC7-4043-9099-BE916815CC3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8BDFAC-7C94-476B-8801-D40AC73E03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04Z</dcterms:modified>
  <cp:revision>222</cp:revision>
  <dc:subject/>
  <dc:title>Fundamentals of Game Design, 2nd Edition - Ch 11</dc:title>
</cp:coreProperties>
</file>