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EA47-3FB7-4898-ADC6-3D8AE6A7E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77650-C81A-40B6-BEF8-53EB5708B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7AC1-6A23-452E-B733-912394B2B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0F1E-E2C9-4763-815C-A53AB7F87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B83A-2196-4A9B-9046-55626D6CA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4A76-AD47-4056-8E97-D5336CFC0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08CCA-D21C-43C4-9063-10E3F7972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293A-A569-44B5-B571-F5C82E6C8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C98F-6245-4B34-B878-83F2648A7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7004D-D826-4503-9E1F-0E82D56EB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8978-5140-4A69-ADCB-F63F17CF1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E9FE-B823-4A29-8DF2-9FCC4BDA3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9C456-6AA0-4174-946E-95448B6B908C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ole tekstowe 1"/>
          <p:cNvSpPr/>
          <p:nvPr/>
        </p:nvSpPr>
        <p:spPr>
          <a:xfrm>
            <a:off x="12600" y="127080"/>
            <a:ext cx="9525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Top 5 - Indeks Dow Jone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3880" y="1397160"/>
          <a:ext cx="6096240" cy="222552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a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bro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5-11-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997,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347,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 101,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5-10-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637,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098,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 902,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6-01-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 070,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607,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 362,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5-07-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754,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142,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 962,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4-01-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748,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 341,1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 722,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26T21:19:38Z</dcterms:created>
  <dc:creator>Helion</dc:creator>
  <dc:description/>
  <dc:language>en-US</dc:language>
  <cp:lastModifiedBy>Helion</cp:lastModifiedBy>
  <dcterms:modified xsi:type="dcterms:W3CDTF">2007-12-26T21:19:54Z</dcterms:modified>
  <cp:revision>1</cp:revision>
  <dc:subject/>
  <dc:title>Slajd 1</dc:title>
</cp:coreProperties>
</file>